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A10D-77A3-4112-8C08-7916302D7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991A-9021-47BC-95EA-586136491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4B69-39F4-4604-B004-20EC92A55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7AC7-A229-4B12-855B-74E155A29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DA43-E30A-455A-BF02-8D714CC88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3E62-467B-4235-A6D1-C7A070FBF5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7F0F-FA8B-43E5-BDFB-4869A5BD5D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F710-5811-4303-8528-35714359DF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0455-40F4-4AEE-84B5-0400CE1BA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2262-4E4C-4323-8B2B-99872199F4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44C0-82A5-4693-A318-782614519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42A8-34BF-4139-A78D-D37A5F58A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A92A-0172-4DF3-B024-31118648A8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6DF8-7F5C-4D45-9FA8-8BE00F3A2E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E659-0CB9-40A2-9417-046A456DB0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0FA7-8762-480F-9CB9-4DBB18017F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746880"/>
            <a:ext cx="784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ED21-653A-46F2-9865-B84AAB81C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4E15-6E87-41C9-8626-8ADF1451D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E444-34B9-4F67-9F74-A476E1AB8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38FD-4579-4702-B689-4CF6F84FF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FDBB-C2D0-41C1-B201-686270563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480E-8BBC-4282-9817-05F82777F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74688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712D-B29D-41F8-9D8E-9B1A1D470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746880"/>
            <a:ext cx="243828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E021-7DFF-4C42-A0D6-3B700B38C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39D-50D8-4AFA-AD0F-EF651A616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15200" y="640080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F206-1DB2-412E-98B7-C520D6D8A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4 - Advanced C Topic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701064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directing Input/Output on UNIX and DO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ariable-Length Argument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Command-Line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Notes on Compiling Multiple-Source-File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Termination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xi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texi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olatil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Type Qualifi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uffixes for Integer and Floating-Point Consta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re on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ignal Handl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Memory Allocation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llo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4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Unconditional Branch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goto</a:t>
            </a:r>
            <a:r>
              <a:rPr b="1" lang="en-US" sz="1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pe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pecify open type (read or writ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opy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6780960" cy="6248520"/>
            <a:chOff x="0" y="0"/>
            <a:chExt cx="6780960" cy="624852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6780960" cy="227520"/>
              <a:chOff x="0" y="0"/>
              <a:chExt cx="6780960" cy="2275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3: fig14_0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227520"/>
              <a:ext cx="6780960" cy="227520"/>
              <a:chOff x="0" y="227520"/>
              <a:chExt cx="6780960" cy="22752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227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227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command-line argument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455040"/>
              <a:ext cx="6780960" cy="227520"/>
              <a:chOff x="0" y="455040"/>
              <a:chExt cx="6780960" cy="22752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4550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550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682560"/>
              <a:ext cx="6780960" cy="227520"/>
              <a:chOff x="0" y="682560"/>
              <a:chExt cx="6780960" cy="2275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6825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6825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910080"/>
              <a:ext cx="6780960" cy="227520"/>
              <a:chOff x="0" y="910080"/>
              <a:chExt cx="6780960" cy="2275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910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910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g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gv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1137600"/>
              <a:ext cx="6780960" cy="227520"/>
              <a:chOff x="0" y="1137600"/>
              <a:chExt cx="6780960" cy="2275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1137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137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1365120"/>
              <a:ext cx="6780960" cy="227520"/>
              <a:chOff x="0" y="1365120"/>
              <a:chExt cx="6780960" cy="22752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1365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365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inFilePtr, *outFile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1592640"/>
              <a:ext cx="6780960" cy="227520"/>
              <a:chOff x="0" y="1592640"/>
              <a:chExt cx="6780960" cy="22752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592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592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1820160"/>
              <a:ext cx="6780960" cy="227520"/>
              <a:chOff x="0" y="1820160"/>
              <a:chExt cx="6780960" cy="22752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820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820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2047680"/>
              <a:ext cx="6780960" cy="227520"/>
              <a:chOff x="0" y="2047680"/>
              <a:chExt cx="6780960" cy="2275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2047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047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gc != 3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2275200"/>
              <a:ext cx="6780960" cy="227520"/>
              <a:chOff x="0" y="2275200"/>
              <a:chExt cx="6780960" cy="22752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275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275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Usage: copy infile outfile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2503080"/>
              <a:ext cx="6780960" cy="227520"/>
              <a:chOff x="0" y="2503080"/>
              <a:chExt cx="6780960" cy="22752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2503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5030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2730600"/>
              <a:ext cx="6780960" cy="227520"/>
              <a:chOff x="0" y="2730600"/>
              <a:chExt cx="6780960" cy="22752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2730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27306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inFilePtr = fopen( argv[ 1 ], "r" ) ) !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2958120"/>
              <a:ext cx="6780960" cy="227520"/>
              <a:chOff x="0" y="2958120"/>
              <a:chExt cx="6780960" cy="2275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2958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29581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3185640"/>
              <a:ext cx="6780960" cy="227520"/>
              <a:chOff x="0" y="3185640"/>
              <a:chExt cx="6780960" cy="22752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3185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31856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outFilePtr = fopen( argv[ 2 ], "w" ) ) !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3413160"/>
              <a:ext cx="6780960" cy="227520"/>
              <a:chOff x="0" y="3413160"/>
              <a:chExt cx="6780960" cy="22752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3413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3413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3640680"/>
              <a:ext cx="6780960" cy="227520"/>
              <a:chOff x="0" y="3640680"/>
              <a:chExt cx="6780960" cy="22752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3640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3640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 = fgetc( inFilePtr ) ) != EO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3868200"/>
              <a:ext cx="6780960" cy="227520"/>
              <a:chOff x="0" y="3868200"/>
              <a:chExt cx="6780960" cy="22752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38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38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fputc( c, outFile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4095720"/>
              <a:ext cx="6780960" cy="227520"/>
              <a:chOff x="0" y="4095720"/>
              <a:chExt cx="6780960" cy="22752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40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40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4323240"/>
              <a:ext cx="6780960" cy="227520"/>
              <a:chOff x="0" y="4323240"/>
              <a:chExt cx="6780960" cy="22752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4323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4323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4551120"/>
              <a:ext cx="6780960" cy="279720"/>
              <a:chOff x="0" y="4551120"/>
              <a:chExt cx="6780960" cy="27972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455112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455112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rintf( "File \"%s\" could not be opened\n", argv[ 2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4830840"/>
              <a:ext cx="6780960" cy="227520"/>
              <a:chOff x="0" y="4830840"/>
              <a:chExt cx="6780960" cy="22752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48308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8308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5058360"/>
              <a:ext cx="6780960" cy="227520"/>
              <a:chOff x="0" y="5058360"/>
              <a:chExt cx="6780960" cy="2275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5058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5058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5285880"/>
              <a:ext cx="6780960" cy="279720"/>
              <a:chOff x="0" y="5285880"/>
              <a:chExt cx="6780960" cy="27972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528588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5285880"/>
                <a:ext cx="6780960" cy="279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File \"%s\" could not be opened\n", argv[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5565960"/>
              <a:ext cx="6780960" cy="227520"/>
              <a:chOff x="0" y="5565960"/>
              <a:chExt cx="6780960" cy="22752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55659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55659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5793480"/>
              <a:ext cx="6780960" cy="227520"/>
              <a:chOff x="0" y="5793480"/>
              <a:chExt cx="6780960" cy="22752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5793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5793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6021000"/>
              <a:ext cx="6780960" cy="227520"/>
              <a:chOff x="0" y="6021000"/>
              <a:chExt cx="6780960" cy="2275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6021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6021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2895120" y="304920"/>
            <a:ext cx="3277080" cy="685800"/>
            <a:chOff x="2895120" y="304920"/>
            <a:chExt cx="3277080" cy="685800"/>
          </a:xfrm>
        </p:grpSpPr>
        <p:sp>
          <p:nvSpPr>
            <p:cNvPr id="313" name=""/>
            <p:cNvSpPr/>
            <p:nvPr/>
          </p:nvSpPr>
          <p:spPr>
            <a:xfrm>
              <a:off x="4191120" y="304920"/>
              <a:ext cx="19810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v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895120" y="609480"/>
              <a:ext cx="1295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200400" y="1600200"/>
            <a:ext cx="5334120" cy="1200240"/>
            <a:chOff x="3200400" y="1600200"/>
            <a:chExt cx="5334120" cy="1200240"/>
          </a:xfrm>
        </p:grpSpPr>
        <p:sp>
          <p:nvSpPr>
            <p:cNvPr id="316" name=""/>
            <p:cNvSpPr/>
            <p:nvPr/>
          </p:nvSpPr>
          <p:spPr>
            <a:xfrm>
              <a:off x="5867280" y="1600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v[1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second argument, and is being re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00400" y="1733400"/>
              <a:ext cx="26668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657600" y="1886040"/>
              <a:ext cx="2209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343040" y="2457360"/>
            <a:ext cx="3429360" cy="824040"/>
            <a:chOff x="4343040" y="2457360"/>
            <a:chExt cx="3429360" cy="824040"/>
          </a:xfrm>
        </p:grpSpPr>
        <p:sp>
          <p:nvSpPr>
            <p:cNvPr id="320" name=""/>
            <p:cNvSpPr/>
            <p:nvPr/>
          </p:nvSpPr>
          <p:spPr>
            <a:xfrm flipH="1">
              <a:off x="4343040" y="2761920"/>
              <a:ext cx="762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24573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v[2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third argument, and is being written 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114800" y="4038480"/>
            <a:ext cx="4419720" cy="1281240"/>
            <a:chOff x="4114800" y="4038480"/>
            <a:chExt cx="4419720" cy="1281240"/>
          </a:xfrm>
        </p:grpSpPr>
        <p:sp>
          <p:nvSpPr>
            <p:cNvPr id="323" name=""/>
            <p:cNvSpPr/>
            <p:nvPr/>
          </p:nvSpPr>
          <p:spPr>
            <a:xfrm>
              <a:off x="4114800" y="4495680"/>
              <a:ext cx="4419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op unti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 Of Fi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get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 character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File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put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t in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utFile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4648320" y="40384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 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with multiple source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must be in one file (cannot be split u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 accessible to functions in sam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variables must be defined in every file in which they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teg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Glob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 in on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use it in another file you must include th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int myGlob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that the variable is defined in anoth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s can be used in other files without an extern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prototype in each file that uses th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5   Notes on Compiling Multiple-Source-File Progr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that variables can only be used in the file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with multiple source fi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dious to compile everything if small changes have been made to only on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compile only the changed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dure varies on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6   Program Termination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exi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atexi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s a program to ter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mbolic consta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_SUC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_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n implementation-defin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 EXIT_SUCCESS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unctionToRu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ToR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ecute upon successful program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tself does not terminate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up to 32 functions (multip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exi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s called in reverse register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function cannot take arguments or return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Register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us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ex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User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33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4: fig14_0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the exit and atexit function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texit( print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register function pri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1 to terminate program with function exit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Enter 2 to terminate program normally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answ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nswer == 1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Terminating program with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"function exit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exit( EXIT_SUCCES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erminating program by reaching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 the end of main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xecuting function print at program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ermination\nProgram terminat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terminate program with function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terminate program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ating program with function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ecuting function print at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gram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95264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terminate program with function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terminate program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ating program by reaching the end of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ecuting function print at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gram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7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olatil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Type Qualifi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may be altered outsid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ot under control of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optim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uffixes for Integer and Floating-Point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rovides suffixes fo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74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67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451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integer constant is not suffixed type determined by first type capable of storing a value of that siz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 long 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floating point not suffixed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ore on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can process binary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ll systems support binary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s opened as text files if binary mode not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files should be used when rigorous speed, storage, and compatibility conditions demand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text files are prefer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ent portability, can use standard tools to examin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mp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s a temporary file in m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wb+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ystems may process temporary files as tex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mporary file exists until clo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cl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until program termi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tions file pointers to the beginning of th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ore on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open m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81120" y="1677960"/>
          <a:ext cx="7710480" cy="308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77960"/>
                    <a:ext cx="77104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advanced topics 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UNIX or 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0  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expected event, can terminat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ctrl&gt;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illegal instructions, segmentation violations, termination orders, floating-point exceptions (division by zero, multiplying large floa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ps unexpected ev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ignal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two arguments a signal number and a pointer to the signal handl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an integer signal number and creates a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0  Signal Handl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defin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.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378080" y="1600200"/>
          <a:ext cx="6622920" cy="30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600200"/>
                    <a:ext cx="662292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Generate random numb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is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ignal if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= 25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5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8: fig14_0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ignal handling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ignal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gnal_handl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ignal( SIGINT, signal_handl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clock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1; i &lt;= 100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x = 1 + rand() % 5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x == 2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raise( SIG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1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gnal_handl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gnal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2895120" y="1295280"/>
            <a:ext cx="4115160" cy="1523880"/>
            <a:chOff x="2895120" y="1295280"/>
            <a:chExt cx="4115160" cy="1523880"/>
          </a:xfrm>
        </p:grpSpPr>
        <p:sp>
          <p:nvSpPr>
            <p:cNvPr id="547" name=""/>
            <p:cNvSpPr/>
            <p:nvPr/>
          </p:nvSpPr>
          <p:spPr>
            <a:xfrm>
              <a:off x="396216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to 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nal_handl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hen a signal of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ccu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895120" y="190476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0"/>
            <a:ext cx="6780960" cy="4572000"/>
            <a:chOff x="0" y="0"/>
            <a:chExt cx="6780960" cy="4572000"/>
          </a:xfrm>
        </p:grpSpPr>
        <p:grpSp>
          <p:nvGrpSpPr>
            <p:cNvPr id="551" name=""/>
            <p:cNvGrpSpPr/>
            <p:nvPr/>
          </p:nvGrpSpPr>
          <p:grpSpPr>
            <a:xfrm>
              <a:off x="0" y="0"/>
              <a:ext cx="6780960" cy="240480"/>
              <a:chOff x="0" y="0"/>
              <a:chExt cx="6780960" cy="24048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240480"/>
              <a:ext cx="6780960" cy="240480"/>
              <a:chOff x="0" y="240480"/>
              <a:chExt cx="6780960" cy="24048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2404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2404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pons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480960"/>
              <a:ext cx="6780960" cy="240480"/>
              <a:chOff x="0" y="480960"/>
              <a:chExt cx="6780960" cy="24048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4809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4809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721800"/>
              <a:ext cx="6780960" cy="240480"/>
              <a:chOff x="0" y="721800"/>
              <a:chExt cx="6780960" cy="24048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7218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7218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d%s\n%s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962280"/>
              <a:ext cx="6780960" cy="240480"/>
              <a:chOff x="0" y="962280"/>
              <a:chExt cx="6780960" cy="24048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9622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9622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\nInterrupt signal ( ", signalValue, " ) received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1203120"/>
              <a:ext cx="6780960" cy="240480"/>
              <a:chOff x="0" y="1203120"/>
              <a:chExt cx="6780960" cy="24048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12031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12031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Do you wish to continue ( 1 = yes or 2 = no )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1443600"/>
              <a:ext cx="6780960" cy="240480"/>
              <a:chOff x="0" y="1443600"/>
              <a:chExt cx="6780960" cy="24048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14436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14436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1684440"/>
              <a:ext cx="6780960" cy="240480"/>
              <a:chOff x="0" y="1684440"/>
              <a:chExt cx="6780960" cy="24048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16844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16844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1924920"/>
              <a:ext cx="6780960" cy="240480"/>
              <a:chOff x="0" y="1924920"/>
              <a:chExt cx="6780960" cy="24048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19249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19249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2165760"/>
              <a:ext cx="6780960" cy="240480"/>
              <a:chOff x="0" y="2165760"/>
              <a:chExt cx="6780960" cy="24048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21657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21657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ponse != 1 &amp;&amp; response != 2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2406240"/>
              <a:ext cx="6780960" cy="240480"/>
              <a:chOff x="0" y="2406240"/>
              <a:chExt cx="6780960" cy="24048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24062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24062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( 1 = yes or 2 = no )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2647080"/>
              <a:ext cx="6780960" cy="240480"/>
              <a:chOff x="0" y="2647080"/>
              <a:chExt cx="6780960" cy="24048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26470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26470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respon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2887560"/>
              <a:ext cx="6780960" cy="240480"/>
              <a:chOff x="0" y="2887560"/>
              <a:chExt cx="6780960" cy="24048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28875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88756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3128040"/>
              <a:ext cx="6780960" cy="240480"/>
              <a:chOff x="0" y="3128040"/>
              <a:chExt cx="6780960" cy="24048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31280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312804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3368880"/>
              <a:ext cx="6780960" cy="240480"/>
              <a:chOff x="0" y="3368880"/>
              <a:chExt cx="6780960" cy="24048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33688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33688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ponse == 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3609720"/>
              <a:ext cx="6780960" cy="240480"/>
              <a:chOff x="0" y="3609720"/>
              <a:chExt cx="6780960" cy="24048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36097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36097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ignal( SIGINT, signal_handl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3850200"/>
              <a:ext cx="6780960" cy="240480"/>
              <a:chOff x="0" y="3850200"/>
              <a:chExt cx="6780960" cy="24048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38502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385020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090680"/>
              <a:ext cx="6780960" cy="240480"/>
              <a:chOff x="0" y="4090680"/>
              <a:chExt cx="6780960" cy="24048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0906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09068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exit( EXIT_SUCCES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4331520"/>
              <a:ext cx="6780960" cy="240480"/>
              <a:chOff x="0" y="4331520"/>
              <a:chExt cx="6780960" cy="24048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43315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4331520"/>
                <a:ext cx="6780960" cy="240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0" y="480060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2   3   4   5   6   7   8   9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12  13  14  15  16  17  18  19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  22  23  24  25  26  27  28  29 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1  32  33  34  35  36  37  38  39 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1  42  43  44  45  46  47  48  49 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1  52  53  54  55  56  57  58  59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800240" y="1523520"/>
            <a:ext cx="4115160" cy="676440"/>
            <a:chOff x="4800240" y="1523520"/>
            <a:chExt cx="4115160" cy="676440"/>
          </a:xfrm>
        </p:grpSpPr>
        <p:sp>
          <p:nvSpPr>
            <p:cNvPr id="610" name=""/>
            <p:cNvSpPr/>
            <p:nvPr/>
          </p:nvSpPr>
          <p:spPr>
            <a:xfrm>
              <a:off x="5867280" y="16192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r given option of terminating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4800240" y="152352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123720" y="2457360"/>
            <a:ext cx="5563080" cy="1199880"/>
            <a:chOff x="3123720" y="2457360"/>
            <a:chExt cx="5563080" cy="1199880"/>
          </a:xfrm>
        </p:grpSpPr>
        <p:sp>
          <p:nvSpPr>
            <p:cNvPr id="613" name=""/>
            <p:cNvSpPr/>
            <p:nvPr/>
          </p:nvSpPr>
          <p:spPr>
            <a:xfrm>
              <a:off x="5105160" y="2457360"/>
              <a:ext cx="3581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gnal handler reinitialized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ig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123720" y="289548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1  62  63  64  65  66  67  68  69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1  72  73  74  75  76  77  78  79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1  82  83  84  85  86  87  88  89 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1  92 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rupt signal ( 2 ) recei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 you wish to continue ( 1 = yes or 2 = no )?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4  95 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rupt signal ( 2 ) recei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 you wish to continue ( 1 = yes or 2 = no )?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7  98  99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 Dynamic Memory Allocation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allo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allo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reate dynamic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oc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members, siz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memb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umber of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ze of each me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pointer to a dynamic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lloc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interToObject, new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erTo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to the object being realloc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w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w size of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pointer to reallocated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cannot allocat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Siz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the object pointed to is fr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erTo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it acts li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ll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12   The Unconditional Branch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oto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when performance cru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xit loop instead of waiting until condition beco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flow control to first statement after specified lab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label is an identifier followed by a colon (i.e.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escape from deeply nested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Labe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623" name=""/>
            <p:cNvGrpSpPr/>
            <p:nvPr/>
          </p:nvGrpSpPr>
          <p:grpSpPr>
            <a:xfrm>
              <a:off x="0" y="0"/>
              <a:ext cx="6780960" cy="206640"/>
              <a:chOff x="0" y="0"/>
              <a:chExt cx="6780960" cy="2066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4.9: fig14_09.c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06640"/>
              <a:ext cx="6780960" cy="206640"/>
              <a:chOff x="0" y="206640"/>
              <a:chExt cx="6780960" cy="20664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066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066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goto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413280"/>
              <a:ext cx="6780960" cy="206640"/>
              <a:chOff x="0" y="413280"/>
              <a:chExt cx="6780960" cy="20664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413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413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620280"/>
              <a:ext cx="6780960" cy="206640"/>
              <a:chOff x="0" y="620280"/>
              <a:chExt cx="6780960" cy="2066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620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0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827280"/>
              <a:ext cx="6780960" cy="206640"/>
              <a:chOff x="0" y="827280"/>
              <a:chExt cx="6780960" cy="2066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827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8272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1033920"/>
              <a:ext cx="6780960" cy="206640"/>
              <a:chOff x="0" y="1033920"/>
              <a:chExt cx="6780960" cy="20664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1033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1033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1240920"/>
              <a:ext cx="6780960" cy="206640"/>
              <a:chOff x="0" y="1240920"/>
              <a:chExt cx="6780960" cy="20664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1240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240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1447920"/>
              <a:ext cx="6780960" cy="206640"/>
              <a:chOff x="0" y="1447920"/>
              <a:chExt cx="6780960" cy="2066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1447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4479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1654560"/>
              <a:ext cx="6780960" cy="206640"/>
              <a:chOff x="0" y="1654560"/>
              <a:chExt cx="6780960" cy="2066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16545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16545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rt: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abe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1861200"/>
              <a:ext cx="6780960" cy="206640"/>
              <a:chOff x="0" y="1861200"/>
              <a:chExt cx="6780960" cy="2066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1861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1861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 &gt; 1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2068200"/>
              <a:ext cx="6780960" cy="206640"/>
              <a:chOff x="0" y="2068200"/>
              <a:chExt cx="6780960" cy="20664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2068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068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got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2275200"/>
              <a:ext cx="6780960" cy="206640"/>
              <a:chOff x="0" y="2275200"/>
              <a:chExt cx="6780960" cy="2066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2275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227520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2481840"/>
              <a:ext cx="6780960" cy="206640"/>
              <a:chOff x="0" y="2481840"/>
              <a:chExt cx="6780960" cy="2066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2481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2481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d  ", 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2688840"/>
              <a:ext cx="6780960" cy="206640"/>
              <a:chOff x="0" y="2688840"/>
              <a:chExt cx="6780960" cy="2066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2688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268884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2895480"/>
              <a:ext cx="6780960" cy="206640"/>
              <a:chOff x="0" y="2895480"/>
              <a:chExt cx="6780960" cy="20664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2895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2895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got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r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3102480"/>
              <a:ext cx="6780960" cy="206640"/>
              <a:chOff x="0" y="3102480"/>
              <a:chExt cx="6780960" cy="2066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3102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310248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3309120"/>
              <a:ext cx="6780960" cy="206640"/>
              <a:chOff x="0" y="3309120"/>
              <a:chExt cx="6780960" cy="2066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3309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3309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nd: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label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3516120"/>
              <a:ext cx="6780960" cy="206640"/>
              <a:chOff x="0" y="3516120"/>
              <a:chExt cx="6780960" cy="2066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3516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351612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utchar(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3722760"/>
              <a:ext cx="6780960" cy="206640"/>
              <a:chOff x="0" y="3722760"/>
              <a:chExt cx="6780960" cy="20664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3722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3722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3929760"/>
              <a:ext cx="6780960" cy="206640"/>
              <a:chOff x="0" y="3929760"/>
              <a:chExt cx="6780960" cy="2066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3929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3929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4136760"/>
              <a:ext cx="6780960" cy="206640"/>
              <a:chOff x="0" y="4136760"/>
              <a:chExt cx="6780960" cy="2066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4136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4136760"/>
                <a:ext cx="678096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"/>
          <p:cNvSpPr/>
          <p:nvPr/>
        </p:nvSpPr>
        <p:spPr>
          <a:xfrm>
            <a:off x="0" y="45720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2  3  4  5  6  7  8  9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219320" y="380880"/>
            <a:ext cx="5105160" cy="1828800"/>
            <a:chOff x="1219320" y="380880"/>
            <a:chExt cx="5105160" cy="1828800"/>
          </a:xfrm>
        </p:grpSpPr>
        <p:sp>
          <p:nvSpPr>
            <p:cNvPr id="688" name=""/>
            <p:cNvSpPr/>
            <p:nvPr/>
          </p:nvSpPr>
          <p:spPr>
            <a:xfrm>
              <a:off x="3429000" y="38088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rt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d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ot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1219320" y="609480"/>
              <a:ext cx="2209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133720" y="60948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 Redirecting Input/Output on UNIX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 - keyboard and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irect input and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symbol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ng system feature, not a C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X and 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resents command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myProgram &lt;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ther than inputting values by hand, read them from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pe command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one program becomes input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firstProgram | second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rstProgr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o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cond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2   Redirecting Input/Output on UNIX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DOS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irect outpu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s where output of a program go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myProgram &gt; 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goes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rases previous con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output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output to end of file (preserve previous cont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 myOtherProgram &gt;&gt; 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is added onto the en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   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with unspecified number of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arg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ellipsis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t end of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t least one defined 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myfunction ( int i, ...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llipsis is only used in the prototype of a function with a variable length argument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n example of a function that can take multiple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totyp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intf( const char* format, ...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Variable-Length Argument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s and definitions of the variable arguments heade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arg.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specifier, required (va_list arguments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start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ther variabl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ializes parameters, required befor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arg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arameter each ti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_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all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points to next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_end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function have a normal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darg.h&gt;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 (variable length argument lis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li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start(ap, i)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6781320" cy="230040"/>
            <a:chOff x="0" y="0"/>
            <a:chExt cx="6781320" cy="23004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6781320" cy="230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0"/>
              <a:ext cx="6781320" cy="230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8d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4d8dff"/>
                  </a:solidFill>
                  <a:latin typeface="Courier New"/>
                  <a:ea typeface="Times New Roman"/>
                </a:rPr>
                <a:t>1</a:t>
              </a:r>
              <a:r>
                <a:rPr b="1" lang="en-US" sz="1200" spc="-1" strike="noStrike">
                  <a:solidFill>
                    <a:srgbClr val="4d8d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33cc33"/>
                  </a:solidFill>
                  <a:latin typeface="Courier New"/>
                  <a:ea typeface="Times New Roman"/>
                </a:rPr>
                <a:t>/* Fig. 14.2: fig14_02.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230040"/>
            <a:ext cx="6781320" cy="6627600"/>
            <a:chOff x="0" y="230040"/>
            <a:chExt cx="6781320" cy="6627600"/>
          </a:xfrm>
        </p:grpSpPr>
        <p:grpSp>
          <p:nvGrpSpPr>
            <p:cNvPr id="111" name=""/>
            <p:cNvGrpSpPr/>
            <p:nvPr/>
          </p:nvGrpSpPr>
          <p:grpSpPr>
            <a:xfrm>
              <a:off x="0" y="230040"/>
              <a:ext cx="6781320" cy="237240"/>
              <a:chOff x="0" y="230040"/>
              <a:chExt cx="6781320" cy="237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23004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004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variable-length argument list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0" y="467280"/>
              <a:ext cx="6781320" cy="235440"/>
              <a:chOff x="0" y="467280"/>
              <a:chExt cx="6781320" cy="23544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46728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6728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703080"/>
              <a:ext cx="6781320" cy="236880"/>
              <a:chOff x="0" y="703080"/>
              <a:chExt cx="6781320" cy="2368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703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703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ar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939960"/>
              <a:ext cx="6781320" cy="236880"/>
              <a:chOff x="0" y="939960"/>
              <a:chExt cx="6781320" cy="23688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9399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9399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1177200"/>
              <a:ext cx="6781320" cy="235440"/>
              <a:chOff x="0" y="1177200"/>
              <a:chExt cx="6781320" cy="23544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1177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177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int, ...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1413000"/>
              <a:ext cx="6781320" cy="236880"/>
              <a:chOff x="0" y="1413000"/>
              <a:chExt cx="6781320" cy="2368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141300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41300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649880"/>
              <a:ext cx="6781320" cy="237240"/>
              <a:chOff x="0" y="1649880"/>
              <a:chExt cx="6781320" cy="23724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164988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64988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887480"/>
              <a:ext cx="6781320" cy="236880"/>
              <a:chOff x="0" y="1887480"/>
              <a:chExt cx="6781320" cy="23688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18874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8874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2124720"/>
              <a:ext cx="6781320" cy="235440"/>
              <a:chOff x="0" y="2124720"/>
              <a:chExt cx="6781320" cy="23544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1247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1247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= 37.5, x = 22.5, y = 1.7, z = 10.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2360160"/>
              <a:ext cx="6781320" cy="236880"/>
              <a:chOff x="0" y="2360160"/>
              <a:chExt cx="6781320" cy="23688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23601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3601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2597400"/>
              <a:ext cx="6781320" cy="237240"/>
              <a:chOff x="0" y="2597400"/>
              <a:chExt cx="6781320" cy="23724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25974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5974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.1f\n%s%.1f\n%s%.1f\n%s%.1f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835000"/>
              <a:ext cx="6781320" cy="235440"/>
              <a:chOff x="0" y="2835000"/>
              <a:chExt cx="6781320" cy="23544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8350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8350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w = ", w, "x = ", x, "y = ", y, "z = ",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3070440"/>
              <a:ext cx="6781320" cy="236880"/>
              <a:chOff x="0" y="3070440"/>
              <a:chExt cx="6781320" cy="23688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30704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30704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.3f\n%s%.3f\n%s%.3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3307680"/>
              <a:ext cx="6781320" cy="236880"/>
              <a:chOff x="0" y="3307680"/>
              <a:chExt cx="6781320" cy="23688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33076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33076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The average of w and x is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3544920"/>
              <a:ext cx="6781320" cy="235440"/>
              <a:chOff x="0" y="3544920"/>
              <a:chExt cx="6781320" cy="23544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35449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35449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average( 2, w, x 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3780360"/>
              <a:ext cx="6781320" cy="236880"/>
              <a:chOff x="0" y="3780360"/>
              <a:chExt cx="6781320" cy="23688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37803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37803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The average of w, x, and y is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4017600"/>
              <a:ext cx="6781320" cy="237240"/>
              <a:chOff x="0" y="4017600"/>
              <a:chExt cx="6781320" cy="2372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40176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0176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average( 3, w, x, y )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4255200"/>
              <a:ext cx="6781320" cy="235440"/>
              <a:chOff x="0" y="4255200"/>
              <a:chExt cx="6781320" cy="23544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4255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425520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The average of w, x, y, and z is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4490640"/>
              <a:ext cx="6781320" cy="236880"/>
              <a:chOff x="0" y="4490640"/>
              <a:chExt cx="6781320" cy="23688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44906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44906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average( 4, w, x, y, z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4727880"/>
              <a:ext cx="6781320" cy="236880"/>
              <a:chOff x="0" y="4727880"/>
              <a:chExt cx="6781320" cy="23688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47278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7278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4965120"/>
              <a:ext cx="6781320" cy="235440"/>
              <a:chOff x="0" y="4965120"/>
              <a:chExt cx="6781320" cy="23544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49651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96512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5200560"/>
              <a:ext cx="6781320" cy="236880"/>
              <a:chOff x="0" y="5200560"/>
              <a:chExt cx="6781320" cy="23688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52005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005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5437800"/>
              <a:ext cx="6781320" cy="237240"/>
              <a:chOff x="0" y="5437800"/>
              <a:chExt cx="6781320" cy="237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54378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437800"/>
                <a:ext cx="678132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5675040"/>
              <a:ext cx="6781320" cy="235440"/>
              <a:chOff x="0" y="5675040"/>
              <a:chExt cx="6781320" cy="23544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567504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567504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...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5910840"/>
              <a:ext cx="6781320" cy="236880"/>
              <a:chOff x="0" y="5910840"/>
              <a:chExt cx="6781320" cy="23688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59108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591084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6148080"/>
              <a:ext cx="6781320" cy="236880"/>
              <a:chOff x="0" y="6148080"/>
              <a:chExt cx="6781320" cy="23688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6148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614808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6384960"/>
              <a:ext cx="6781320" cy="235440"/>
              <a:chOff x="0" y="6384960"/>
              <a:chExt cx="6781320" cy="23544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638496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84960"/>
                <a:ext cx="6781320" cy="23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6620760"/>
              <a:ext cx="6781320" cy="236880"/>
              <a:chOff x="0" y="6620760"/>
              <a:chExt cx="6781320" cy="23688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66207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620760"/>
                <a:ext cx="6781320" cy="236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_list a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Access argu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arg(ap, doubl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4 End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_end(ap)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otal/1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59092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 = 3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1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of w and x is 3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of w, x, and y is 20.5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of w, x, y, and z is 17.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6781320" cy="2133720"/>
            <a:chOff x="0" y="0"/>
            <a:chExt cx="6781320" cy="2133720"/>
          </a:xfrm>
        </p:grpSpPr>
        <p:grpSp>
          <p:nvGrpSpPr>
            <p:cNvPr id="198" name=""/>
            <p:cNvGrpSpPr/>
            <p:nvPr/>
          </p:nvGrpSpPr>
          <p:grpSpPr>
            <a:xfrm>
              <a:off x="0" y="685800"/>
              <a:ext cx="6780960" cy="1447920"/>
              <a:chOff x="0" y="685800"/>
              <a:chExt cx="6780960" cy="14479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0" y="685800"/>
                <a:ext cx="6780960" cy="241200"/>
                <a:chOff x="0" y="685800"/>
                <a:chExt cx="6780960" cy="2412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0" y="6858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0" y="6858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fo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( j = 1; j &lt;= i; j++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0" y="927000"/>
                <a:ext cx="6780960" cy="241200"/>
                <a:chOff x="0" y="927000"/>
                <a:chExt cx="6780960" cy="241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0" y="9270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0" y="9270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total += va_arg( ap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0" y="1168200"/>
                <a:ext cx="6780960" cy="241200"/>
                <a:chOff x="0" y="1168200"/>
                <a:chExt cx="6780960" cy="241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0" y="11682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0" y="116820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0" y="1409760"/>
                <a:ext cx="6780960" cy="241200"/>
                <a:chOff x="0" y="1409760"/>
                <a:chExt cx="6780960" cy="2412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0" y="14097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0" y="14097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va_end( ap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0" y="1650960"/>
                <a:ext cx="6780960" cy="241200"/>
                <a:chOff x="0" y="1650960"/>
                <a:chExt cx="6780960" cy="2412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0" y="16509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0" y="165096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total / i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0" y="1892520"/>
                <a:ext cx="6780960" cy="241200"/>
                <a:chOff x="0" y="1892520"/>
                <a:chExt cx="6780960" cy="241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0" y="189252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0" y="1892520"/>
                  <a:ext cx="6780960" cy="2412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0" y="0"/>
              <a:ext cx="6781320" cy="685800"/>
              <a:chOff x="0" y="0"/>
              <a:chExt cx="6781320" cy="6858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0" y="0"/>
                <a:ext cx="6781320" cy="258840"/>
                <a:chOff x="0" y="0"/>
                <a:chExt cx="6781320" cy="2588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0" y="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0" y="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0" y="214200"/>
                <a:ext cx="6781320" cy="257400"/>
                <a:chOff x="0" y="214200"/>
                <a:chExt cx="6781320" cy="257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0" y="214200"/>
                  <a:ext cx="6781320" cy="257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214200"/>
                  <a:ext cx="6781320" cy="257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va_start( ap, i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0" y="426960"/>
                <a:ext cx="6781320" cy="258840"/>
                <a:chOff x="0" y="426960"/>
                <a:chExt cx="6781320" cy="258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0" y="42696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0" y="426960"/>
                  <a:ext cx="6781320" cy="258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4.4   Using Command-Line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arguments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DOS or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main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 int argc, char *argv[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g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rguments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argv[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ames of arguments i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firs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$ copy input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opy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npu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g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outpu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8:11:54Z</dcterms:created>
  <dc:creator>kalid</dc:creator>
  <dc:description/>
  <dc:language>en-US</dc:language>
  <cp:lastModifiedBy>Matty</cp:lastModifiedBy>
  <dcterms:modified xsi:type="dcterms:W3CDTF">2000-12-22T19:49:37Z</dcterms:modified>
  <cp:revision>477</cp:revision>
  <dc:subject/>
  <dc:title>Chapter 18 - C Legacy Code Topics</dc:title>
</cp:coreProperties>
</file>