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7133-9E88-4D05-B59E-222809BC7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4EFA-FA73-436F-910D-27347DCB2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8022-A058-4FC0-BD45-6659F04A1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C1C1-79AA-4D67-ABB3-E79B09258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BE4C-0C6A-459D-9E21-647B70E8B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7929-D47C-41B8-99FF-B79269D65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E888-41EF-40A9-BAD9-F5B71DD2A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8885-C509-493E-A7B5-ACD129C55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A896-9A6C-44B1-A9C3-3CD7CB47E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6E0E-4F48-4C4F-89CC-DF584DBEE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F680-D57C-4093-A2A4-0CB7A9106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35CE-D432-43D2-8A83-CEDCF79EB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DC4B-A308-444A-BE5B-FBD542A67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5 - C++ As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Better C"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00200"/>
            <a:ext cx="617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imple Program: Adding Two Inte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++ 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 and Empty Parameter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c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execution-time over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alifi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function return type "advises" a function to be inl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s copy of function's code in place of 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s up performance but increases file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can ignor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all but the smallest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 double cube( const double s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return s * s * s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wri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ing std::cou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e can 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pplie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en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olean - new data type, can either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01800" y="2133720"/>
          <a:ext cx="7453080" cy="566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133720"/>
                    <a:ext cx="745308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of data passed to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to copy do not chang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an directly acces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affect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parameter alias for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hange(int &amp;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+=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3 to the original variable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y = &amp;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ng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gling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sure to assign references to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function returns a reference to a variable, make sure the variable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it is automatic and destroyed after function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pointers, each reference need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&amp;a, &amp;b, &amp;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5.5: fig15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paring call-by-value and call-by-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referenc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Valu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, z =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x = " &lt;&lt; x &lt;&lt; " before squareByValue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Value returned by squareByValu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quareByValue( x ) &lt;&lt;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x = " &lt;&lt; x &lt;&lt; " after squareByValue\n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before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quareByReference( z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after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Valu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*=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's argument no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44792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 before squareBy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returned by squareByValue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 after squareBy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4 before squareBy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16 after squareBy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6780960" cy="1219320"/>
            <a:chOff x="0" y="0"/>
            <a:chExt cx="6780960" cy="1219320"/>
          </a:xfrm>
        </p:grpSpPr>
        <p:grpSp>
          <p:nvGrpSpPr>
            <p:cNvPr id="264" name="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c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f *= cRef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er's argumen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975600"/>
              <a:ext cx="6780960" cy="243720"/>
              <a:chOff x="0" y="975600"/>
              <a:chExt cx="6780960" cy="24372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 and Empty Parameter Lis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unction parameter omitted, gets defaul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constants, global variables, or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parameters specified, rightmost go to their defa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efaults in 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yFunction( int x = 1, int y = 2, int z = 3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 and Empty Parameter List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paramet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C, empty parameter list means function takes any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++ it means function 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that a function takes no paramete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nothing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typ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1( vo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2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unction prototype (notice default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Function calls (use default argument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0" y="0"/>
            <a:ext cx="6780960" cy="6476760"/>
            <a:chOff x="0" y="0"/>
            <a:chExt cx="6780960" cy="6476760"/>
          </a:xfrm>
        </p:grpSpPr>
        <p:grpSp>
          <p:nvGrpSpPr>
            <p:cNvPr id="285" name=""/>
            <p:cNvGrpSpPr/>
            <p:nvPr/>
          </p:nvGrpSpPr>
          <p:grpSpPr>
            <a:xfrm>
              <a:off x="0" y="0"/>
              <a:ext cx="6780960" cy="231120"/>
              <a:chOff x="0" y="0"/>
              <a:chExt cx="6780960" cy="23112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5.8: fig15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231120"/>
              <a:ext cx="6780960" cy="231120"/>
              <a:chOff x="0" y="231120"/>
              <a:chExt cx="6780960" cy="23112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23112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23112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efault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462240"/>
              <a:ext cx="6780960" cy="231120"/>
              <a:chOff x="0" y="462240"/>
              <a:chExt cx="6780960" cy="23112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46224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46224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693720"/>
              <a:ext cx="6780960" cy="231120"/>
              <a:chOff x="0" y="693720"/>
              <a:chExt cx="6780960" cy="23112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69372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9372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925200"/>
              <a:ext cx="6780960" cy="231120"/>
              <a:chOff x="0" y="925200"/>
              <a:chExt cx="6780960" cy="23112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92520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92520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1156320"/>
              <a:ext cx="6780960" cy="231120"/>
              <a:chOff x="0" y="1156320"/>
              <a:chExt cx="6780960" cy="23112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115632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115632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1387800"/>
              <a:ext cx="6780960" cy="231120"/>
              <a:chOff x="0" y="1387800"/>
              <a:chExt cx="6780960" cy="23112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138780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138780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1619280"/>
              <a:ext cx="6780960" cy="231120"/>
              <a:chOff x="0" y="1619280"/>
              <a:chExt cx="6780960" cy="23112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16192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16192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xVolu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dth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 = 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1850400"/>
              <a:ext cx="6780960" cy="231120"/>
              <a:chOff x="0" y="1850400"/>
              <a:chExt cx="6780960" cy="23112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185040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185040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2081880"/>
              <a:ext cx="6780960" cy="231120"/>
              <a:chOff x="0" y="2081880"/>
              <a:chExt cx="6780960" cy="23112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20818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20818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313000"/>
              <a:ext cx="6780960" cy="231120"/>
              <a:chOff x="0" y="2313000"/>
              <a:chExt cx="6780960" cy="2311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31300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231300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2544480"/>
              <a:ext cx="6780960" cy="231120"/>
              <a:chOff x="0" y="2544480"/>
              <a:chExt cx="6780960" cy="23112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25444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5444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default box volume is: " &lt;&lt; boxVolume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2775960"/>
              <a:ext cx="6780960" cy="231120"/>
              <a:chOff x="0" y="2775960"/>
              <a:chExt cx="6780960" cy="23112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27759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27759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3007080"/>
              <a:ext cx="6780960" cy="231120"/>
              <a:chOff x="0" y="3007080"/>
              <a:chExt cx="6780960" cy="23112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30070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30070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1 and height 1 is: " &lt;&lt; boxVolume( 10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3238560"/>
              <a:ext cx="6780960" cy="231120"/>
              <a:chOff x="0" y="3238560"/>
              <a:chExt cx="6780960" cy="23112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32385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32385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3469680"/>
              <a:ext cx="6780960" cy="231120"/>
              <a:chOff x="0" y="3469680"/>
              <a:chExt cx="6780960" cy="23112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34696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34696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5 and height 1 is: " &lt;&lt; boxVolume( 10, 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3701160"/>
              <a:ext cx="6780960" cy="231120"/>
              <a:chOff x="0" y="3701160"/>
              <a:chExt cx="6780960" cy="23112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37011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37011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3932280"/>
              <a:ext cx="6780960" cy="231120"/>
              <a:chOff x="0" y="3932280"/>
              <a:chExt cx="6780960" cy="23112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39322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39322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5 and height 2 is: " &lt;&lt; boxVolume( 10, 5,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4163760"/>
              <a:ext cx="6780960" cy="231120"/>
              <a:chOff x="0" y="4163760"/>
              <a:chExt cx="6780960" cy="23112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41637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41637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4394880"/>
              <a:ext cx="6780960" cy="231120"/>
              <a:chOff x="0" y="4394880"/>
              <a:chExt cx="6780960" cy="23112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43948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439488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4626360"/>
              <a:ext cx="6780960" cy="231120"/>
              <a:chOff x="0" y="4626360"/>
              <a:chExt cx="6780960" cy="23112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46263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46263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4857840"/>
              <a:ext cx="6780960" cy="231120"/>
              <a:chOff x="0" y="4857840"/>
              <a:chExt cx="6780960" cy="23112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485784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485784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5088960"/>
              <a:ext cx="6780960" cy="231120"/>
              <a:chOff x="0" y="5088960"/>
              <a:chExt cx="6780960" cy="23112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50889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508896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5320440"/>
              <a:ext cx="6780960" cy="231120"/>
              <a:chOff x="0" y="5320440"/>
              <a:chExt cx="6780960" cy="23112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532044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532044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the volume of a bo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5551920"/>
              <a:ext cx="6780960" cy="231120"/>
              <a:chOff x="0" y="5551920"/>
              <a:chExt cx="6780960" cy="23112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555192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55192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xVolu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d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5783040"/>
              <a:ext cx="6780960" cy="231120"/>
              <a:chOff x="0" y="5783040"/>
              <a:chExt cx="6780960" cy="23112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578304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578304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6014520"/>
              <a:ext cx="6780960" cy="231120"/>
              <a:chOff x="0" y="6014520"/>
              <a:chExt cx="6780960" cy="23112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601452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601452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* width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6245640"/>
              <a:ext cx="6780960" cy="231120"/>
              <a:chOff x="0" y="6245640"/>
              <a:chExt cx="6780960" cy="23112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624564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6245640"/>
                <a:ext cx="6780960" cy="231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default box volume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1 and height 1 is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1 is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2 is: 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14 Ch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-down program design with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15 to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portion of bo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based programming (classes, objects, encapsul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oriented programming (inheritance, polymorphis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ic programming (class and function templa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global variables if a local variable has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_cast&lt;newType&gt; (vari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copy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hange how output is forma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precis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set precision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(default 6 digi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iosflag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formats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wid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set field 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in depth in Chapter 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glob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a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lobal PI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to a loc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 local 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global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alues 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I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Vary precision and print loc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0"/>
            <a:ext cx="6781320" cy="6324120"/>
            <a:chOff x="0" y="0"/>
            <a:chExt cx="6781320" cy="6324120"/>
          </a:xfrm>
        </p:grpSpPr>
        <p:sp>
          <p:nvSpPr>
            <p:cNvPr id="375" name=""/>
            <p:cNvSpPr/>
            <p:nvPr/>
          </p:nvSpPr>
          <p:spPr>
            <a:xfrm>
              <a:off x="0" y="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1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33cc33"/>
                  </a:solidFill>
                  <a:latin typeface="Courier New"/>
                  <a:ea typeface="Times New Roman"/>
                </a:rPr>
                <a:t>// Fig. 15.9: fig15_09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1780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2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33cc33"/>
                  </a:solidFill>
                  <a:latin typeface="Courier New"/>
                  <a:ea typeface="Times New Roman"/>
                </a:rPr>
                <a:t>// Using the unary scope resolution ope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435960"/>
              <a:ext cx="6781320" cy="2181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3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#includ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&lt;iostream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65412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4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87228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5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using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d::cou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109008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6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using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d::end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1308240"/>
              <a:ext cx="6781320" cy="2181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7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using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d::ios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152640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8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174456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9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#includ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&lt;iomanip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196272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10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2180520"/>
              <a:ext cx="6781320" cy="2181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11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using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d::setprecision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239904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12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using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d::setiosflags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261684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13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using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d::setw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83500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14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3053160"/>
              <a:ext cx="6781320" cy="2181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15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cons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doubl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I = 3.14159265358979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327132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16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48948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17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in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main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370728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18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{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392544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19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cons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floa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I = 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static_cas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 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floa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&gt;( ::PI 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4143600"/>
              <a:ext cx="6781320" cy="2181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20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436176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21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cout &lt;&lt; setprecision( 20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457992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22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&lt;&lt; "  Local float value of PI = " &lt;&lt; 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479772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23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&lt;&lt; "\nGlobal double value of PI = " &lt;&lt; ::PI &lt;&lt; end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5015880"/>
              <a:ext cx="6781320" cy="2181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24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523404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25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cout &lt;&lt; setw( 28 ) &lt;&lt; "Local float value of PI = "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545220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26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&lt;&lt; setiosflags( ios::fixed | ios::showpoint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567036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27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&lt;&lt; setprecision( 10 ) &lt;&lt; PI &lt;&lt; end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5888160"/>
              <a:ext cx="6781320" cy="21816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28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retur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0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6106320"/>
              <a:ext cx="6781320" cy="2178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29</a:t>
              </a:r>
              <a:r>
                <a:rPr b="1" lang="en-US" sz="1200" spc="-1" strike="noStrike">
                  <a:solidFill>
                    <a:srgbClr val="275aff"/>
                  </a:solidFill>
                  <a:latin typeface="Courier New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3968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64771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float value of PI = 3.141592741012573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double value of PI = 3.141592653589790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float value of PI = 3.14159274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0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verload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with same name and differen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functions should perform similar tas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chooses function by signa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 determined by function name and paramet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safe linkage - ensures proper overloaded function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overloaded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0" y="0"/>
            <a:ext cx="6780960" cy="4495680"/>
            <a:chOff x="0" y="0"/>
            <a:chExt cx="6780960" cy="4495680"/>
          </a:xfrm>
        </p:grpSpPr>
        <p:grpSp>
          <p:nvGrpSpPr>
            <p:cNvPr id="410" name=""/>
            <p:cNvGrpSpPr/>
            <p:nvPr/>
          </p:nvGrpSpPr>
          <p:grpSpPr>
            <a:xfrm>
              <a:off x="0" y="0"/>
              <a:ext cx="6780960" cy="236520"/>
              <a:chOff x="0" y="0"/>
              <a:chExt cx="6780960" cy="23652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5.10: fig15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236520"/>
              <a:ext cx="6780960" cy="236520"/>
              <a:chOff x="0" y="236520"/>
              <a:chExt cx="6780960" cy="23652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23652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23652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overloaded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473040"/>
              <a:ext cx="6780960" cy="236520"/>
              <a:chOff x="0" y="473040"/>
              <a:chExt cx="6780960" cy="23652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4730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4730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709920"/>
              <a:ext cx="6780960" cy="236520"/>
              <a:chOff x="0" y="709920"/>
              <a:chExt cx="6780960" cy="23652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70992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70992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946440"/>
              <a:ext cx="6780960" cy="236520"/>
              <a:chOff x="0" y="946440"/>
              <a:chExt cx="6780960" cy="23652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9464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9464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1182960"/>
              <a:ext cx="6780960" cy="236520"/>
              <a:chOff x="0" y="1182960"/>
              <a:chExt cx="6780960" cy="23652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1182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1182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1419480"/>
              <a:ext cx="6780960" cy="236520"/>
              <a:chOff x="0" y="1419480"/>
              <a:chExt cx="6780960" cy="23652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14194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14194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1656360"/>
              <a:ext cx="6780960" cy="236520"/>
              <a:chOff x="0" y="1656360"/>
              <a:chExt cx="6780960" cy="23652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16563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16563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*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1892880"/>
              <a:ext cx="6780960" cy="236520"/>
              <a:chOff x="0" y="1892880"/>
              <a:chExt cx="6780960" cy="23652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1892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1892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2129400"/>
              <a:ext cx="6780960" cy="236520"/>
              <a:chOff x="0" y="2129400"/>
              <a:chExt cx="6780960" cy="23652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212940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212940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*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2365920"/>
              <a:ext cx="6780960" cy="236520"/>
              <a:chOff x="0" y="2365920"/>
              <a:chExt cx="6780960" cy="23652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236592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236592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2602800"/>
              <a:ext cx="6780960" cy="236520"/>
              <a:chOff x="0" y="2602800"/>
              <a:chExt cx="6780960" cy="23652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260280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260280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2839320"/>
              <a:ext cx="6780960" cy="236520"/>
              <a:chOff x="0" y="2839320"/>
              <a:chExt cx="6780960" cy="2365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283932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283932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3075840"/>
              <a:ext cx="6780960" cy="236520"/>
              <a:chOff x="0" y="3075840"/>
              <a:chExt cx="6780960" cy="23652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3075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3075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square of integer 7 is " &lt;&lt; square( 7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3312720"/>
              <a:ext cx="6780960" cy="236520"/>
              <a:chOff x="0" y="3312720"/>
              <a:chExt cx="6780960" cy="23652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331272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331272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The square of double 7.5 is " &lt;&lt; square( 7.5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3549240"/>
              <a:ext cx="6780960" cy="236520"/>
              <a:chOff x="0" y="3549240"/>
              <a:chExt cx="6780960" cy="23652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35492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35492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ndl;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3785760"/>
              <a:ext cx="6780960" cy="236520"/>
              <a:chOff x="0" y="3785760"/>
              <a:chExt cx="6780960" cy="23652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3785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3785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4022640"/>
              <a:ext cx="6780960" cy="236520"/>
              <a:chOff x="0" y="4022640"/>
              <a:chExt cx="6780960" cy="23652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40226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40226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4259160"/>
              <a:ext cx="6780960" cy="236520"/>
              <a:chOff x="0" y="4259160"/>
              <a:chExt cx="6780960" cy="23652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4259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259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0" y="510552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integer 7 is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double 7.5 is 56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1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ct way to make overload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every formal type parameter (built in or user defi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 &lt; class T &gt;  // or template&lt; typename T 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quare( T value1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return value1 * value1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laced by type parameter in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square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, 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s becom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function templat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ers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72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5.11: fig15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a function templ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49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 maximum( T value1, T value2, T value3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 max = value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value2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value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value3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value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t1, int2, int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Input three integer value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int1 &gt;&gt; int2 &gt;&gt; int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maximum integer valu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0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maximum( int1, int2, int3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t ver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ers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ers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m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0" y="0"/>
            <a:ext cx="6780960" cy="4114440"/>
            <a:chOff x="0" y="0"/>
            <a:chExt cx="6780960" cy="4114440"/>
          </a:xfrm>
        </p:grpSpPr>
        <p:grpSp>
          <p:nvGrpSpPr>
            <p:cNvPr id="564" name=""/>
            <p:cNvGrpSpPr/>
            <p:nvPr/>
          </p:nvGrpSpPr>
          <p:grpSpPr>
            <a:xfrm>
              <a:off x="0" y="0"/>
              <a:ext cx="6780960" cy="225360"/>
              <a:chOff x="0" y="0"/>
              <a:chExt cx="6780960" cy="22536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225360"/>
              <a:ext cx="6780960" cy="225360"/>
              <a:chOff x="0" y="225360"/>
              <a:chExt cx="6780960" cy="22536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22536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22536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ouble1, double2, double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451080"/>
              <a:ext cx="6780960" cy="225720"/>
              <a:chOff x="0" y="451080"/>
              <a:chExt cx="6780960" cy="225720"/>
            </a:xfrm>
          </p:grpSpPr>
          <p:sp>
            <p:nvSpPr>
              <p:cNvPr id="571" name=""/>
              <p:cNvSpPr/>
              <p:nvPr/>
            </p:nvSpPr>
            <p:spPr>
              <a:xfrm>
                <a:off x="0" y="451080"/>
                <a:ext cx="6780960" cy="225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451080"/>
                <a:ext cx="6780960" cy="225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0" y="677160"/>
              <a:ext cx="6780960" cy="225360"/>
              <a:chOff x="0" y="677160"/>
              <a:chExt cx="6780960" cy="22536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67716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67716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Input three double value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0" y="902880"/>
              <a:ext cx="6780960" cy="225360"/>
              <a:chOff x="0" y="902880"/>
              <a:chExt cx="6780960" cy="22536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90288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90288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double1 &gt;&gt; double2 &gt;&gt; double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1128600"/>
              <a:ext cx="6780960" cy="225360"/>
              <a:chOff x="0" y="1128600"/>
              <a:chExt cx="6780960" cy="22536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112860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112860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maximum double valu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1354320"/>
              <a:ext cx="6780960" cy="277560"/>
              <a:chOff x="0" y="1354320"/>
              <a:chExt cx="6780960" cy="27756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135432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1354320"/>
                <a:ext cx="6780960" cy="277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maximum( double1, double2, double3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ouble ver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1631880"/>
              <a:ext cx="6780960" cy="225360"/>
              <a:chOff x="0" y="1631880"/>
              <a:chExt cx="6780960" cy="22536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163188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163188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1857600"/>
              <a:ext cx="6780960" cy="225360"/>
              <a:chOff x="0" y="1857600"/>
              <a:chExt cx="6780960" cy="22536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185760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185760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har1, char2, char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2083320"/>
              <a:ext cx="6780960" cy="225720"/>
              <a:chOff x="0" y="2083320"/>
              <a:chExt cx="6780960" cy="22572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2083320"/>
                <a:ext cx="6780960" cy="225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2083320"/>
                <a:ext cx="6780960" cy="225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2309040"/>
              <a:ext cx="6780960" cy="225360"/>
              <a:chOff x="0" y="2309040"/>
              <a:chExt cx="6780960" cy="22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230904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230904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Input three character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2534760"/>
              <a:ext cx="6780960" cy="225360"/>
              <a:chOff x="0" y="2534760"/>
              <a:chExt cx="6780960" cy="22536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253476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253476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char1 &gt;&gt; char2 &gt;&gt; char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2760480"/>
              <a:ext cx="6780960" cy="225360"/>
              <a:chOff x="0" y="2760480"/>
              <a:chExt cx="6780960" cy="22536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276048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276048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maximum character valu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2986200"/>
              <a:ext cx="6780960" cy="225720"/>
              <a:chOff x="0" y="2986200"/>
              <a:chExt cx="6780960" cy="22572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2986200"/>
                <a:ext cx="6780960" cy="225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2986200"/>
                <a:ext cx="6780960" cy="225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maximum( char1, char2, char3 )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har ver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3211920"/>
              <a:ext cx="6780960" cy="225360"/>
              <a:chOff x="0" y="3211920"/>
              <a:chExt cx="6780960" cy="22536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321192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321192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3437640"/>
              <a:ext cx="6780960" cy="225360"/>
              <a:chOff x="0" y="3437640"/>
              <a:chExt cx="6780960" cy="22536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343764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343764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3663360"/>
              <a:ext cx="6780960" cy="225360"/>
              <a:chOff x="0" y="3663360"/>
              <a:chExt cx="6780960" cy="22536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366336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366336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3889080"/>
              <a:ext cx="6780960" cy="225360"/>
              <a:chOff x="0" y="3889080"/>
              <a:chExt cx="6780960" cy="22536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388908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3889080"/>
                <a:ext cx="6780960" cy="22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"/>
          <p:cNvSpPr/>
          <p:nvPr/>
        </p:nvSpPr>
        <p:spPr>
          <a:xfrm>
            <a:off x="0" y="449568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three integer values: 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aximum integer value is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three double values: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aximum double value is: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three characters: A C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aximum character value is: 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++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roves on many of C's 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object-oriented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software quality and re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ed by Bjarne Stroustrup at Bell L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"C with class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(increment operator) - enhanced version of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erset of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a C++ compiler to compile C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lly evolve the C programs to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al version at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ansi.org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ee, older version at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cygnus.com/misc/wp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imple Program: Adding Two Intege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file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file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p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which we use)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x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upper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allows you to "comment out" a line by preceding i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// text to ign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input/output stream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ypes - all functions must declare their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oes not require it, but C++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in C++ can be declared almost any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, required to declare variables in a block, before any executabl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imple Program: Adding Two Integer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/Output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ed with stream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s sent to input/output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standard output stream (connected to sc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insertion operator ("put to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 &lt;&lt; "hi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prints it on the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standard input object (connected to keyboar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extraction operator ("get from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in &gt;&gt; myVariabl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 stream from keyboard and puts i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imple Program: Adding Two Integer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d::en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"end line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manipulator - prints a newline and flushes output 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ystems do not display output until "there is enough text to be worthwhi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end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ces text to be disp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us to remov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multip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s in a single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::cout &lt;&lt; "Hello " &lt;&lt; "there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++ Standard Library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s built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rogrammers use librar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arts to learning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arn the language it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arn the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your ow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: you know exactly how they 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: time consuming, difficult to maintain efficiency and design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1 Initialize variabl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1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2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, a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2 Pr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Enter first integer"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2.1 Get inpu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3 Pr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Enter second integer"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3.1 Get inpu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4 Add variables and put result into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5 Pr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Sum is"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5.1 Outpu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6 exit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6780960" cy="4343040"/>
            <a:chOff x="0" y="0"/>
            <a:chExt cx="6780960" cy="434304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6780960" cy="255240"/>
              <a:chOff x="0" y="0"/>
              <a:chExt cx="6780960" cy="255240"/>
            </a:xfrm>
          </p:grpSpPr>
          <p:sp>
            <p:nvSpPr>
              <p:cNvPr id="103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5.1: fig15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0" y="255240"/>
              <a:ext cx="6780960" cy="255240"/>
              <a:chOff x="0" y="255240"/>
              <a:chExt cx="6780960" cy="255240"/>
            </a:xfrm>
          </p:grpSpPr>
          <p:sp>
            <p:nvSpPr>
              <p:cNvPr id="106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ddition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0" y="510840"/>
              <a:ext cx="6780960" cy="255600"/>
              <a:chOff x="0" y="510840"/>
              <a:chExt cx="6780960" cy="255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0" y="766440"/>
              <a:ext cx="6780960" cy="255240"/>
              <a:chOff x="0" y="766440"/>
              <a:chExt cx="6780960" cy="25524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0" y="1021680"/>
              <a:ext cx="6780960" cy="255240"/>
              <a:chOff x="0" y="1021680"/>
              <a:chExt cx="6780960" cy="25524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0" y="1277280"/>
              <a:ext cx="6780960" cy="255240"/>
              <a:chOff x="0" y="1277280"/>
              <a:chExt cx="6780960" cy="25524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0" y="1532880"/>
              <a:ext cx="6780960" cy="255600"/>
              <a:chOff x="0" y="1532880"/>
              <a:chExt cx="6780960" cy="255600"/>
            </a:xfrm>
          </p:grpSpPr>
          <p:sp>
            <p:nvSpPr>
              <p:cNvPr id="121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teger1, integer2, sum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0" y="1788480"/>
              <a:ext cx="6780960" cy="255240"/>
              <a:chOff x="0" y="1788480"/>
              <a:chExt cx="6780960" cy="255240"/>
            </a:xfrm>
          </p:grpSpPr>
          <p:sp>
            <p:nvSpPr>
              <p:cNvPr id="124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0" y="2043720"/>
              <a:ext cx="6780960" cy="255240"/>
              <a:chOff x="0" y="2043720"/>
              <a:chExt cx="6780960" cy="25524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first integer\n"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2299320"/>
              <a:ext cx="6780960" cy="255240"/>
              <a:chOff x="0" y="2299320"/>
              <a:chExt cx="6780960" cy="25524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1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2554920"/>
              <a:ext cx="6780960" cy="255600"/>
              <a:chOff x="0" y="2554920"/>
              <a:chExt cx="6780960" cy="255600"/>
            </a:xfrm>
          </p:grpSpPr>
          <p:sp>
            <p:nvSpPr>
              <p:cNvPr id="133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second integer\n"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0" y="2810520"/>
              <a:ext cx="6780960" cy="255240"/>
              <a:chOff x="0" y="2810520"/>
              <a:chExt cx="6780960" cy="25524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2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0" y="3065760"/>
              <a:ext cx="6780960" cy="255240"/>
              <a:chOff x="0" y="3065760"/>
              <a:chExt cx="6780960" cy="25524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integer1 + integer2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assignment of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0" y="3321360"/>
              <a:ext cx="6780960" cy="255240"/>
              <a:chOff x="0" y="3321360"/>
              <a:chExt cx="6780960" cy="25524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Sum is " &lt;&lt; sum &lt;&lt; std::end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0" y="3576960"/>
              <a:ext cx="6780960" cy="255600"/>
              <a:chOff x="0" y="3576960"/>
              <a:chExt cx="6780960" cy="25560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3832560"/>
              <a:ext cx="6780960" cy="255240"/>
              <a:chOff x="0" y="3832560"/>
              <a:chExt cx="6780960" cy="25524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0" y="4087800"/>
              <a:ext cx="6780960" cy="255240"/>
              <a:chOff x="0" y="4087800"/>
              <a:chExt cx="6780960" cy="25524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0" y="56707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first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cond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standard library has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function prototypes, data type definitions, and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s ending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"old-style" head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defined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your own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it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"myFile.h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other files to load your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9:42:36Z</dcterms:created>
  <dc:creator>kalid</dc:creator>
  <dc:description/>
  <dc:language>en-US</dc:language>
  <cp:lastModifiedBy>kalid</cp:lastModifiedBy>
  <dcterms:modified xsi:type="dcterms:W3CDTF">2000-08-03T19:10:51Z</dcterms:modified>
  <cp:revision>151</cp:revision>
  <dc:subject/>
  <dc:title>PowerPoint Presentation</dc:title>
</cp:coreProperties>
</file>