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D26F-DD86-4508-8EC8-01BCD98C5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7518-A59A-46A4-B6EB-9BFDB92F2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AD9A-9523-4211-9FC6-DD37622C8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4CA5-5FB9-46D4-BA2E-9A2F6419E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90D0-41BD-46FA-8A14-C915F4507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B75E-B7B1-4D9F-97D7-0CEB37480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7DE7-00B5-4C32-B2E8-D5261403C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CCA8-ADF7-476B-A05E-97443953E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CBD3-1572-4A24-973F-461ECEAA2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6A7F-2EDD-48FD-B936-B9C7670C6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896D-1305-4769-BD40-2E52BE39A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C1F9-0AFA-4E92-AD61-7F6D64633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4011-01DE-421D-B6E1-DABEC2E1C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- Inheritance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heritance: Base Classes and Derive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Protected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ting Base-Class Pointers to Derived-Class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6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Overriding Base-Class Members in a Derive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7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Public, Protected and Private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8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Direct Base Classes and Indirect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9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Constructors and Destructors in Derive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0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mplicit Derived-Class Object to Base-Class Object 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Software Engineering with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omposition vs.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“Uses A” and “Knows A”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e Study: Point, Circle,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208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Point (with overloaded stream insertion operato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0" y="2133720"/>
            <a:ext cx="6780960" cy="4723920"/>
            <a:chOff x="0" y="2133720"/>
            <a:chExt cx="6780960" cy="4723920"/>
          </a:xfrm>
        </p:grpSpPr>
        <p:grpSp>
          <p:nvGrpSpPr>
            <p:cNvPr id="239" name=""/>
            <p:cNvGrpSpPr/>
            <p:nvPr/>
          </p:nvGrpSpPr>
          <p:grpSpPr>
            <a:xfrm>
              <a:off x="0" y="2133720"/>
              <a:ext cx="6780960" cy="224640"/>
              <a:chOff x="0" y="2133720"/>
              <a:chExt cx="6780960" cy="22464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4: circle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358360"/>
              <a:ext cx="6780960" cy="224640"/>
              <a:chOff x="0" y="2358360"/>
              <a:chExt cx="6780960" cy="22464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583360"/>
              <a:ext cx="6780960" cy="225000"/>
              <a:chOff x="0" y="2583360"/>
              <a:chExt cx="6780960" cy="22500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2808360"/>
              <a:ext cx="6780960" cy="224640"/>
              <a:chOff x="0" y="2808360"/>
              <a:chExt cx="6780960" cy="22464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033360"/>
              <a:ext cx="6780960" cy="224640"/>
              <a:chOff x="0" y="3033360"/>
              <a:chExt cx="6780960" cy="22464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3258360"/>
              <a:ext cx="6780960" cy="224640"/>
              <a:chOff x="0" y="3258360"/>
              <a:chExt cx="6780960" cy="22464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3483360"/>
              <a:ext cx="6780960" cy="225000"/>
              <a:chOff x="0" y="3483360"/>
              <a:chExt cx="6780960" cy="22500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3708360"/>
              <a:ext cx="6780960" cy="224640"/>
              <a:chOff x="0" y="3708360"/>
              <a:chExt cx="6780960" cy="22464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3933360"/>
              <a:ext cx="6780960" cy="224640"/>
              <a:chOff x="0" y="3933360"/>
              <a:chExt cx="6780960" cy="22464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4158360"/>
              <a:ext cx="6780960" cy="224640"/>
              <a:chOff x="0" y="4158360"/>
              <a:chExt cx="6780960" cy="22464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4383360"/>
              <a:ext cx="6780960" cy="225000"/>
              <a:chOff x="0" y="4383360"/>
              <a:chExt cx="6780960" cy="22500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4608360"/>
              <a:ext cx="6780960" cy="224640"/>
              <a:chOff x="0" y="4608360"/>
              <a:chExt cx="6780960" cy="22464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4833360"/>
              <a:ext cx="6780960" cy="224640"/>
              <a:chOff x="0" y="4833360"/>
              <a:chExt cx="6780960" cy="22464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5058360"/>
              <a:ext cx="6780960" cy="224640"/>
              <a:chOff x="0" y="5058360"/>
              <a:chExt cx="6780960" cy="22464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5283000"/>
              <a:ext cx="6780960" cy="225000"/>
              <a:chOff x="0" y="5283000"/>
              <a:chExt cx="6780960" cy="22500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5508360"/>
              <a:ext cx="6780960" cy="224640"/>
              <a:chOff x="0" y="5508360"/>
              <a:chExt cx="6780960" cy="22464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5733360"/>
              <a:ext cx="6780960" cy="224640"/>
              <a:chOff x="0" y="5733360"/>
              <a:chExt cx="6780960" cy="22464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5958000"/>
              <a:ext cx="6780960" cy="224640"/>
              <a:chOff x="0" y="5958000"/>
              <a:chExt cx="6780960" cy="22464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 inherits from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6183000"/>
              <a:ext cx="6780960" cy="224640"/>
              <a:chOff x="0" y="6183000"/>
              <a:chExt cx="6780960" cy="22464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6408000"/>
              <a:ext cx="6780960" cy="225000"/>
              <a:chOff x="0" y="6408000"/>
              <a:chExt cx="6780960" cy="22500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6633000"/>
              <a:ext cx="6780960" cy="224640"/>
              <a:chOff x="0" y="6633000"/>
              <a:chExt cx="6780960" cy="22464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4" name=""/>
            <p:cNvGrpSpPr/>
            <p:nvPr/>
          </p:nvGrpSpPr>
          <p:grpSpPr>
            <a:xfrm>
              <a:off x="0" y="0"/>
              <a:ext cx="6780960" cy="2742840"/>
              <a:chOff x="0" y="0"/>
              <a:chExt cx="6780960" cy="27428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0" y="0"/>
                <a:ext cx="6780960" cy="273960"/>
                <a:chOff x="0" y="0"/>
                <a:chExt cx="6780960" cy="273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0" y="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0" y="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0" y="273960"/>
                <a:ext cx="6780960" cy="273960"/>
                <a:chOff x="0" y="273960"/>
                <a:chExt cx="6780960" cy="273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0" y="27396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0" y="27396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0" y="548280"/>
                <a:ext cx="6780960" cy="274320"/>
                <a:chOff x="0" y="548280"/>
                <a:chExt cx="6780960" cy="274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0" y="548280"/>
                  <a:ext cx="6780960" cy="2743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0" y="548280"/>
                  <a:ext cx="6780960" cy="2743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Radius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et radi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0" y="822960"/>
                <a:ext cx="6780960" cy="273960"/>
                <a:chOff x="0" y="822960"/>
                <a:chExt cx="6780960" cy="273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0" y="82296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0" y="82296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Radius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return radi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0" y="1097280"/>
                <a:ext cx="6780960" cy="273960"/>
                <a:chOff x="0" y="1097280"/>
                <a:chExt cx="6780960" cy="273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0" y="109728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0" y="109728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area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calculate are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0" y="1371600"/>
                <a:ext cx="6780960" cy="273960"/>
                <a:chOff x="0" y="1371600"/>
                <a:chExt cx="6780960" cy="273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0" y="137160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0" y="137160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otected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0" y="1645920"/>
                <a:ext cx="6780960" cy="274320"/>
                <a:chOff x="0" y="1645920"/>
                <a:chExt cx="6780960" cy="274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0" y="1645920"/>
                  <a:ext cx="6780960" cy="2743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0" y="1645920"/>
                  <a:ext cx="6780960" cy="2743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0" y="1920240"/>
                <a:ext cx="6780960" cy="273960"/>
                <a:chOff x="0" y="1920240"/>
                <a:chExt cx="6780960" cy="273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0" y="192024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0" y="192024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0" y="2194560"/>
                <a:ext cx="6780960" cy="273960"/>
                <a:chOff x="0" y="2194560"/>
                <a:chExt cx="6780960" cy="273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0" y="219456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0" y="219456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0" y="2468880"/>
                <a:ext cx="6780960" cy="273960"/>
                <a:chOff x="0" y="2468880"/>
                <a:chExt cx="6780960" cy="273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0" y="2468880"/>
                  <a:ext cx="678096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0" y="2468880"/>
                  <a:ext cx="6780600" cy="273960"/>
                  <a:chOff x="0" y="2468880"/>
                  <a:chExt cx="6780600" cy="2739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0" y="2468880"/>
                    <a:ext cx="6780600" cy="273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74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33cc33"/>
                        </a:solidFill>
                        <a:latin typeface="Courier New"/>
                        <a:ea typeface="Times New Roman"/>
                      </a:rPr>
                      <a:t>#endi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0" y="2468880"/>
                    <a:ext cx="67806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7" name=""/>
            <p:cNvGrpSpPr/>
            <p:nvPr/>
          </p:nvGrpSpPr>
          <p:grpSpPr>
            <a:xfrm>
              <a:off x="0" y="2743200"/>
              <a:ext cx="6780960" cy="4114800"/>
              <a:chOff x="0" y="2743200"/>
              <a:chExt cx="6780960" cy="41148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0" y="2743200"/>
                <a:ext cx="6780960" cy="293760"/>
                <a:chOff x="0" y="2743200"/>
                <a:chExt cx="6780960" cy="2937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0" y="274320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0" y="274320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4: circl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0" y="3036960"/>
                <a:ext cx="6780960" cy="293760"/>
                <a:chOff x="0" y="3036960"/>
                <a:chExt cx="6780960" cy="2937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0" y="303696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0" y="303696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Member function definitions for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0" y="3330720"/>
                <a:ext cx="6780960" cy="293760"/>
                <a:chOff x="0" y="3330720"/>
                <a:chExt cx="6780960" cy="2937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0" y="333072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0" y="333072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circl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0" y="3624840"/>
                <a:ext cx="6780960" cy="293760"/>
                <a:chOff x="0" y="3624840"/>
                <a:chExt cx="6780960" cy="2937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0" y="362484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0" y="362484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0" y="3918600"/>
                <a:ext cx="6780960" cy="293760"/>
                <a:chOff x="0" y="3918600"/>
                <a:chExt cx="6780960" cy="2937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0" y="391860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0" y="391860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onstructor for Circle calls constructor for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0" y="4212720"/>
                <a:ext cx="6780960" cy="293760"/>
                <a:chOff x="0" y="4212720"/>
                <a:chExt cx="6780960" cy="293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0" y="421272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0" y="421272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with a member initializer then initializes radiu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0" y="4506480"/>
                <a:ext cx="6780960" cy="293760"/>
                <a:chOff x="0" y="4506480"/>
                <a:chExt cx="6780960" cy="293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0" y="450648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0" y="450648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Circle::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a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b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0" y="4800600"/>
                <a:ext cx="6780960" cy="293760"/>
                <a:chOff x="0" y="4800600"/>
                <a:chExt cx="6780960" cy="293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0" y="480060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0" y="480060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: Point( a, b )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base-class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0" y="5094360"/>
                <a:ext cx="6780960" cy="293760"/>
                <a:chOff x="0" y="5094360"/>
                <a:chExt cx="6780960" cy="2937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0" y="509436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0" y="509436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 setRadius( r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0" y="5388480"/>
                <a:ext cx="6780960" cy="293760"/>
                <a:chOff x="0" y="5388480"/>
                <a:chExt cx="6780960" cy="2937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0" y="538848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0" y="538848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0" y="5682240"/>
                <a:ext cx="6780960" cy="293760"/>
                <a:chOff x="0" y="5682240"/>
                <a:chExt cx="6780960" cy="2937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0" y="568224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0" y="568224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et radius of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0" y="5976360"/>
                <a:ext cx="6780960" cy="293760"/>
                <a:chOff x="0" y="5976360"/>
                <a:chExt cx="6780960" cy="2937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0" y="597636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0" y="597636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::setRadius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0" y="6270120"/>
                <a:ext cx="6780960" cy="293760"/>
                <a:chOff x="0" y="6270120"/>
                <a:chExt cx="6780960" cy="2937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0" y="627012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0" y="627012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{ radius = ( r &gt;= 0 ? r : 0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0" y="6564240"/>
                <a:ext cx="6780960" cy="293760"/>
                <a:chOff x="0" y="6564240"/>
                <a:chExt cx="6780960" cy="293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0" y="656424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0" y="6564240"/>
                  <a:ext cx="6780960" cy="293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riv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0"/>
            <a:ext cx="6780960" cy="3581280"/>
            <a:chOff x="0" y="0"/>
            <a:chExt cx="6780960" cy="3581280"/>
          </a:xfrm>
        </p:grpSpPr>
        <p:grpSp>
          <p:nvGrpSpPr>
            <p:cNvPr id="382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0" y="397800"/>
              <a:ext cx="6780960" cy="198720"/>
              <a:chOff x="0" y="397800"/>
              <a:chExt cx="6780960" cy="19872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596880"/>
              <a:ext cx="6780960" cy="198720"/>
              <a:chOff x="0" y="596880"/>
              <a:chExt cx="6780960" cy="19872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795600"/>
              <a:ext cx="6780960" cy="198720"/>
              <a:chOff x="0" y="795600"/>
              <a:chExt cx="6780960" cy="19872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994680"/>
              <a:ext cx="6780960" cy="198720"/>
              <a:chOff x="0" y="994680"/>
              <a:chExt cx="6780960" cy="19872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1193760"/>
              <a:ext cx="6780960" cy="198720"/>
              <a:chOff x="0" y="1193760"/>
              <a:chExt cx="6780960" cy="19872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1392840"/>
              <a:ext cx="6780960" cy="198720"/>
              <a:chOff x="0" y="1392840"/>
              <a:chExt cx="6780960" cy="19872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591560"/>
              <a:ext cx="6780960" cy="198720"/>
              <a:chOff x="0" y="1591560"/>
              <a:chExt cx="6780960" cy="19872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790640"/>
              <a:ext cx="6780960" cy="198720"/>
              <a:chOff x="0" y="1790640"/>
              <a:chExt cx="6780960" cy="19872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989360"/>
              <a:ext cx="6780960" cy="198720"/>
              <a:chOff x="0" y="1989360"/>
              <a:chExt cx="6780960" cy="19872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2188440"/>
              <a:ext cx="6780960" cy="198720"/>
              <a:chOff x="0" y="2188440"/>
              <a:chExt cx="6780960" cy="19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( 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2387520"/>
              <a:ext cx="6780960" cy="198720"/>
              <a:chOff x="0" y="2387520"/>
              <a:chExt cx="6780960" cy="19872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586600"/>
              <a:ext cx="6780960" cy="198720"/>
              <a:chOff x="0" y="2586600"/>
              <a:chExt cx="6780960" cy="19872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785320"/>
              <a:ext cx="6780960" cy="198720"/>
              <a:chOff x="0" y="2785320"/>
              <a:chExt cx="6780960" cy="1987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984400"/>
              <a:ext cx="6780960" cy="198720"/>
              <a:chOff x="0" y="2984400"/>
              <a:chExt cx="6780960" cy="1987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3183480"/>
              <a:ext cx="6780960" cy="198720"/>
              <a:chOff x="0" y="3183480"/>
              <a:chExt cx="6780960" cy="19872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3382560"/>
              <a:ext cx="6780960" cy="198720"/>
              <a:chOff x="0" y="3382560"/>
              <a:chExt cx="6780960" cy="19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0" y="3581280"/>
            <a:ext cx="6780960" cy="3276720"/>
            <a:chOff x="0" y="3581280"/>
            <a:chExt cx="6780960" cy="3276720"/>
          </a:xfrm>
        </p:grpSpPr>
        <p:grpSp>
          <p:nvGrpSpPr>
            <p:cNvPr id="437" name=""/>
            <p:cNvGrpSpPr/>
            <p:nvPr/>
          </p:nvGrpSpPr>
          <p:grpSpPr>
            <a:xfrm>
              <a:off x="0" y="3581280"/>
              <a:ext cx="6780960" cy="218160"/>
              <a:chOff x="0" y="3581280"/>
              <a:chExt cx="6780960" cy="21816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4: fig19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3799440"/>
              <a:ext cx="6780960" cy="218160"/>
              <a:chOff x="0" y="3799440"/>
              <a:chExt cx="6780960" cy="2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ting base-class pointers to derived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4017960"/>
              <a:ext cx="6780960" cy="218520"/>
              <a:chOff x="0" y="4017960"/>
              <a:chExt cx="6780960" cy="21852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4236480"/>
              <a:ext cx="6780960" cy="218160"/>
              <a:chOff x="0" y="4236480"/>
              <a:chExt cx="6780960" cy="21816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4455000"/>
              <a:ext cx="6780960" cy="218160"/>
              <a:chOff x="0" y="4455000"/>
              <a:chExt cx="6780960" cy="21816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4673520"/>
              <a:ext cx="6780960" cy="218160"/>
              <a:chOff x="0" y="4673520"/>
              <a:chExt cx="6780960" cy="21816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891680"/>
              <a:ext cx="6780960" cy="218520"/>
              <a:chOff x="0" y="4891680"/>
              <a:chExt cx="6780960" cy="21852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5110200"/>
              <a:ext cx="6780960" cy="218160"/>
              <a:chOff x="0" y="5110200"/>
              <a:chExt cx="6780960" cy="21816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5328720"/>
              <a:ext cx="6780960" cy="218160"/>
              <a:chOff x="0" y="5328720"/>
              <a:chExt cx="6780960" cy="21816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5547240"/>
              <a:ext cx="6780960" cy="218160"/>
              <a:chOff x="0" y="5547240"/>
              <a:chExt cx="6780960" cy="21816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5765760"/>
              <a:ext cx="6780960" cy="218520"/>
              <a:chOff x="0" y="5765760"/>
              <a:chExt cx="6780960" cy="21852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984280"/>
              <a:ext cx="6780960" cy="218160"/>
              <a:chOff x="0" y="5984280"/>
              <a:chExt cx="6780960" cy="21816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6202800"/>
              <a:ext cx="6780960" cy="218160"/>
              <a:chOff x="0" y="6202800"/>
              <a:chExt cx="6780960" cy="21816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6420960"/>
              <a:ext cx="6780960" cy="218160"/>
              <a:chOff x="0" y="6420960"/>
              <a:chExt cx="6780960" cy="21816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6639480"/>
              <a:ext cx="6780960" cy="218520"/>
              <a:chOff x="0" y="6639480"/>
              <a:chExt cx="6780960" cy="21852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*pointPtr = 0, p( 30, 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Assign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84" name=""/>
            <p:cNvGrpSpPr/>
            <p:nvPr/>
          </p:nvGrpSpPr>
          <p:grpSpPr>
            <a:xfrm>
              <a:off x="0" y="3200400"/>
              <a:ext cx="6780960" cy="3657240"/>
              <a:chOff x="0" y="3200400"/>
              <a:chExt cx="6780960" cy="36572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0" y="3200400"/>
                <a:ext cx="6780960" cy="261000"/>
                <a:chOff x="0" y="3200400"/>
                <a:chExt cx="6780960" cy="2610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circlePtr):\n" &lt;&lt; *circlePt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0" y="3461400"/>
                <a:ext cx="6780960" cy="261000"/>
                <a:chOff x="0" y="3461400"/>
                <a:chExt cx="6780960" cy="26100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c (via circlePtr)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0" y="3722760"/>
                <a:ext cx="6780960" cy="261360"/>
                <a:chOff x="0" y="3722760"/>
                <a:chExt cx="6780960" cy="261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0" y="3984120"/>
                <a:ext cx="6780960" cy="261000"/>
                <a:chOff x="0" y="3984120"/>
                <a:chExt cx="6780960" cy="2610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0" y="4245480"/>
                <a:ext cx="6780960" cy="261000"/>
                <a:chOff x="0" y="4245480"/>
                <a:chExt cx="6780960" cy="2610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ANGEROUS: Treat a Point as a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0" y="4506480"/>
                <a:ext cx="6780960" cy="261000"/>
                <a:chOff x="0" y="4506480"/>
                <a:chExt cx="6780960" cy="2610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p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Point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4767840"/>
                <a:ext cx="6780960" cy="261360"/>
                <a:chOff x="0" y="4767840"/>
                <a:chExt cx="6780960" cy="2613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0" y="5029200"/>
                <a:ext cx="6780960" cy="261000"/>
                <a:chOff x="0" y="5029200"/>
                <a:chExt cx="6780960" cy="2610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0" y="5290560"/>
                <a:ext cx="6780960" cy="261000"/>
                <a:chOff x="0" y="5290560"/>
                <a:chExt cx="6780960" cy="2610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0" y="5551560"/>
                <a:ext cx="6780960" cy="261000"/>
                <a:chOff x="0" y="5551560"/>
                <a:chExt cx="6780960" cy="26100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Point p (via *circlePtr):\n" &lt;&lt; *circle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0" y="5812920"/>
                <a:ext cx="6780960" cy="261360"/>
                <a:chOff x="0" y="5812920"/>
                <a:chExt cx="6780960" cy="2613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object circlePtr points to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0" y="6074280"/>
                <a:ext cx="6780960" cy="261000"/>
                <a:chOff x="0" y="6074280"/>
                <a:chExt cx="6780960" cy="26100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0" y="6335640"/>
                <a:ext cx="6780960" cy="261000"/>
                <a:chOff x="0" y="6335640"/>
                <a:chExt cx="6780960" cy="2610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0" y="6596640"/>
                <a:ext cx="6780960" cy="261000"/>
                <a:chOff x="0" y="6596640"/>
                <a:chExt cx="6780960" cy="2610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0" y="0"/>
              <a:ext cx="6780960" cy="3200040"/>
              <a:chOff x="0" y="0"/>
              <a:chExt cx="6780960" cy="32000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0" y="0"/>
                <a:ext cx="6780960" cy="266400"/>
                <a:chOff x="0" y="0"/>
                <a:chExt cx="6780960" cy="2664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 *circlePtr = 0, c( 2.7, 120, 89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0" y="266400"/>
                <a:ext cx="6780960" cy="266400"/>
                <a:chOff x="0" y="266400"/>
                <a:chExt cx="6780960" cy="2664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0" y="533160"/>
                <a:ext cx="6780960" cy="266760"/>
                <a:chOff x="0" y="533160"/>
                <a:chExt cx="6780960" cy="2667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p: " &lt;&lt; p &lt;&lt; "\nCircle c: " &lt;&lt; c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0" y="799920"/>
                <a:ext cx="6780960" cy="266400"/>
                <a:chOff x="0" y="799920"/>
                <a:chExt cx="6780960" cy="2664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0" y="1066680"/>
                <a:ext cx="6780960" cy="266400"/>
                <a:chOff x="0" y="1066680"/>
                <a:chExt cx="6780960" cy="2664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Point (see only the base class par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0" y="1333440"/>
                <a:ext cx="6780960" cy="266400"/>
                <a:chOff x="0" y="1333440"/>
                <a:chExt cx="6780960" cy="2664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c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Circle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0" y="1600200"/>
                <a:ext cx="6780960" cy="266760"/>
                <a:chOff x="0" y="1600200"/>
                <a:chExt cx="6780960" cy="2667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pointPtr): "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0" y="1866960"/>
                <a:ext cx="6780960" cy="266400"/>
                <a:chOff x="0" y="1866960"/>
                <a:chExt cx="6780960" cy="266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*pointPtr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0" y="2133720"/>
                <a:ext cx="6780960" cy="266400"/>
                <a:chOff x="0" y="2133720"/>
                <a:chExt cx="6780960" cy="266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0" y="2400120"/>
                <a:ext cx="6780960" cy="266400"/>
                <a:chOff x="0" y="2400120"/>
                <a:chExt cx="6780960" cy="2664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Circle (with some castin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0" y="2666880"/>
                <a:ext cx="6780960" cy="266760"/>
                <a:chOff x="0" y="2666880"/>
                <a:chExt cx="6780960" cy="26676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0" y="2933640"/>
                <a:ext cx="6780960" cy="266400"/>
                <a:chOff x="0" y="2933640"/>
                <a:chExt cx="6780960" cy="26640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5     Using Member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irect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s of it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s is a huge help in testing, debugging and correctly modify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6   Overriding Base-Class Members in a Derived Clas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rived class, supply new version of tha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-resolution operator may be used to access the base class version from the derive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3200400"/>
            <a:chOff x="0" y="0"/>
            <a:chExt cx="6780960" cy="320040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199800"/>
              <a:chOff x="0" y="0"/>
              <a:chExt cx="6780960" cy="19980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5: emplo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199800"/>
              <a:ext cx="6780960" cy="199800"/>
              <a:chOff x="0" y="199800"/>
              <a:chExt cx="6780960" cy="19980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399960"/>
              <a:ext cx="6780960" cy="199800"/>
              <a:chOff x="0" y="399960"/>
              <a:chExt cx="6780960" cy="1998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600120"/>
              <a:ext cx="6780960" cy="199800"/>
              <a:chOff x="0" y="600120"/>
              <a:chExt cx="6780960" cy="19980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799920"/>
              <a:ext cx="6780960" cy="199800"/>
              <a:chOff x="0" y="799920"/>
              <a:chExt cx="6780960" cy="19980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000080"/>
              <a:ext cx="6780960" cy="199800"/>
              <a:chOff x="0" y="1000080"/>
              <a:chExt cx="6780960" cy="19980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199880"/>
              <a:ext cx="6780960" cy="199800"/>
              <a:chOff x="0" y="1199880"/>
              <a:chExt cx="6780960" cy="1998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400040"/>
              <a:ext cx="6780960" cy="199800"/>
              <a:chOff x="0" y="1400040"/>
              <a:chExt cx="6780960" cy="19980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1600200"/>
              <a:ext cx="6780960" cy="199800"/>
              <a:chOff x="0" y="1600200"/>
              <a:chExt cx="6780960" cy="19980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 first and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1800000"/>
              <a:ext cx="6780960" cy="199800"/>
              <a:chOff x="0" y="1800000"/>
              <a:chExt cx="6780960" cy="1998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000160"/>
              <a:ext cx="6780960" cy="199800"/>
              <a:chOff x="0" y="2000160"/>
              <a:chExt cx="6780960" cy="1998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200320"/>
              <a:ext cx="6780960" cy="199800"/>
              <a:chOff x="0" y="2200320"/>
              <a:chExt cx="6780960" cy="19980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2400120"/>
              <a:ext cx="6780960" cy="199800"/>
              <a:chOff x="0" y="2400120"/>
              <a:chExt cx="6780960" cy="19980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2600280"/>
              <a:ext cx="6780960" cy="199800"/>
              <a:chOff x="0" y="2600280"/>
              <a:chExt cx="6780960" cy="19980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2800440"/>
              <a:ext cx="6780960" cy="199800"/>
              <a:chOff x="0" y="2800440"/>
              <a:chExt cx="6780960" cy="1998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3000600"/>
              <a:ext cx="6780960" cy="199800"/>
              <a:chOff x="0" y="3000600"/>
              <a:chExt cx="6780960" cy="19980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30006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0" y="3000600"/>
                <a:ext cx="6780600" cy="199800"/>
                <a:chOff x="0" y="3000600"/>
                <a:chExt cx="6780600" cy="1998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2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623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5: emplo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0" y="0"/>
            <a:ext cx="6705000" cy="3733920"/>
            <a:chOff x="0" y="0"/>
            <a:chExt cx="6705000" cy="3733920"/>
          </a:xfrm>
        </p:grpSpPr>
        <p:grpSp>
          <p:nvGrpSpPr>
            <p:cNvPr id="673" name=""/>
            <p:cNvGrpSpPr/>
            <p:nvPr/>
          </p:nvGrpSpPr>
          <p:grpSpPr>
            <a:xfrm>
              <a:off x="0" y="0"/>
              <a:ext cx="6705000" cy="207360"/>
              <a:chOff x="0" y="0"/>
              <a:chExt cx="6705000" cy="20736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207360"/>
              <a:ext cx="6705000" cy="207360"/>
              <a:chOff x="0" y="207360"/>
              <a:chExt cx="6705000" cy="20736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0" y="414720"/>
              <a:ext cx="6705000" cy="207360"/>
              <a:chOff x="0" y="414720"/>
              <a:chExt cx="6705000" cy="207360"/>
            </a:xfrm>
          </p:grpSpPr>
          <p:sp>
            <p:nvSpPr>
              <p:cNvPr id="680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0" y="622080"/>
              <a:ext cx="6705000" cy="207360"/>
              <a:chOff x="0" y="622080"/>
              <a:chExt cx="6705000" cy="207360"/>
            </a:xfrm>
          </p:grpSpPr>
          <p:sp>
            <p:nvSpPr>
              <p:cNvPr id="683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0" y="829800"/>
              <a:ext cx="6705000" cy="207360"/>
              <a:chOff x="0" y="829800"/>
              <a:chExt cx="6705000" cy="20736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1037160"/>
              <a:ext cx="6705000" cy="207360"/>
              <a:chOff x="0" y="1037160"/>
              <a:chExt cx="6705000" cy="20736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1244520"/>
              <a:ext cx="6705000" cy="207360"/>
              <a:chOff x="0" y="1244520"/>
              <a:chExt cx="6705000" cy="20736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1451880"/>
              <a:ext cx="6705000" cy="207360"/>
              <a:chOff x="0" y="1451880"/>
              <a:chExt cx="6705000" cy="20736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659600"/>
              <a:ext cx="6705000" cy="207360"/>
              <a:chOff x="0" y="1659600"/>
              <a:chExt cx="6705000" cy="20736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employee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1866960"/>
              <a:ext cx="6705000" cy="207360"/>
              <a:chOff x="0" y="1866960"/>
              <a:chExt cx="6705000" cy="20736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2074320"/>
              <a:ext cx="6705000" cy="207360"/>
              <a:chOff x="0" y="2074320"/>
              <a:chExt cx="6705000" cy="20736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2282040"/>
              <a:ext cx="6705000" cy="207360"/>
              <a:chOff x="0" y="2282040"/>
              <a:chExt cx="6705000" cy="20736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2489400"/>
              <a:ext cx="6705000" cy="207360"/>
              <a:chOff x="0" y="2489400"/>
              <a:chExt cx="6705000" cy="20736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2696760"/>
              <a:ext cx="6705000" cy="207360"/>
              <a:chOff x="0" y="2696760"/>
              <a:chExt cx="6705000" cy="20736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2904120"/>
              <a:ext cx="6705000" cy="207360"/>
              <a:chOff x="0" y="2904120"/>
              <a:chExt cx="6705000" cy="20736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3111840"/>
              <a:ext cx="6705000" cy="207360"/>
              <a:chOff x="0" y="3111840"/>
              <a:chExt cx="6705000" cy="20736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3319200"/>
              <a:ext cx="6705000" cy="207360"/>
              <a:chOff x="0" y="3319200"/>
              <a:chExt cx="6705000" cy="20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3526560"/>
              <a:ext cx="6705000" cy="207360"/>
              <a:chOff x="0" y="3526560"/>
              <a:chExt cx="6705000" cy="20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0" y="3733920"/>
            <a:ext cx="6705000" cy="3124080"/>
            <a:chOff x="0" y="3733920"/>
            <a:chExt cx="6705000" cy="3124080"/>
          </a:xfrm>
        </p:grpSpPr>
        <p:grpSp>
          <p:nvGrpSpPr>
            <p:cNvPr id="728" name=""/>
            <p:cNvGrpSpPr/>
            <p:nvPr/>
          </p:nvGrpSpPr>
          <p:grpSpPr>
            <a:xfrm>
              <a:off x="0" y="3733920"/>
              <a:ext cx="6705000" cy="240120"/>
              <a:chOff x="0" y="3733920"/>
              <a:chExt cx="6705000" cy="24012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5: hourl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3974040"/>
              <a:ext cx="6705000" cy="240120"/>
              <a:chOff x="0" y="3974040"/>
              <a:chExt cx="6705000" cy="24012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4214160"/>
              <a:ext cx="6705000" cy="240120"/>
              <a:chOff x="0" y="4214160"/>
              <a:chExt cx="6705000" cy="24012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4454640"/>
              <a:ext cx="6705000" cy="240120"/>
              <a:chOff x="0" y="4454640"/>
              <a:chExt cx="6705000" cy="24012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695120"/>
              <a:ext cx="6705000" cy="240120"/>
              <a:chOff x="0" y="4695120"/>
              <a:chExt cx="6705000" cy="24012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4935240"/>
              <a:ext cx="6705000" cy="240120"/>
              <a:chOff x="0" y="4935240"/>
              <a:chExt cx="6705000" cy="24012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5175720"/>
              <a:ext cx="6705000" cy="240120"/>
              <a:chOff x="0" y="5175720"/>
              <a:chExt cx="6705000" cy="24012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5416200"/>
              <a:ext cx="6705000" cy="240120"/>
              <a:chOff x="0" y="5416200"/>
              <a:chExt cx="6705000" cy="24012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5656320"/>
              <a:ext cx="6705000" cy="240120"/>
              <a:chOff x="0" y="5656320"/>
              <a:chExt cx="6705000" cy="24012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5896800"/>
              <a:ext cx="6705000" cy="240120"/>
              <a:chOff x="0" y="5896800"/>
              <a:chExt cx="6705000" cy="24012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6136920"/>
              <a:ext cx="6705000" cy="240120"/>
              <a:chOff x="0" y="6136920"/>
              <a:chExt cx="6705000" cy="24012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6377400"/>
              <a:ext cx="6705000" cy="240120"/>
              <a:chOff x="0" y="6377400"/>
              <a:chExt cx="6705000" cy="24012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den base-class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6617880"/>
              <a:ext cx="6705000" cy="240120"/>
              <a:chOff x="0" y="6617880"/>
              <a:chExt cx="6705000" cy="24012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362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769" name=""/>
            <p:cNvGrpSpPr/>
            <p:nvPr/>
          </p:nvGrpSpPr>
          <p:grpSpPr>
            <a:xfrm>
              <a:off x="0" y="0"/>
              <a:ext cx="6780960" cy="198000"/>
              <a:chOff x="0" y="0"/>
              <a:chExt cx="6780960" cy="19800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198000"/>
              <a:ext cx="6780960" cy="198000"/>
              <a:chOff x="0" y="198000"/>
              <a:chExt cx="6780960" cy="19800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396000"/>
              <a:ext cx="6780960" cy="198000"/>
              <a:chOff x="0" y="396000"/>
              <a:chExt cx="6780960" cy="19800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594360"/>
              <a:ext cx="6780960" cy="198000"/>
              <a:chOff x="0" y="594360"/>
              <a:chExt cx="6780960" cy="19800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792720"/>
              <a:ext cx="6780960" cy="198000"/>
              <a:chOff x="0" y="792720"/>
              <a:chExt cx="6780960" cy="19800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4" name=""/>
          <p:cNvGrpSpPr/>
          <p:nvPr/>
        </p:nvGrpSpPr>
        <p:grpSpPr>
          <a:xfrm>
            <a:off x="0" y="990720"/>
            <a:ext cx="6780960" cy="5867280"/>
            <a:chOff x="0" y="990720"/>
            <a:chExt cx="6780960" cy="5867280"/>
          </a:xfrm>
        </p:grpSpPr>
        <p:grpSp>
          <p:nvGrpSpPr>
            <p:cNvPr id="785" name=""/>
            <p:cNvGrpSpPr/>
            <p:nvPr/>
          </p:nvGrpSpPr>
          <p:grpSpPr>
            <a:xfrm>
              <a:off x="0" y="990720"/>
              <a:ext cx="6780960" cy="217080"/>
              <a:chOff x="0" y="990720"/>
              <a:chExt cx="6780960" cy="21708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5: hourl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1207800"/>
              <a:ext cx="6780960" cy="217080"/>
              <a:chOff x="0" y="1207800"/>
              <a:chExt cx="6780960" cy="21708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1425240"/>
              <a:ext cx="6780960" cy="217080"/>
              <a:chOff x="0" y="1425240"/>
              <a:chExt cx="6780960" cy="21708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1642680"/>
              <a:ext cx="6780960" cy="217080"/>
              <a:chOff x="0" y="1642680"/>
              <a:chExt cx="6780960" cy="21708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1859760"/>
              <a:ext cx="6780960" cy="217080"/>
              <a:chOff x="0" y="1859760"/>
              <a:chExt cx="6780960" cy="21708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2077200"/>
              <a:ext cx="6780960" cy="217080"/>
              <a:chOff x="0" y="2077200"/>
              <a:chExt cx="6780960" cy="21708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2294280"/>
              <a:ext cx="6780960" cy="217080"/>
              <a:chOff x="0" y="2294280"/>
              <a:chExt cx="6780960" cy="21708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2511720"/>
              <a:ext cx="6780960" cy="217080"/>
              <a:chOff x="0" y="2511720"/>
              <a:chExt cx="6780960" cy="21708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2729160"/>
              <a:ext cx="6780960" cy="217080"/>
              <a:chOff x="0" y="2729160"/>
              <a:chExt cx="6780960" cy="21708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2946240"/>
              <a:ext cx="6780960" cy="217080"/>
              <a:chOff x="0" y="2946240"/>
              <a:chExt cx="6780960" cy="21708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3163680"/>
              <a:ext cx="6780960" cy="217080"/>
              <a:chOff x="0" y="3163680"/>
              <a:chExt cx="6780960" cy="21708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3381120"/>
              <a:ext cx="6780960" cy="217080"/>
              <a:chOff x="0" y="3381120"/>
              <a:chExt cx="6780960" cy="21708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3598200"/>
              <a:ext cx="6780960" cy="217080"/>
              <a:chOff x="0" y="3598200"/>
              <a:chExt cx="6780960" cy="21708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3815640"/>
              <a:ext cx="6780960" cy="217080"/>
              <a:chOff x="0" y="3815640"/>
              <a:chExt cx="6780960" cy="21708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4033080"/>
              <a:ext cx="6780960" cy="217080"/>
              <a:chOff x="0" y="4033080"/>
              <a:chExt cx="6780960" cy="21708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4250520"/>
              <a:ext cx="6780960" cy="217080"/>
              <a:chOff x="0" y="4250520"/>
              <a:chExt cx="6780960" cy="21708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4467600"/>
              <a:ext cx="6780960" cy="217080"/>
              <a:chOff x="0" y="4467600"/>
              <a:chExt cx="6780960" cy="21708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4685040"/>
              <a:ext cx="6780960" cy="217080"/>
              <a:chOff x="0" y="4685040"/>
              <a:chExt cx="6780960" cy="21708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4902120"/>
              <a:ext cx="6780960" cy="217080"/>
              <a:chOff x="0" y="4902120"/>
              <a:chExt cx="6780960" cy="21708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Hour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Wag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5119560"/>
              <a:ext cx="6780960" cy="217080"/>
              <a:chOff x="0" y="5119560"/>
              <a:chExt cx="6780960" cy="21708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5337000"/>
              <a:ext cx="6780960" cy="217080"/>
              <a:chOff x="0" y="5337000"/>
              <a:chExt cx="6780960" cy="21708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5554080"/>
              <a:ext cx="6780960" cy="217080"/>
              <a:chOff x="0" y="5554080"/>
              <a:chExt cx="6780960" cy="21708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s = initHour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5771520"/>
              <a:ext cx="6780960" cy="217080"/>
              <a:chOff x="0" y="5771520"/>
              <a:chExt cx="6780960" cy="21708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ge = initWag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5988600"/>
              <a:ext cx="6780960" cy="217080"/>
              <a:chOff x="0" y="5988600"/>
              <a:chExt cx="6780960" cy="21708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6206040"/>
              <a:ext cx="6780960" cy="217080"/>
              <a:chOff x="0" y="6206040"/>
              <a:chExt cx="6780960" cy="21708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6423480"/>
              <a:ext cx="6780960" cy="217080"/>
              <a:chOff x="0" y="6423480"/>
              <a:chExt cx="6780960" cy="21708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6640920"/>
              <a:ext cx="6780960" cy="217080"/>
              <a:chOff x="0" y="6640920"/>
              <a:chExt cx="6780960" cy="21708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  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lasses created from existing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 attributes and behavi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programs in a general fash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a wide variety of existing (and unspecified) relate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ved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hat inherits data members and member functions from a previously defined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868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and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lyWorker::print() is executing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print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is an hourly worker with pay of $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 &lt;&lt; getPay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1" name=""/>
          <p:cNvGrpSpPr/>
          <p:nvPr/>
        </p:nvGrpSpPr>
        <p:grpSpPr>
          <a:xfrm>
            <a:off x="0" y="2895480"/>
            <a:ext cx="6780960" cy="3353040"/>
            <a:chOff x="0" y="2895480"/>
            <a:chExt cx="6780960" cy="3353040"/>
          </a:xfrm>
        </p:grpSpPr>
        <p:grpSp>
          <p:nvGrpSpPr>
            <p:cNvPr id="902" name=""/>
            <p:cNvGrpSpPr/>
            <p:nvPr/>
          </p:nvGrpSpPr>
          <p:grpSpPr>
            <a:xfrm>
              <a:off x="0" y="2895480"/>
              <a:ext cx="6780960" cy="304560"/>
              <a:chOff x="0" y="2895480"/>
              <a:chExt cx="6780960" cy="30456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5: fig19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3200040"/>
              <a:ext cx="6780960" cy="304560"/>
              <a:chOff x="0" y="3200040"/>
              <a:chExt cx="6780960" cy="30456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ing a base-class member function in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3504960"/>
              <a:ext cx="6780960" cy="304920"/>
              <a:chOff x="0" y="3504960"/>
              <a:chExt cx="6780960" cy="30492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3809880"/>
              <a:ext cx="6780960" cy="304560"/>
              <a:chOff x="0" y="3809880"/>
              <a:chExt cx="67809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4114800"/>
              <a:ext cx="6780960" cy="304560"/>
              <a:chOff x="0" y="4114800"/>
              <a:chExt cx="6780960" cy="30456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4419360"/>
              <a:ext cx="6780960" cy="304560"/>
              <a:chOff x="0" y="4419360"/>
              <a:chExt cx="6780960" cy="30456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4724280"/>
              <a:ext cx="6780960" cy="304920"/>
              <a:chOff x="0" y="4724280"/>
              <a:chExt cx="6780960" cy="30492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5029200"/>
              <a:ext cx="6780960" cy="304560"/>
              <a:chOff x="0" y="5029200"/>
              <a:chExt cx="6780960" cy="30456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Bob", "Smith", 40.0, 1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5334120"/>
              <a:ext cx="6780960" cy="304560"/>
              <a:chOff x="0" y="5334120"/>
              <a:chExt cx="6780960" cy="30456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5638680"/>
              <a:ext cx="6780960" cy="304560"/>
              <a:chOff x="0" y="5638680"/>
              <a:chExt cx="6780960" cy="30456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5943600"/>
              <a:ext cx="6780960" cy="304920"/>
              <a:chOff x="0" y="5943600"/>
              <a:chExt cx="6780960" cy="30492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>
            <a:off x="0" y="6218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Worker::print() is exec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b Smith is an hourly worker with pay of $4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7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iv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,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Inheritanc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1295280" y="1359000"/>
          <a:ext cx="5765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59000"/>
                    <a:ext cx="5765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1066680" y="2666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914400" y="5821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38080" y="4449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8   Direct and Indirect Bas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itly listed derived class’ header with the col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otation when that derived class is decla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from two or more levels up the class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9   Using Constructors and Destructors in Derived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 base class’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derived-class constructors and assignment operators can call still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9   Using Constructors and Destructors in Derived Class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ors are called in the reverse order of constructor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Point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0" y="0"/>
            <a:ext cx="6780600" cy="6858000"/>
            <a:chOff x="0" y="0"/>
            <a:chExt cx="6780600" cy="6858000"/>
          </a:xfrm>
        </p:grpSpPr>
        <p:grpSp>
          <p:nvGrpSpPr>
            <p:cNvPr id="950" name=""/>
            <p:cNvGrpSpPr/>
            <p:nvPr/>
          </p:nvGrpSpPr>
          <p:grpSpPr>
            <a:xfrm>
              <a:off x="0" y="0"/>
              <a:ext cx="6780600" cy="3124080"/>
              <a:chOff x="0" y="0"/>
              <a:chExt cx="6780600" cy="3124080"/>
            </a:xfrm>
          </p:grpSpPr>
          <p:grpSp>
            <p:nvGrpSpPr>
              <p:cNvPr id="951" name=""/>
              <p:cNvGrpSpPr/>
              <p:nvPr/>
            </p:nvGrpSpPr>
            <p:grpSpPr>
              <a:xfrm>
                <a:off x="0" y="0"/>
                <a:ext cx="6780600" cy="221760"/>
                <a:chOff x="0" y="0"/>
                <a:chExt cx="6780600" cy="22176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0" y="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0" y="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7: point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0" y="221760"/>
                <a:ext cx="6780600" cy="239040"/>
                <a:chOff x="0" y="221760"/>
                <a:chExt cx="6780600" cy="2390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0" y="221760"/>
                  <a:ext cx="6780600" cy="239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0" y="221760"/>
                  <a:ext cx="6780600" cy="239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0" y="460800"/>
                <a:ext cx="6780600" cy="221760"/>
                <a:chOff x="0" y="460800"/>
                <a:chExt cx="6780600" cy="2217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0" y="46080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0" y="46080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0" y="682920"/>
                <a:ext cx="6780600" cy="221760"/>
                <a:chOff x="0" y="682920"/>
                <a:chExt cx="6780600" cy="2217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0" y="68292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0" y="68292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0" y="904680"/>
                <a:ext cx="6780600" cy="221760"/>
                <a:chOff x="0" y="904680"/>
                <a:chExt cx="6780600" cy="2217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0" y="90468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0" y="90468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0" y="1126800"/>
                <a:ext cx="6780600" cy="221760"/>
                <a:chOff x="0" y="1126800"/>
                <a:chExt cx="6780600" cy="22176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0" y="112680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0" y="112680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0" y="1348560"/>
                <a:ext cx="6780600" cy="221760"/>
                <a:chOff x="0" y="1348560"/>
                <a:chExt cx="6780600" cy="22176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0" y="134856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0" y="134856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0" y="1570680"/>
                <a:ext cx="6780600" cy="221760"/>
                <a:chOff x="0" y="1570680"/>
                <a:chExt cx="6780600" cy="22176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0" y="157068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0" y="157068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= 0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0" y="1792440"/>
                <a:ext cx="6780600" cy="221760"/>
                <a:chOff x="0" y="1792440"/>
                <a:chExt cx="6780600" cy="22176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0" y="179244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0" y="179244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~Point();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0" y="2014560"/>
                <a:ext cx="6780600" cy="221760"/>
                <a:chOff x="0" y="2014560"/>
                <a:chExt cx="6780600" cy="22176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0" y="201456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0" y="201456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otected: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ccessible by derived class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0" y="2236320"/>
                <a:ext cx="6780600" cy="221760"/>
                <a:chOff x="0" y="2236320"/>
                <a:chExt cx="6780600" cy="22176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0" y="223632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0" y="223632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, y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x and y coordinates of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0" y="2458440"/>
                <a:ext cx="6780600" cy="221760"/>
                <a:chOff x="0" y="2458440"/>
                <a:chExt cx="6780600" cy="22176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0" y="245844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0" y="245844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0" y="2680200"/>
                <a:ext cx="6780600" cy="221760"/>
                <a:chOff x="0" y="2680200"/>
                <a:chExt cx="6780600" cy="22176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0" y="268020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0" y="268020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0" y="2902320"/>
                <a:ext cx="6780600" cy="221760"/>
                <a:chOff x="0" y="2902320"/>
                <a:chExt cx="6780600" cy="22176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0" y="290232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0" y="2902320"/>
                  <a:ext cx="678060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3" name=""/>
            <p:cNvGrpSpPr/>
            <p:nvPr/>
          </p:nvGrpSpPr>
          <p:grpSpPr>
            <a:xfrm>
              <a:off x="0" y="3124080"/>
              <a:ext cx="6780600" cy="3733920"/>
              <a:chOff x="0" y="3124080"/>
              <a:chExt cx="6780600" cy="373392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0" y="3124080"/>
                <a:ext cx="6780600" cy="207360"/>
                <a:chOff x="0" y="3124080"/>
                <a:chExt cx="6780600" cy="20736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0" y="31240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0" y="31240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7: point2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0" y="3331440"/>
                <a:ext cx="6780600" cy="207360"/>
                <a:chOff x="0" y="3331440"/>
                <a:chExt cx="6780600" cy="20736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0" y="33314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0" y="33314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Member function definitions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0" y="3538800"/>
                <a:ext cx="6780600" cy="207360"/>
                <a:chOff x="0" y="3538800"/>
                <a:chExt cx="6780600" cy="20736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0" y="35388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0" y="35388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0" y="3746160"/>
                <a:ext cx="6780600" cy="207360"/>
                <a:chOff x="0" y="3746160"/>
                <a:chExt cx="6780600" cy="20736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0" y="374616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0" y="374616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0" y="3953880"/>
                <a:ext cx="6780600" cy="207360"/>
                <a:chOff x="0" y="3953880"/>
                <a:chExt cx="6780600" cy="20736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0" y="39538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0" y="39538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0" y="4161240"/>
                <a:ext cx="6780600" cy="207360"/>
                <a:chOff x="0" y="4161240"/>
                <a:chExt cx="6780600" cy="2073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0" y="41612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0" y="41612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0" y="4368600"/>
                <a:ext cx="6780600" cy="207360"/>
                <a:chOff x="0" y="4368600"/>
                <a:chExt cx="6780600" cy="20736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0" y="43686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0" y="43686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0" y="4575960"/>
                <a:ext cx="6780600" cy="207360"/>
                <a:chOff x="0" y="4575960"/>
                <a:chExt cx="6780600" cy="20736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0" y="457596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0" y="457596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0" y="4783680"/>
                <a:ext cx="6780600" cy="207360"/>
                <a:chOff x="0" y="4783680"/>
                <a:chExt cx="6780600" cy="20736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0" y="47836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0" y="47836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0" y="4991040"/>
                <a:ext cx="6780600" cy="207360"/>
                <a:chOff x="0" y="4991040"/>
                <a:chExt cx="6780600" cy="20736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0" y="49910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0" y="49910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on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0" y="5198400"/>
                <a:ext cx="6780600" cy="207360"/>
                <a:chOff x="0" y="5198400"/>
                <a:chExt cx="6780600" cy="20736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0" y="51984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0" y="51984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Point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a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b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0" y="5406120"/>
                <a:ext cx="6780600" cy="207360"/>
                <a:chOff x="0" y="5406120"/>
                <a:chExt cx="6780600" cy="20736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0" y="540612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0" y="540612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0" y="5613480"/>
                <a:ext cx="6780600" cy="207360"/>
                <a:chOff x="0" y="5613480"/>
                <a:chExt cx="6780600" cy="20736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0" y="56134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0" y="56134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x = a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0" y="5820840"/>
                <a:ext cx="6780600" cy="207360"/>
                <a:chOff x="0" y="5820840"/>
                <a:chExt cx="6780600" cy="20736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0" y="58208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0" y="58208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y = b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0" y="6028200"/>
                <a:ext cx="6780600" cy="207360"/>
                <a:chOff x="0" y="6028200"/>
                <a:chExt cx="6780600" cy="20736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0" y="60282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0" y="602820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0" y="6235920"/>
                <a:ext cx="6780600" cy="207360"/>
                <a:chOff x="0" y="6235920"/>
                <a:chExt cx="6780600" cy="2073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0" y="623592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0" y="623592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 constructor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0" y="6443280"/>
                <a:ext cx="6780600" cy="207360"/>
                <a:chOff x="0" y="6443280"/>
                <a:chExt cx="6780600" cy="20736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0" y="64432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0" y="644328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0" y="6650640"/>
                <a:ext cx="6780600" cy="207360"/>
                <a:chOff x="0" y="6650640"/>
                <a:chExt cx="6780600" cy="2073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0" y="66506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0" y="6650640"/>
                  <a:ext cx="6780600" cy="207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50" name="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74" name="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1075" name="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1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205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7: fig1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0"/>
            <a:ext cx="678168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 Introduct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nheri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inheri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Derived objects are accessible by the base class object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f this chap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rived objects are inaccessible by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rived classes and friends can access protected members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0  Implicit Derived-Class Object to Base-Class Object Conversion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ClassObject = derivedClass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ember, the derived class object has more members than the base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 data is not given to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ClassObject = baseClass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work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an assignment operator is overloaded in the derived class, data members exclusive to the derived class will be un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has less data members than the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ata members missing in the derived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10   Implicit Derived-Class Object to Base-Class Object Convers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ways to mix base and derived class pointer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ing to a base-class object with a base-clas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ing to a derived-class object with a derived-clas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ing to a derived-class object with a base-class poi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syntax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an only refer to base-class members, or syntax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ing to a base-class object with a derived-class poi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rived-class pointer must first be cast to a base-class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1  Software Engineering With Inheritanc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often closely re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out” common attributes and behaviors and place these in a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heritance to form derive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tions to a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classes do not change as long a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s are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classes may need to be re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2  Composition vs. Inheritanc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s a"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has a"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 - class has an object from another class as a data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rthDate;  //W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has a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rthdate;//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3  “Uses A” And “Knows A” Relationship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”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bject issues a function call to a member function of an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s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bject is aware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pointer or handle to anoth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n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4  Case Study: Point, Circle, Cylinde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96" name=""/>
            <p:cNvGrpSpPr/>
            <p:nvPr/>
          </p:nvGrpSpPr>
          <p:grpSpPr>
            <a:xfrm>
              <a:off x="0" y="0"/>
              <a:ext cx="6780960" cy="4419720"/>
              <a:chOff x="0" y="0"/>
              <a:chExt cx="6780960" cy="4419720"/>
            </a:xfrm>
          </p:grpSpPr>
          <p:grpSp>
            <p:nvGrpSpPr>
              <p:cNvPr id="1297" name=""/>
              <p:cNvGrpSpPr/>
              <p:nvPr/>
            </p:nvGrpSpPr>
            <p:grpSpPr>
              <a:xfrm>
                <a:off x="0" y="0"/>
                <a:ext cx="6780960" cy="210240"/>
                <a:chOff x="0" y="0"/>
                <a:chExt cx="6780960" cy="2102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0" y="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0" y="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8: point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0" y="210240"/>
                <a:ext cx="6780960" cy="210240"/>
                <a:chOff x="0" y="210240"/>
                <a:chExt cx="6780960" cy="2102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0" y="2102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0" y="2102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0" y="420840"/>
                <a:ext cx="6780960" cy="210240"/>
                <a:chOff x="0" y="420840"/>
                <a:chExt cx="6780960" cy="21024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0" y="4208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0" y="4208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0" y="631440"/>
                <a:ext cx="6780960" cy="210240"/>
                <a:chOff x="0" y="631440"/>
                <a:chExt cx="6780960" cy="21024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0" y="6314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0" y="6314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0" y="841680"/>
                <a:ext cx="6780960" cy="210240"/>
                <a:chOff x="0" y="841680"/>
                <a:chExt cx="6780960" cy="21024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0" y="8416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0" y="8416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0" y="1052280"/>
                <a:ext cx="6780960" cy="210240"/>
                <a:chOff x="0" y="1052280"/>
                <a:chExt cx="6780960" cy="21024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0" y="10522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0" y="10522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0" y="1262520"/>
                <a:ext cx="6780960" cy="210240"/>
                <a:chOff x="0" y="1262520"/>
                <a:chExt cx="6780960" cy="21024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0" y="126252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0" y="126252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0" y="1473120"/>
                <a:ext cx="6780960" cy="210240"/>
                <a:chOff x="0" y="1473120"/>
                <a:chExt cx="6780960" cy="21024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0" y="147312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0" y="147312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ostream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0" y="1683720"/>
                <a:ext cx="6780960" cy="210240"/>
                <a:chOff x="0" y="1683720"/>
                <a:chExt cx="6780960" cy="21024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0" y="168372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0" y="168372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0" y="1893960"/>
                <a:ext cx="6780960" cy="210240"/>
                <a:chOff x="0" y="1893960"/>
                <a:chExt cx="6780960" cy="21024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0" y="189396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0" y="189396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0" y="2104560"/>
                <a:ext cx="6780960" cy="210240"/>
                <a:chOff x="0" y="2104560"/>
                <a:chExt cx="6780960" cy="21024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0" y="210456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0" y="210456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frien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ostream &amp;operator&lt;&lt;( ostream &amp;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&amp;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0" y="2315160"/>
                <a:ext cx="6780960" cy="210240"/>
                <a:chOff x="0" y="2315160"/>
                <a:chExt cx="6780960" cy="21024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0" y="231516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0" y="231516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0" y="2525400"/>
                <a:ext cx="6780960" cy="210240"/>
                <a:chOff x="0" y="2525400"/>
                <a:chExt cx="6780960" cy="21024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0" y="252540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0" y="252540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= 0 );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0" y="2736000"/>
                <a:ext cx="6780960" cy="210240"/>
                <a:chOff x="0" y="2736000"/>
                <a:chExt cx="6780960" cy="21024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0" y="273600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0" y="273600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Point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et coordin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0" y="2946240"/>
                <a:ext cx="6780960" cy="210240"/>
                <a:chOff x="0" y="2946240"/>
                <a:chExt cx="6780960" cy="2102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0" y="29462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0" y="29462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X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; }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get x coordin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0" y="3156840"/>
                <a:ext cx="6780960" cy="210240"/>
                <a:chOff x="0" y="3156840"/>
                <a:chExt cx="6780960" cy="21024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0" y="31568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0" y="31568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Y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; }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get y coordin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0" y="3367440"/>
                <a:ext cx="6780960" cy="210240"/>
                <a:chOff x="0" y="3367440"/>
                <a:chExt cx="6780960" cy="21024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0" y="33674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0" y="33674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otected: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accessible to derived class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0" y="3578040"/>
                <a:ext cx="6780960" cy="210240"/>
                <a:chOff x="0" y="3578040"/>
                <a:chExt cx="6780960" cy="21024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0" y="35780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0" y="357804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, y;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oordinates of the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0" y="3788280"/>
                <a:ext cx="6780960" cy="210240"/>
                <a:chOff x="0" y="3788280"/>
                <a:chExt cx="6780960" cy="21024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0" y="37882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0" y="37882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0" y="3998880"/>
                <a:ext cx="6780960" cy="210240"/>
                <a:chOff x="0" y="3998880"/>
                <a:chExt cx="6780960" cy="21024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0" y="39988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0" y="39988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0" y="4209480"/>
                <a:ext cx="6780960" cy="210240"/>
                <a:chOff x="0" y="4209480"/>
                <a:chExt cx="6780960" cy="21024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0" y="4209480"/>
                  <a:ext cx="678096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9" name=""/>
                <p:cNvGrpSpPr/>
                <p:nvPr/>
              </p:nvGrpSpPr>
              <p:grpSpPr>
                <a:xfrm>
                  <a:off x="0" y="4209480"/>
                  <a:ext cx="6780600" cy="210240"/>
                  <a:chOff x="0" y="4209480"/>
                  <a:chExt cx="6780600" cy="210240"/>
                </a:xfrm>
              </p:grpSpPr>
              <p:sp>
                <p:nvSpPr>
                  <p:cNvPr id="1360" name=""/>
                  <p:cNvSpPr/>
                  <p:nvPr/>
                </p:nvSpPr>
                <p:spPr>
                  <a:xfrm>
                    <a:off x="0" y="4209480"/>
                    <a:ext cx="6780600" cy="21024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21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Times New Roman"/>
                      </a:rPr>
                      <a:t>#endi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0" y="4209480"/>
                    <a:ext cx="6780600" cy="21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2" name=""/>
            <p:cNvGrpSpPr/>
            <p:nvPr/>
          </p:nvGrpSpPr>
          <p:grpSpPr>
            <a:xfrm>
              <a:off x="0" y="4419720"/>
              <a:ext cx="6780960" cy="2438280"/>
              <a:chOff x="0" y="4419720"/>
              <a:chExt cx="6780960" cy="243828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0" y="4419720"/>
                <a:ext cx="6780960" cy="221400"/>
                <a:chOff x="0" y="4419720"/>
                <a:chExt cx="6780960" cy="22140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0" y="441972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0" y="441972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8: point2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0" y="4641120"/>
                <a:ext cx="6780960" cy="221400"/>
                <a:chOff x="0" y="4641120"/>
                <a:chExt cx="6780960" cy="22140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0" y="464112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0" y="464112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Member functions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0" y="4862880"/>
                <a:ext cx="6780960" cy="221760"/>
                <a:chOff x="0" y="4862880"/>
                <a:chExt cx="6780960" cy="2217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0" y="486288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0" y="486288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0" y="5084640"/>
                <a:ext cx="6780960" cy="221400"/>
                <a:chOff x="0" y="5084640"/>
                <a:chExt cx="6780960" cy="2214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0" y="508464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0" y="508464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0" y="5306400"/>
                <a:ext cx="6780960" cy="221400"/>
                <a:chOff x="0" y="5306400"/>
                <a:chExt cx="6780960" cy="22140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0" y="530640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0" y="530640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on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0" y="5527800"/>
                <a:ext cx="6780960" cy="221400"/>
                <a:chOff x="0" y="5527800"/>
                <a:chExt cx="6780960" cy="22140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0" y="552780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0" y="552780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Point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a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b ) { setPoint( a, b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0" y="5749560"/>
                <a:ext cx="6780960" cy="221760"/>
                <a:chOff x="0" y="5749560"/>
                <a:chExt cx="6780960" cy="2217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0" y="574956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0" y="574956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0" y="5971320"/>
                <a:ext cx="6780960" cy="221400"/>
                <a:chOff x="0" y="5971320"/>
                <a:chExt cx="6780960" cy="22140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0" y="597132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0" y="597132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et the x and y coordin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0" y="6193080"/>
                <a:ext cx="6780960" cy="221400"/>
                <a:chOff x="0" y="6193080"/>
                <a:chExt cx="6780960" cy="22140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0" y="619308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0" y="619308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::setPoint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a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b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0" y="6414480"/>
                <a:ext cx="6780960" cy="221400"/>
                <a:chOff x="0" y="6414480"/>
                <a:chExt cx="6780960" cy="22140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0" y="641448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0" y="6414480"/>
                  <a:ext cx="678096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0" y="6636240"/>
                <a:ext cx="6780960" cy="221760"/>
                <a:chOff x="0" y="6636240"/>
                <a:chExt cx="6780960" cy="2217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0" y="663624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0" y="6636240"/>
                  <a:ext cx="6780960" cy="221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x = a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1398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402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405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408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1411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1414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1417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1420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1423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1426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430" name=""/>
            <p:cNvGrpSpPr/>
            <p:nvPr/>
          </p:nvGrpSpPr>
          <p:grpSpPr>
            <a:xfrm>
              <a:off x="0" y="0"/>
              <a:ext cx="6780960" cy="4648320"/>
              <a:chOff x="0" y="0"/>
              <a:chExt cx="6780960" cy="464832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0" y="0"/>
                <a:ext cx="6780960" cy="192960"/>
                <a:chOff x="0" y="0"/>
                <a:chExt cx="6780960" cy="1929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0" y="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0" y="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9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0" y="192960"/>
                <a:ext cx="6780960" cy="192960"/>
                <a:chOff x="0" y="192960"/>
                <a:chExt cx="6780960" cy="1929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0" y="1929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0" y="1929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0" y="385920"/>
                <a:ext cx="6780960" cy="192960"/>
                <a:chOff x="0" y="385920"/>
                <a:chExt cx="6780960" cy="19296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0" y="3859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0" y="3859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0" y="578880"/>
                <a:ext cx="6780960" cy="192960"/>
                <a:chOff x="0" y="578880"/>
                <a:chExt cx="6780960" cy="19296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0" y="57888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0" y="57888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0" y="772200"/>
                <a:ext cx="6780960" cy="192960"/>
                <a:chOff x="0" y="772200"/>
                <a:chExt cx="6780960" cy="19296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0" y="7722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0" y="7722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0" y="965160"/>
                <a:ext cx="6780960" cy="192960"/>
                <a:chOff x="0" y="965160"/>
                <a:chExt cx="6780960" cy="19296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0" y="9651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0" y="9651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0" y="1158120"/>
                <a:ext cx="6780960" cy="192960"/>
                <a:chOff x="0" y="1158120"/>
                <a:chExt cx="6780960" cy="19296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0" y="11581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0" y="11581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0" y="1351440"/>
                <a:ext cx="6780960" cy="192960"/>
                <a:chOff x="0" y="1351440"/>
                <a:chExt cx="6780960" cy="19296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0" y="13514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0" y="13514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ostream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0" y="1544400"/>
                <a:ext cx="6780960" cy="192960"/>
                <a:chOff x="0" y="1544400"/>
                <a:chExt cx="6780960" cy="19296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0" y="15444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0" y="15444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0" y="1737360"/>
                <a:ext cx="6780960" cy="192960"/>
                <a:chOff x="0" y="1737360"/>
                <a:chExt cx="6780960" cy="19296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0" y="17373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0" y="17373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0" y="1930320"/>
                <a:ext cx="6780960" cy="192960"/>
                <a:chOff x="0" y="1930320"/>
                <a:chExt cx="6780960" cy="19296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0" y="19303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0" y="19303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0" y="2123640"/>
                <a:ext cx="6780960" cy="192960"/>
                <a:chOff x="0" y="2123640"/>
                <a:chExt cx="6780960" cy="19296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0" y="21236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0" y="21236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0" y="2316600"/>
                <a:ext cx="6780960" cy="192960"/>
                <a:chOff x="0" y="2316600"/>
                <a:chExt cx="6780960" cy="19296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0" y="23166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0" y="23166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frien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ostream &amp;operator&lt;&lt;( ostream &amp;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&amp;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0" y="2509560"/>
                <a:ext cx="6780960" cy="192960"/>
                <a:chOff x="0" y="2509560"/>
                <a:chExt cx="6780960" cy="19296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0" y="25095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0" y="25095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0" y="2702520"/>
                <a:ext cx="6780960" cy="192960"/>
                <a:chOff x="0" y="2702520"/>
                <a:chExt cx="6780960" cy="19296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0" y="27025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0" y="27025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0" y="2895840"/>
                <a:ext cx="6780960" cy="192960"/>
                <a:chOff x="0" y="2895840"/>
                <a:chExt cx="6780960" cy="19296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0" y="28958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0" y="28958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0" y="3088800"/>
                <a:ext cx="6780960" cy="192960"/>
                <a:chOff x="0" y="3088800"/>
                <a:chExt cx="6780960" cy="19296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0" y="30888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0" y="30888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Radius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set radi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0" y="3281760"/>
                <a:ext cx="6780960" cy="207720"/>
                <a:chOff x="0" y="3281760"/>
                <a:chExt cx="6780960" cy="20772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0" y="3281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0" y="3281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Radius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return radi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0" y="3489840"/>
                <a:ext cx="6780960" cy="192960"/>
                <a:chOff x="0" y="3489840"/>
                <a:chExt cx="6780960" cy="19296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0" y="34898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0" y="34898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area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calculate are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0" y="3682800"/>
                <a:ext cx="6780960" cy="192960"/>
                <a:chOff x="0" y="3682800"/>
                <a:chExt cx="6780960" cy="19296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0" y="36828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0" y="368280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otected: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ccessible to derived class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0" y="3876120"/>
                <a:ext cx="6780960" cy="192960"/>
                <a:chOff x="0" y="3876120"/>
                <a:chExt cx="6780960" cy="19296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0" y="38761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0" y="387612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radius of the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0" y="4069080"/>
                <a:ext cx="6780960" cy="192960"/>
                <a:chOff x="0" y="4069080"/>
                <a:chExt cx="6780960" cy="19296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0" y="406908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0" y="406908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0" y="4262040"/>
                <a:ext cx="6780960" cy="192960"/>
                <a:chOff x="0" y="4262040"/>
                <a:chExt cx="6780960" cy="19296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0" y="42620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0" y="426204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0" y="4455360"/>
                <a:ext cx="6780960" cy="192960"/>
                <a:chOff x="0" y="4455360"/>
                <a:chExt cx="6780960" cy="19296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0" y="44553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0" y="4455360"/>
                  <a:ext cx="6780960" cy="19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3" name=""/>
            <p:cNvGrpSpPr/>
            <p:nvPr/>
          </p:nvGrpSpPr>
          <p:grpSpPr>
            <a:xfrm>
              <a:off x="0" y="4648320"/>
              <a:ext cx="6780960" cy="2209320"/>
              <a:chOff x="0" y="4648320"/>
              <a:chExt cx="6780960" cy="2209320"/>
            </a:xfrm>
          </p:grpSpPr>
          <p:grpSp>
            <p:nvGrpSpPr>
              <p:cNvPr id="1504" name=""/>
              <p:cNvGrpSpPr/>
              <p:nvPr/>
            </p:nvGrpSpPr>
            <p:grpSpPr>
              <a:xfrm>
                <a:off x="0" y="4648320"/>
                <a:ext cx="6780960" cy="245160"/>
                <a:chOff x="0" y="4648320"/>
                <a:chExt cx="6780960" cy="245160"/>
              </a:xfrm>
            </p:grpSpPr>
            <p:sp>
              <p:nvSpPr>
                <p:cNvPr id="1505" name=""/>
                <p:cNvSpPr/>
                <p:nvPr/>
              </p:nvSpPr>
              <p:spPr>
                <a:xfrm>
                  <a:off x="0" y="464832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0" y="464832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19.9: circle2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0" y="4893480"/>
                <a:ext cx="6780960" cy="245160"/>
                <a:chOff x="0" y="4893480"/>
                <a:chExt cx="6780960" cy="245160"/>
              </a:xfrm>
            </p:grpSpPr>
            <p:sp>
              <p:nvSpPr>
                <p:cNvPr id="1508" name=""/>
                <p:cNvSpPr/>
                <p:nvPr/>
              </p:nvSpPr>
              <p:spPr>
                <a:xfrm>
                  <a:off x="0" y="489348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0" y="489348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Member function definitions for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0" name=""/>
              <p:cNvGrpSpPr/>
              <p:nvPr/>
            </p:nvGrpSpPr>
            <p:grpSpPr>
              <a:xfrm>
                <a:off x="0" y="5139000"/>
                <a:ext cx="6780960" cy="245520"/>
                <a:chOff x="0" y="5139000"/>
                <a:chExt cx="6780960" cy="245520"/>
              </a:xfrm>
            </p:grpSpPr>
            <p:sp>
              <p:nvSpPr>
                <p:cNvPr id="1511" name=""/>
                <p:cNvSpPr/>
                <p:nvPr/>
              </p:nvSpPr>
              <p:spPr>
                <a:xfrm>
                  <a:off x="0" y="5139000"/>
                  <a:ext cx="6780960" cy="245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0" y="5139000"/>
                  <a:ext cx="6780960" cy="245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manip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"/>
              <p:cNvGrpSpPr/>
              <p:nvPr/>
            </p:nvGrpSpPr>
            <p:grpSpPr>
              <a:xfrm>
                <a:off x="0" y="5384880"/>
                <a:ext cx="6780960" cy="245160"/>
                <a:chOff x="0" y="5384880"/>
                <a:chExt cx="6780960" cy="2451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0" y="538488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0" y="538488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0" y="5630400"/>
                <a:ext cx="6780960" cy="245160"/>
                <a:chOff x="0" y="5630400"/>
                <a:chExt cx="6780960" cy="245160"/>
              </a:xfrm>
            </p:grpSpPr>
            <p:sp>
              <p:nvSpPr>
                <p:cNvPr id="1517" name=""/>
                <p:cNvSpPr/>
                <p:nvPr/>
              </p:nvSpPr>
              <p:spPr>
                <a:xfrm>
                  <a:off x="0" y="563040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0" y="563040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ios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0" y="5875920"/>
                <a:ext cx="6780960" cy="245160"/>
                <a:chOff x="0" y="5875920"/>
                <a:chExt cx="6780960" cy="24516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0" y="587592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0" y="587592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setiosflags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2" name=""/>
              <p:cNvGrpSpPr/>
              <p:nvPr/>
            </p:nvGrpSpPr>
            <p:grpSpPr>
              <a:xfrm>
                <a:off x="0" y="6121440"/>
                <a:ext cx="6780960" cy="245520"/>
                <a:chOff x="0" y="6121440"/>
                <a:chExt cx="6780960" cy="24552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0" y="6121440"/>
                  <a:ext cx="6780960" cy="245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0" y="6121440"/>
                  <a:ext cx="6780960" cy="245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setprecision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5" name=""/>
              <p:cNvGrpSpPr/>
              <p:nvPr/>
            </p:nvGrpSpPr>
            <p:grpSpPr>
              <a:xfrm>
                <a:off x="0" y="6366960"/>
                <a:ext cx="6780960" cy="245160"/>
                <a:chOff x="0" y="6366960"/>
                <a:chExt cx="6780960" cy="2451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0" y="636696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0" y="636696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0" y="6612480"/>
                <a:ext cx="6780960" cy="245160"/>
                <a:chOff x="0" y="6612480"/>
                <a:chExt cx="6780960" cy="24516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0" y="661248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0" y="6612480"/>
                  <a:ext cx="6780960" cy="2451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circle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34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 Base and Derived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“is an” object of a base class (super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30240" y="3213000"/>
          <a:ext cx="476280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3213000"/>
                    <a:ext cx="476280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ylinder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2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23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687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90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93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96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699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702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705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708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1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77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77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77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78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78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78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79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79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79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0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0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riv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807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2" name="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823" name="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824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10: fig1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827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830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833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836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839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842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845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848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851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854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857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860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863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866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869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872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875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878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881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884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887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903" name="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904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907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910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913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919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922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925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928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931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1934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1937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1940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1943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 Base and Derived Class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Wo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level of protection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-class members can ref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s of the base class simply by using the membe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“breaks”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4   Casting Base Class Pointers to Derived Class Poin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of a derived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treated as an object of the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e not true - base class objects not a derived-clas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 explicit cast to convert a base-class pointer to a derived-class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hat the type of the pointer matches the type of object to which the pointe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19.4   Casting Base-Class Pointers to Derived-Class Point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 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use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, and vice-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4: point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221760"/>
              <a:ext cx="6780960" cy="205920"/>
              <a:chOff x="0" y="221760"/>
              <a:chExt cx="6780960" cy="20592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428040"/>
              <a:ext cx="6780960" cy="205920"/>
              <a:chOff x="0" y="428040"/>
              <a:chExt cx="6780960" cy="20592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633960"/>
              <a:ext cx="6780960" cy="205920"/>
              <a:chOff x="0" y="633960"/>
              <a:chExt cx="6780960" cy="2059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840240"/>
              <a:ext cx="6780960" cy="205920"/>
              <a:chOff x="0" y="840240"/>
              <a:chExt cx="6780960" cy="20592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046160"/>
              <a:ext cx="6780960" cy="205920"/>
              <a:chOff x="0" y="1046160"/>
              <a:chExt cx="6780960" cy="20592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252080"/>
              <a:ext cx="6780960" cy="205920"/>
              <a:chOff x="0" y="1252080"/>
              <a:chExt cx="6780960" cy="2059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458360"/>
              <a:ext cx="6780960" cy="205920"/>
              <a:chOff x="0" y="1458360"/>
              <a:chExt cx="6780960" cy="20592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664280"/>
              <a:ext cx="6780960" cy="205920"/>
              <a:chOff x="0" y="1664280"/>
              <a:chExt cx="6780960" cy="20592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870560"/>
              <a:ext cx="6780960" cy="205920"/>
              <a:chOff x="0" y="1870560"/>
              <a:chExt cx="6780960" cy="20592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076480"/>
              <a:ext cx="6780960" cy="205920"/>
              <a:chOff x="0" y="2076480"/>
              <a:chExt cx="6780960" cy="20592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282760"/>
              <a:ext cx="6780960" cy="205920"/>
              <a:chOff x="0" y="2282760"/>
              <a:chExt cx="6780960" cy="20592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488680"/>
              <a:ext cx="6780960" cy="205920"/>
              <a:chOff x="0" y="2488680"/>
              <a:chExt cx="6780960" cy="20592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694960"/>
              <a:ext cx="6780960" cy="205920"/>
              <a:chOff x="0" y="2694960"/>
              <a:chExt cx="6780960" cy="20592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900880"/>
              <a:ext cx="6780960" cy="205920"/>
              <a:chOff x="0" y="2900880"/>
              <a:chExt cx="6780960" cy="2059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106800"/>
              <a:ext cx="6780960" cy="205920"/>
              <a:chOff x="0" y="3106800"/>
              <a:chExt cx="6780960" cy="20592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313080"/>
              <a:ext cx="6780960" cy="205920"/>
              <a:chOff x="0" y="3313080"/>
              <a:chExt cx="6780960" cy="2059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519000"/>
              <a:ext cx="6780960" cy="205920"/>
              <a:chOff x="0" y="3519000"/>
              <a:chExt cx="6780960" cy="20592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 and y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725280"/>
              <a:ext cx="6780960" cy="205920"/>
              <a:chOff x="0" y="3725280"/>
              <a:chExt cx="6780960" cy="20592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931200"/>
              <a:ext cx="6780960" cy="205920"/>
              <a:chOff x="0" y="3931200"/>
              <a:chExt cx="6780960" cy="20592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137480"/>
              <a:ext cx="6780960" cy="205920"/>
              <a:chOff x="0" y="4137480"/>
              <a:chExt cx="6780960" cy="2059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0" y="4343400"/>
            <a:ext cx="6780960" cy="2514600"/>
            <a:chOff x="0" y="4343400"/>
            <a:chExt cx="6780960" cy="2514600"/>
          </a:xfrm>
        </p:grpSpPr>
        <p:grpSp>
          <p:nvGrpSpPr>
            <p:cNvPr id="170" name=""/>
            <p:cNvGrpSpPr/>
            <p:nvPr/>
          </p:nvGrpSpPr>
          <p:grpSpPr>
            <a:xfrm>
              <a:off x="0" y="4343400"/>
              <a:ext cx="6780960" cy="209520"/>
              <a:chOff x="0" y="4343400"/>
              <a:chExt cx="6780960" cy="20952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9.4: point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552920"/>
              <a:ext cx="6780960" cy="209520"/>
              <a:chOff x="0" y="4552920"/>
              <a:chExt cx="6780960" cy="209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762440"/>
              <a:ext cx="6780960" cy="209520"/>
              <a:chOff x="0" y="4762440"/>
              <a:chExt cx="6780960" cy="20952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971960"/>
              <a:ext cx="6780960" cy="209520"/>
              <a:chOff x="0" y="4971960"/>
              <a:chExt cx="6780960" cy="20952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5181480"/>
              <a:ext cx="6780960" cy="209520"/>
              <a:chOff x="0" y="5181480"/>
              <a:chExt cx="6780960" cy="20952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391000"/>
              <a:ext cx="6780960" cy="209520"/>
              <a:chOff x="0" y="5391000"/>
              <a:chExt cx="6780960" cy="2095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600520"/>
              <a:ext cx="6780960" cy="209520"/>
              <a:chOff x="0" y="5600520"/>
              <a:chExt cx="6780960" cy="2095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810400"/>
              <a:ext cx="6780960" cy="209520"/>
              <a:chOff x="0" y="5810400"/>
              <a:chExt cx="6780960" cy="2095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6019920"/>
              <a:ext cx="6780960" cy="209520"/>
              <a:chOff x="0" y="6019920"/>
              <a:chExt cx="6780960" cy="20952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6229440"/>
              <a:ext cx="6780960" cy="209520"/>
              <a:chOff x="0" y="6229440"/>
              <a:chExt cx="6780960" cy="2095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438960"/>
              <a:ext cx="6780960" cy="209520"/>
              <a:chOff x="0" y="6438960"/>
              <a:chExt cx="6780960" cy="20952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648480"/>
              <a:ext cx="6780960" cy="209520"/>
              <a:chOff x="0" y="6648480"/>
              <a:chExt cx="6780960" cy="20952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06:25Z</dcterms:created>
  <dc:creator>aftab bukhari</dc:creator>
  <dc:description/>
  <dc:language>en-US</dc:language>
  <cp:lastModifiedBy>kalid</cp:lastModifiedBy>
  <dcterms:modified xsi:type="dcterms:W3CDTF">2000-08-03T20:35:46Z</dcterms:modified>
  <cp:revision>406</cp:revision>
  <dc:subject/>
  <dc:title>Chapter 9 - Inheritance</dc:title>
</cp:coreProperties>
</file>