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2647C-4606-42FB-B707-5A1B0A5AB3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185FB-5E81-483F-916F-6837CFEBD8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E89DC-F982-4180-B7F8-739838465C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CBE6A-ECE2-499C-B3EB-0C5AB56100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698B2-E6B8-495E-9742-42863EE725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3B76E-1F83-4318-91C4-B75DF45ACC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840A0-AED2-425E-8B6F-4BD7327286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B6899-228F-4C5F-9FDC-4BA29C749E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0B347-5502-4992-A374-74DD9E7CA1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ACACC-8009-45F9-8F86-D0FC20A78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FECEA-BE88-48F5-8F29-D28990E9C1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6CDE2-2CA9-4361-87C7-656564347F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0C92-F3D9-4087-A6CE-D0F8F05E0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22 - C++ Templates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1981080"/>
            <a:ext cx="6172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2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2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lass Templ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2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lass Templates and Non-type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2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emplates and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2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emplates and 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2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emplates and static Me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2.3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lass Templates and Non-type Parameter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non-type parameters in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eated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&lt; class T, int elements 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ck&lt; double, 100 &gt; mostRecentSalesFigures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ares object of typ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ck&lt; double, 100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ay appear in the class defini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 stackHolder[ elements ]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array to hold stac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array at compile time, rather than dynamic allocation at executio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2.3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lass Templates and Non-type Parameters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 can be overridde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emplate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fine a class na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ray&lt;myCreatedTy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new class overrides then class template 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yCreated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mplate remains for unoverriden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2.4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emplates and Inheritance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 template can be derived from a templat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 template can be derived from a non-templat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emplate class can be derived from a class tem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on-template class can be derived from a class tem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2.5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emplates and friend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iendships allowed between a class template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obal fun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ber function of another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ire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ide definition of class templat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void f1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1(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all template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void f2( X&lt; T &gt; &amp;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2( X&lt; int &gt; &amp; 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&lt; int 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nly.  The same applies f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void A::f3(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ber funct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all template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2.5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emplates and friends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void C&lt; T &gt;::f4( X&lt; T &gt; &amp;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&lt;float&gt;::f4( X&lt; float&gt; &amp; 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X&lt;float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class Y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 member funct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 friend with every template class made fro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class Z&lt;T&gt;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&lt;float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&lt;float&gt;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2.6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emplates and static Memb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template cla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members shared between all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class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tc.) has its own copy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riables initialized at file sc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template class gets its own copy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2.1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ly create a large range of related functions or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template - the blueprint of the related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late function - a specific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a function 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2.2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lass Templat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templ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 type-specific versions of generic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late &lt;class 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Class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not 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T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y identifier will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reate an object of the class,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Class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gt; myObjec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ck&lt; double &gt; doubleStac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2.2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lass Templates (II)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 class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d normally, but preceded b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late&lt;class 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ic data in class listed as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scope resolution operator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late class function defini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late&lt;class 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Class&lt; T &gt;::MyClass(int siz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Array = new T[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tor definition - creates an array of typ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template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on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96" name=""/>
            <p:cNvGrpSpPr/>
            <p:nvPr/>
          </p:nvGrpSpPr>
          <p:grpSpPr>
            <a:xfrm>
              <a:off x="0" y="0"/>
              <a:ext cx="6780960" cy="236160"/>
              <a:chOff x="0" y="0"/>
              <a:chExt cx="6780960" cy="236160"/>
            </a:xfrm>
          </p:grpSpPr>
          <p:sp>
            <p:nvSpPr>
              <p:cNvPr id="97" name="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22.3: tstack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0" y="236160"/>
              <a:ext cx="6780960" cy="236160"/>
              <a:chOff x="0" y="236160"/>
              <a:chExt cx="6780960" cy="236160"/>
            </a:xfrm>
          </p:grpSpPr>
          <p:sp>
            <p:nvSpPr>
              <p:cNvPr id="100" name="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lass template 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0" y="472680"/>
              <a:ext cx="6780960" cy="236520"/>
              <a:chOff x="0" y="472680"/>
              <a:chExt cx="6780960" cy="236520"/>
            </a:xfrm>
          </p:grpSpPr>
          <p:sp>
            <p:nvSpPr>
              <p:cNvPr id="103" name="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STACK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0" y="709200"/>
              <a:ext cx="6780960" cy="236160"/>
              <a:chOff x="0" y="709200"/>
              <a:chExt cx="6780960" cy="236160"/>
            </a:xfrm>
          </p:grpSpPr>
          <p:sp>
            <p:nvSpPr>
              <p:cNvPr id="106" name="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STACK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0" y="945720"/>
              <a:ext cx="6780960" cy="236160"/>
              <a:chOff x="0" y="945720"/>
              <a:chExt cx="6780960" cy="23616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0" y="1182240"/>
              <a:ext cx="6780960" cy="236160"/>
              <a:chOff x="0" y="1182240"/>
              <a:chExt cx="6780960" cy="236160"/>
            </a:xfrm>
          </p:grpSpPr>
          <p:sp>
            <p:nvSpPr>
              <p:cNvPr id="112" name="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templ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 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0" y="1418760"/>
              <a:ext cx="6780960" cy="236520"/>
              <a:chOff x="0" y="1418760"/>
              <a:chExt cx="6780960" cy="236520"/>
            </a:xfrm>
          </p:grpSpPr>
          <p:sp>
            <p:nvSpPr>
              <p:cNvPr id="115" name="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ack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0" y="1655280"/>
              <a:ext cx="6780960" cy="236160"/>
              <a:chOff x="0" y="1655280"/>
              <a:chExt cx="6780960" cy="23616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0" y="1891800"/>
              <a:ext cx="6780960" cy="236160"/>
              <a:chOff x="0" y="1891800"/>
              <a:chExt cx="6780960" cy="236160"/>
            </a:xfrm>
          </p:grpSpPr>
          <p:sp>
            <p:nvSpPr>
              <p:cNvPr id="121" name="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ack( int = 1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// default constructor (stack size 10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0" y="2128320"/>
              <a:ext cx="6780960" cy="236160"/>
              <a:chOff x="0" y="2128320"/>
              <a:chExt cx="6780960" cy="236160"/>
            </a:xfrm>
          </p:grpSpPr>
          <p:sp>
            <p:nvSpPr>
              <p:cNvPr id="124" name="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~Stack(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 stackPtr; }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0" y="2364840"/>
              <a:ext cx="6780960" cy="236520"/>
              <a:chOff x="0" y="2364840"/>
              <a:chExt cx="6780960" cy="236520"/>
            </a:xfrm>
          </p:grpSpPr>
          <p:sp>
            <p:nvSpPr>
              <p:cNvPr id="127" name="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ush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&amp;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ush an element onto the 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0" y="2601360"/>
              <a:ext cx="6780960" cy="236160"/>
              <a:chOff x="0" y="2601360"/>
              <a:chExt cx="6780960" cy="236160"/>
            </a:xfrm>
          </p:grpSpPr>
          <p:sp>
            <p:nvSpPr>
              <p:cNvPr id="130" name="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p( T&amp; 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op an element off the 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0" y="2837880"/>
              <a:ext cx="6780960" cy="236160"/>
              <a:chOff x="0" y="2837880"/>
              <a:chExt cx="6780960" cy="236160"/>
            </a:xfrm>
          </p:grpSpPr>
          <p:sp>
            <p:nvSpPr>
              <p:cNvPr id="133" name="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0" y="3074040"/>
              <a:ext cx="6780960" cy="236160"/>
              <a:chOff x="0" y="3074040"/>
              <a:chExt cx="6780960" cy="236160"/>
            </a:xfrm>
          </p:grpSpPr>
          <p:sp>
            <p:nvSpPr>
              <p:cNvPr id="136" name="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;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# of elements in the 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0" y="3310560"/>
              <a:ext cx="6780960" cy="236520"/>
              <a:chOff x="0" y="3310560"/>
              <a:chExt cx="6780960" cy="236520"/>
            </a:xfrm>
          </p:grpSpPr>
          <p:sp>
            <p:nvSpPr>
              <p:cNvPr id="139" name="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op;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location of the top ele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0" y="3547080"/>
              <a:ext cx="6780960" cy="236160"/>
              <a:chOff x="0" y="3547080"/>
              <a:chExt cx="6780960" cy="236160"/>
            </a:xfrm>
          </p:grpSpPr>
          <p:sp>
            <p:nvSpPr>
              <p:cNvPr id="142" name="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 *stackPtr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ointer to the 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0" y="3783600"/>
              <a:ext cx="6780960" cy="236160"/>
              <a:chOff x="0" y="3783600"/>
              <a:chExt cx="6780960" cy="236160"/>
            </a:xfrm>
          </p:grpSpPr>
          <p:sp>
            <p:nvSpPr>
              <p:cNvPr id="145" name="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0" y="4020120"/>
              <a:ext cx="6780960" cy="236160"/>
              <a:chOff x="0" y="4020120"/>
              <a:chExt cx="6780960" cy="236160"/>
            </a:xfrm>
          </p:grpSpPr>
          <p:sp>
            <p:nvSpPr>
              <p:cNvPr id="148" name="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sEmpty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op == -1; }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tili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0" y="4256640"/>
              <a:ext cx="6780960" cy="236160"/>
              <a:chOff x="0" y="4256640"/>
              <a:chExt cx="6780960" cy="236160"/>
            </a:xfrm>
          </p:grpSpPr>
          <p:sp>
            <p:nvSpPr>
              <p:cNvPr id="151" name="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sFul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op == size - 1; }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unc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0" y="4493160"/>
              <a:ext cx="6780960" cy="236520"/>
              <a:chOff x="0" y="4493160"/>
              <a:chExt cx="6780960" cy="236520"/>
            </a:xfrm>
          </p:grpSpPr>
          <p:sp>
            <p:nvSpPr>
              <p:cNvPr id="154" name="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0" y="4729680"/>
              <a:ext cx="6780960" cy="236160"/>
              <a:chOff x="0" y="4729680"/>
              <a:chExt cx="6780960" cy="236160"/>
            </a:xfrm>
          </p:grpSpPr>
          <p:sp>
            <p:nvSpPr>
              <p:cNvPr id="157" name="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0" y="4966200"/>
              <a:ext cx="6780960" cy="236160"/>
              <a:chOff x="0" y="4966200"/>
              <a:chExt cx="6780960" cy="236160"/>
            </a:xfrm>
          </p:grpSpPr>
          <p:sp>
            <p:nvSpPr>
              <p:cNvPr id="160" name="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with default size 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0" y="5202720"/>
              <a:ext cx="6780960" cy="236160"/>
              <a:chOff x="0" y="5202720"/>
              <a:chExt cx="6780960" cy="236160"/>
            </a:xfrm>
          </p:grpSpPr>
          <p:sp>
            <p:nvSpPr>
              <p:cNvPr id="163" name="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templ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 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0" y="5438880"/>
              <a:ext cx="6780960" cy="236520"/>
              <a:chOff x="0" y="5438880"/>
              <a:chExt cx="6780960" cy="236520"/>
            </a:xfrm>
          </p:grpSpPr>
          <p:sp>
            <p:nvSpPr>
              <p:cNvPr id="166" name="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Stack&lt; T &gt;::Stack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0" y="5675760"/>
              <a:ext cx="6780960" cy="236160"/>
              <a:chOff x="0" y="5675760"/>
              <a:chExt cx="6780960" cy="236160"/>
            </a:xfrm>
          </p:grpSpPr>
          <p:sp>
            <p:nvSpPr>
              <p:cNvPr id="169" name="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0" y="5911920"/>
              <a:ext cx="6780960" cy="236160"/>
              <a:chOff x="0" y="5911920"/>
              <a:chExt cx="6780960" cy="236160"/>
            </a:xfrm>
          </p:grpSpPr>
          <p:sp>
            <p:nvSpPr>
              <p:cNvPr id="172" name="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ize = s &gt; 0 ? s : 10;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0" y="6148440"/>
              <a:ext cx="6780960" cy="236160"/>
              <a:chOff x="0" y="6148440"/>
              <a:chExt cx="6780960" cy="236160"/>
            </a:xfrm>
          </p:grpSpPr>
          <p:sp>
            <p:nvSpPr>
              <p:cNvPr id="175" name="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op = -1;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ck is initially emp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0" y="6384960"/>
              <a:ext cx="6780960" cy="236520"/>
              <a:chOff x="0" y="6384960"/>
              <a:chExt cx="6780960" cy="236520"/>
            </a:xfrm>
          </p:grpSpPr>
          <p:sp>
            <p:nvSpPr>
              <p:cNvPr id="178" name="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ackPtr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[ size ]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llocate space for ele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0" y="6621480"/>
              <a:ext cx="6780960" cy="236160"/>
              <a:chOff x="0" y="6621480"/>
              <a:chExt cx="6780960" cy="236160"/>
            </a:xfrm>
          </p:grpSpPr>
          <p:sp>
            <p:nvSpPr>
              <p:cNvPr id="181" name="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op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85" name=""/>
            <p:cNvGrpSpPr/>
            <p:nvPr/>
          </p:nvGrpSpPr>
          <p:grpSpPr>
            <a:xfrm>
              <a:off x="0" y="0"/>
              <a:ext cx="6780960" cy="273960"/>
              <a:chOff x="0" y="0"/>
              <a:chExt cx="6780960" cy="273960"/>
            </a:xfrm>
          </p:grpSpPr>
          <p:sp>
            <p:nvSpPr>
              <p:cNvPr id="186" name="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0" y="273960"/>
              <a:ext cx="6780960" cy="273960"/>
              <a:chOff x="0" y="273960"/>
              <a:chExt cx="6780960" cy="273960"/>
            </a:xfrm>
          </p:grpSpPr>
          <p:sp>
            <p:nvSpPr>
              <p:cNvPr id="189" name="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ush an element onto the 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0" y="548280"/>
              <a:ext cx="6780960" cy="274320"/>
              <a:chOff x="0" y="548280"/>
              <a:chExt cx="6780960" cy="274320"/>
            </a:xfrm>
          </p:grpSpPr>
          <p:sp>
            <p:nvSpPr>
              <p:cNvPr id="192" name="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1 if successful, 0 otherwi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0" y="822960"/>
              <a:ext cx="6780960" cy="273960"/>
              <a:chOff x="0" y="822960"/>
              <a:chExt cx="6780960" cy="273960"/>
            </a:xfrm>
          </p:grpSpPr>
          <p:sp>
            <p:nvSpPr>
              <p:cNvPr id="195" name="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templ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 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0" y="1097280"/>
              <a:ext cx="6780960" cy="273960"/>
              <a:chOff x="0" y="1097280"/>
              <a:chExt cx="6780960" cy="273960"/>
            </a:xfrm>
          </p:grpSpPr>
          <p:sp>
            <p:nvSpPr>
              <p:cNvPr id="198" name="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ack&lt; T &gt;::push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 &amp;pushValu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0" y="1371600"/>
              <a:ext cx="6780960" cy="273960"/>
              <a:chOff x="0" y="1371600"/>
              <a:chExt cx="6780960" cy="273960"/>
            </a:xfrm>
          </p:grpSpPr>
          <p:sp>
            <p:nvSpPr>
              <p:cNvPr id="201" name="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0" y="1645560"/>
              <a:ext cx="6780960" cy="274320"/>
              <a:chOff x="0" y="1645560"/>
              <a:chExt cx="6780960" cy="274320"/>
            </a:xfrm>
          </p:grpSpPr>
          <p:sp>
            <p:nvSpPr>
              <p:cNvPr id="204" name="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!isFull()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0" y="1920240"/>
              <a:ext cx="6780960" cy="273960"/>
              <a:chOff x="0" y="1920240"/>
              <a:chExt cx="6780960" cy="273960"/>
            </a:xfrm>
          </p:grpSpPr>
          <p:sp>
            <p:nvSpPr>
              <p:cNvPr id="207" name="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tackPtr[ ++top ] = pushValue;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place item in 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0" y="2194560"/>
              <a:ext cx="6780960" cy="273960"/>
              <a:chOff x="0" y="2194560"/>
              <a:chExt cx="6780960" cy="273960"/>
            </a:xfrm>
          </p:grpSpPr>
          <p:sp>
            <p:nvSpPr>
              <p:cNvPr id="210" name="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tru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ush successfu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0" y="2468880"/>
              <a:ext cx="6780960" cy="273960"/>
              <a:chOff x="0" y="2468880"/>
              <a:chExt cx="6780960" cy="273960"/>
            </a:xfrm>
          </p:grpSpPr>
          <p:sp>
            <p:nvSpPr>
              <p:cNvPr id="213" name="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0" y="2743200"/>
              <a:ext cx="6780960" cy="274320"/>
              <a:chOff x="0" y="2743200"/>
              <a:chExt cx="6780960" cy="274320"/>
            </a:xfrm>
          </p:grpSpPr>
          <p:sp>
            <p:nvSpPr>
              <p:cNvPr id="216" name="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a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ush unsuccessfu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0" y="3017520"/>
              <a:ext cx="6780960" cy="273960"/>
              <a:chOff x="0" y="3017520"/>
              <a:chExt cx="6780960" cy="273960"/>
            </a:xfrm>
          </p:grpSpPr>
          <p:sp>
            <p:nvSpPr>
              <p:cNvPr id="219" name="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0" y="3291840"/>
              <a:ext cx="6780960" cy="273960"/>
              <a:chOff x="0" y="3291840"/>
              <a:chExt cx="6780960" cy="273960"/>
            </a:xfrm>
          </p:grpSpPr>
          <p:sp>
            <p:nvSpPr>
              <p:cNvPr id="222" name="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0" y="3566160"/>
              <a:ext cx="6780960" cy="273960"/>
              <a:chOff x="0" y="3566160"/>
              <a:chExt cx="6780960" cy="273960"/>
            </a:xfrm>
          </p:grpSpPr>
          <p:sp>
            <p:nvSpPr>
              <p:cNvPr id="225" name="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op an element off the 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0" y="3840480"/>
              <a:ext cx="6780960" cy="274320"/>
              <a:chOff x="0" y="3840480"/>
              <a:chExt cx="6780960" cy="274320"/>
            </a:xfrm>
          </p:grpSpPr>
          <p:sp>
            <p:nvSpPr>
              <p:cNvPr id="228" name="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templ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 &gt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0" y="4114800"/>
              <a:ext cx="6780960" cy="273960"/>
              <a:chOff x="0" y="4114800"/>
              <a:chExt cx="6780960" cy="273960"/>
            </a:xfrm>
          </p:grpSpPr>
          <p:sp>
            <p:nvSpPr>
              <p:cNvPr id="231" name=""/>
              <p:cNvSpPr/>
              <p:nvPr/>
            </p:nvSpPr>
            <p:spPr>
              <a:xfrm>
                <a:off x="0" y="41148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41148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ack&lt; T &gt;::pop( T &amp;popValu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0" y="4389120"/>
              <a:ext cx="6780960" cy="273960"/>
              <a:chOff x="0" y="4389120"/>
              <a:chExt cx="6780960" cy="27396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43891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43891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0" y="4663440"/>
              <a:ext cx="6780960" cy="273960"/>
              <a:chOff x="0" y="4663440"/>
              <a:chExt cx="6780960" cy="273960"/>
            </a:xfrm>
          </p:grpSpPr>
          <p:sp>
            <p:nvSpPr>
              <p:cNvPr id="237" name=""/>
              <p:cNvSpPr/>
              <p:nvPr/>
            </p:nvSpPr>
            <p:spPr>
              <a:xfrm>
                <a:off x="0" y="46634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46634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!isEmpty()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0" y="4937760"/>
              <a:ext cx="6780960" cy="273960"/>
              <a:chOff x="0" y="4937760"/>
              <a:chExt cx="6780960" cy="273960"/>
            </a:xfrm>
          </p:grpSpPr>
          <p:sp>
            <p:nvSpPr>
              <p:cNvPr id="240" name=""/>
              <p:cNvSpPr/>
              <p:nvPr/>
            </p:nvSpPr>
            <p:spPr>
              <a:xfrm>
                <a:off x="0" y="49377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9377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opValue = stackPtr[ top-- ]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move item from 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0" y="5212080"/>
              <a:ext cx="6780960" cy="274320"/>
              <a:chOff x="0" y="5212080"/>
              <a:chExt cx="6780960" cy="274320"/>
            </a:xfrm>
          </p:grpSpPr>
          <p:sp>
            <p:nvSpPr>
              <p:cNvPr id="243" name=""/>
              <p:cNvSpPr/>
              <p:nvPr/>
            </p:nvSpPr>
            <p:spPr>
              <a:xfrm>
                <a:off x="0" y="52120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52120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tru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op successfu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0" y="5486400"/>
              <a:ext cx="6780960" cy="273960"/>
              <a:chOff x="0" y="5486400"/>
              <a:chExt cx="6780960" cy="273960"/>
            </a:xfrm>
          </p:grpSpPr>
          <p:sp>
            <p:nvSpPr>
              <p:cNvPr id="246" name=""/>
              <p:cNvSpPr/>
              <p:nvPr/>
            </p:nvSpPr>
            <p:spPr>
              <a:xfrm>
                <a:off x="0" y="54864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54864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0" y="5760720"/>
              <a:ext cx="6780960" cy="273960"/>
              <a:chOff x="0" y="5760720"/>
              <a:chExt cx="6780960" cy="273960"/>
            </a:xfrm>
          </p:grpSpPr>
          <p:sp>
            <p:nvSpPr>
              <p:cNvPr id="249" name=""/>
              <p:cNvSpPr/>
              <p:nvPr/>
            </p:nvSpPr>
            <p:spPr>
              <a:xfrm>
                <a:off x="0" y="57607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0" y="57607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a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pop unsuccessfu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0" y="6035040"/>
              <a:ext cx="6780960" cy="273960"/>
              <a:chOff x="0" y="6035040"/>
              <a:chExt cx="6780960" cy="273960"/>
            </a:xfrm>
          </p:grpSpPr>
          <p:sp>
            <p:nvSpPr>
              <p:cNvPr id="252" name=""/>
              <p:cNvSpPr/>
              <p:nvPr/>
            </p:nvSpPr>
            <p:spPr>
              <a:xfrm>
                <a:off x="0" y="60350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60350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0" y="6309360"/>
              <a:ext cx="6780960" cy="274320"/>
              <a:chOff x="0" y="6309360"/>
              <a:chExt cx="6780960" cy="274320"/>
            </a:xfrm>
          </p:grpSpPr>
          <p:sp>
            <p:nvSpPr>
              <p:cNvPr id="255" name=""/>
              <p:cNvSpPr/>
              <p:nvPr/>
            </p:nvSpPr>
            <p:spPr>
              <a:xfrm>
                <a:off x="0" y="63093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0" y="63093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0" y="6583680"/>
              <a:ext cx="6780960" cy="273960"/>
              <a:chOff x="0" y="6583680"/>
              <a:chExt cx="6780960" cy="273960"/>
            </a:xfrm>
          </p:grpSpPr>
          <p:sp>
            <p:nvSpPr>
              <p:cNvPr id="258" name=""/>
              <p:cNvSpPr/>
              <p:nvPr/>
            </p:nvSpPr>
            <p:spPr>
              <a:xfrm>
                <a:off x="0" y="65836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0" y="6583680"/>
                <a:ext cx="6780600" cy="273960"/>
                <a:chOff x="0" y="6583680"/>
                <a:chExt cx="6780600" cy="27396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0" y="6583680"/>
                  <a:ext cx="6780600" cy="273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0" y="6583680"/>
                  <a:ext cx="6780600" cy="27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Stack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264" name=""/>
            <p:cNvGrpSpPr/>
            <p:nvPr/>
          </p:nvGrpSpPr>
          <p:grpSpPr>
            <a:xfrm>
              <a:off x="0" y="0"/>
              <a:ext cx="6780960" cy="273960"/>
              <a:chOff x="0" y="0"/>
              <a:chExt cx="6780960" cy="273960"/>
            </a:xfrm>
          </p:grpSpPr>
          <p:sp>
            <p:nvSpPr>
              <p:cNvPr id="265" name="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22.3: fig22_03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0" y="273960"/>
              <a:ext cx="6780960" cy="273960"/>
              <a:chOff x="0" y="273960"/>
              <a:chExt cx="6780960" cy="273960"/>
            </a:xfrm>
          </p:grpSpPr>
          <p:sp>
            <p:nvSpPr>
              <p:cNvPr id="268" name="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est driver for Stack templ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0" y="548280"/>
              <a:ext cx="6780960" cy="274320"/>
              <a:chOff x="0" y="548280"/>
              <a:chExt cx="6780960" cy="274320"/>
            </a:xfrm>
          </p:grpSpPr>
          <p:sp>
            <p:nvSpPr>
              <p:cNvPr id="271" name="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0" y="822960"/>
              <a:ext cx="6780960" cy="273960"/>
              <a:chOff x="0" y="822960"/>
              <a:chExt cx="6780960" cy="273960"/>
            </a:xfrm>
          </p:grpSpPr>
          <p:sp>
            <p:nvSpPr>
              <p:cNvPr id="274" name="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0" y="1097280"/>
              <a:ext cx="6780960" cy="273960"/>
              <a:chOff x="0" y="1097280"/>
              <a:chExt cx="6780960" cy="273960"/>
            </a:xfrm>
          </p:grpSpPr>
          <p:sp>
            <p:nvSpPr>
              <p:cNvPr id="277" name="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0" y="1371600"/>
              <a:ext cx="6780960" cy="273960"/>
              <a:chOff x="0" y="1371600"/>
              <a:chExt cx="6780960" cy="273960"/>
            </a:xfrm>
          </p:grpSpPr>
          <p:sp>
            <p:nvSpPr>
              <p:cNvPr id="280" name="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0" y="1645560"/>
              <a:ext cx="6780960" cy="274320"/>
              <a:chOff x="0" y="1645560"/>
              <a:chExt cx="6780960" cy="274320"/>
            </a:xfrm>
          </p:grpSpPr>
          <p:sp>
            <p:nvSpPr>
              <p:cNvPr id="283" name="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0" y="1920240"/>
              <a:ext cx="6780960" cy="273960"/>
              <a:chOff x="0" y="1920240"/>
              <a:chExt cx="6780960" cy="273960"/>
            </a:xfrm>
          </p:grpSpPr>
          <p:sp>
            <p:nvSpPr>
              <p:cNvPr id="286" name="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0" y="2194560"/>
              <a:ext cx="6780960" cy="273960"/>
              <a:chOff x="0" y="2194560"/>
              <a:chExt cx="6780960" cy="273960"/>
            </a:xfrm>
          </p:grpSpPr>
          <p:sp>
            <p:nvSpPr>
              <p:cNvPr id="289" name="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tstack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0" y="2468880"/>
              <a:ext cx="6780960" cy="273960"/>
              <a:chOff x="0" y="2468880"/>
              <a:chExt cx="6780960" cy="273960"/>
            </a:xfrm>
          </p:grpSpPr>
          <p:sp>
            <p:nvSpPr>
              <p:cNvPr id="292" name="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0" y="2743200"/>
              <a:ext cx="6780960" cy="274320"/>
              <a:chOff x="0" y="2743200"/>
              <a:chExt cx="6780960" cy="274320"/>
            </a:xfrm>
          </p:grpSpPr>
          <p:sp>
            <p:nvSpPr>
              <p:cNvPr id="295" name="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0" y="3017520"/>
              <a:ext cx="6780960" cy="273960"/>
              <a:chOff x="0" y="3017520"/>
              <a:chExt cx="6780960" cy="273960"/>
            </a:xfrm>
          </p:grpSpPr>
          <p:sp>
            <p:nvSpPr>
              <p:cNvPr id="298" name="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0" y="3291840"/>
              <a:ext cx="6780960" cy="273960"/>
              <a:chOff x="0" y="3291840"/>
              <a:chExt cx="6780960" cy="273960"/>
            </a:xfrm>
          </p:grpSpPr>
          <p:sp>
            <p:nvSpPr>
              <p:cNvPr id="301" name="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ack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gt; doubleStack( 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0" y="3566160"/>
              <a:ext cx="6780960" cy="273960"/>
              <a:chOff x="0" y="3566160"/>
              <a:chExt cx="6780960" cy="273960"/>
            </a:xfrm>
          </p:grpSpPr>
          <p:sp>
            <p:nvSpPr>
              <p:cNvPr id="304" name="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 = 1.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0" y="3840480"/>
              <a:ext cx="6780960" cy="274320"/>
              <a:chOff x="0" y="3840480"/>
              <a:chExt cx="6780960" cy="274320"/>
            </a:xfrm>
          </p:grpSpPr>
          <p:sp>
            <p:nvSpPr>
              <p:cNvPr id="307" name="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u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&lt; "Pushing elements onto doubleStack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0" y="4114800"/>
              <a:ext cx="6780960" cy="273960"/>
              <a:chOff x="0" y="4114800"/>
              <a:chExt cx="6780960" cy="273960"/>
            </a:xfrm>
          </p:grpSpPr>
          <p:sp>
            <p:nvSpPr>
              <p:cNvPr id="310" name=""/>
              <p:cNvSpPr/>
              <p:nvPr/>
            </p:nvSpPr>
            <p:spPr>
              <a:xfrm>
                <a:off x="0" y="41148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0" y="41148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0" y="4389120"/>
              <a:ext cx="6780960" cy="273960"/>
              <a:chOff x="0" y="4389120"/>
              <a:chExt cx="6780960" cy="273960"/>
            </a:xfrm>
          </p:grpSpPr>
          <p:sp>
            <p:nvSpPr>
              <p:cNvPr id="313" name=""/>
              <p:cNvSpPr/>
              <p:nvPr/>
            </p:nvSpPr>
            <p:spPr>
              <a:xfrm>
                <a:off x="0" y="43891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0" y="43891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doubleStack.push( f ) ) {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uccess true return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4663440"/>
              <a:ext cx="6780960" cy="273960"/>
              <a:chOff x="0" y="4663440"/>
              <a:chExt cx="6780960" cy="27396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46634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0" y="46634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f &lt;&lt; ' 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0" y="4937760"/>
              <a:ext cx="6780960" cy="273960"/>
              <a:chOff x="0" y="4937760"/>
              <a:chExt cx="6780960" cy="273960"/>
            </a:xfrm>
          </p:grpSpPr>
          <p:sp>
            <p:nvSpPr>
              <p:cNvPr id="319" name=""/>
              <p:cNvSpPr/>
              <p:nvPr/>
            </p:nvSpPr>
            <p:spPr>
              <a:xfrm>
                <a:off x="0" y="49377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0" y="49377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f += 1.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0" y="5212080"/>
              <a:ext cx="6780960" cy="274320"/>
              <a:chOff x="0" y="5212080"/>
              <a:chExt cx="6780960" cy="274320"/>
            </a:xfrm>
          </p:grpSpPr>
          <p:sp>
            <p:nvSpPr>
              <p:cNvPr id="322" name=""/>
              <p:cNvSpPr/>
              <p:nvPr/>
            </p:nvSpPr>
            <p:spPr>
              <a:xfrm>
                <a:off x="0" y="52120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0" y="52120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0" y="5486400"/>
              <a:ext cx="6780960" cy="273960"/>
              <a:chOff x="0" y="5486400"/>
              <a:chExt cx="6780960" cy="273960"/>
            </a:xfrm>
          </p:grpSpPr>
          <p:sp>
            <p:nvSpPr>
              <p:cNvPr id="325" name=""/>
              <p:cNvSpPr/>
              <p:nvPr/>
            </p:nvSpPr>
            <p:spPr>
              <a:xfrm>
                <a:off x="0" y="54864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54864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0" y="5760720"/>
              <a:ext cx="6780960" cy="273960"/>
              <a:chOff x="0" y="5760720"/>
              <a:chExt cx="6780960" cy="273960"/>
            </a:xfrm>
          </p:grpSpPr>
          <p:sp>
            <p:nvSpPr>
              <p:cNvPr id="328" name=""/>
              <p:cNvSpPr/>
              <p:nvPr/>
            </p:nvSpPr>
            <p:spPr>
              <a:xfrm>
                <a:off x="0" y="57607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0" y="57607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Stack is full. Cannot push " &lt;&lt; 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0" y="6035040"/>
              <a:ext cx="6780960" cy="273960"/>
              <a:chOff x="0" y="6035040"/>
              <a:chExt cx="6780960" cy="273960"/>
            </a:xfrm>
          </p:grpSpPr>
          <p:sp>
            <p:nvSpPr>
              <p:cNvPr id="331" name=""/>
              <p:cNvSpPr/>
              <p:nvPr/>
            </p:nvSpPr>
            <p:spPr>
              <a:xfrm>
                <a:off x="0" y="60350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0" y="60350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\nPopping elements from doubleStack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0" y="6309360"/>
              <a:ext cx="6780960" cy="274320"/>
              <a:chOff x="0" y="6309360"/>
              <a:chExt cx="6780960" cy="274320"/>
            </a:xfrm>
          </p:grpSpPr>
          <p:sp>
            <p:nvSpPr>
              <p:cNvPr id="334" name=""/>
              <p:cNvSpPr/>
              <p:nvPr/>
            </p:nvSpPr>
            <p:spPr>
              <a:xfrm>
                <a:off x="0" y="63093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0" y="63093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0" y="6583680"/>
              <a:ext cx="6780960" cy="273960"/>
              <a:chOff x="0" y="6583680"/>
              <a:chExt cx="6780960" cy="273960"/>
            </a:xfrm>
          </p:grpSpPr>
          <p:sp>
            <p:nvSpPr>
              <p:cNvPr id="337" name=""/>
              <p:cNvSpPr/>
              <p:nvPr/>
            </p:nvSpPr>
            <p:spPr>
              <a:xfrm>
                <a:off x="0" y="65836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0" y="65836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doubleStack.pop( f )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uccess true return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0" y="0"/>
            <a:ext cx="6780960" cy="5181480"/>
            <a:chOff x="0" y="0"/>
            <a:chExt cx="6780960" cy="5181480"/>
          </a:xfrm>
        </p:grpSpPr>
        <p:grpSp>
          <p:nvGrpSpPr>
            <p:cNvPr id="341" name=""/>
            <p:cNvGrpSpPr/>
            <p:nvPr/>
          </p:nvGrpSpPr>
          <p:grpSpPr>
            <a:xfrm>
              <a:off x="0" y="0"/>
              <a:ext cx="6780960" cy="235440"/>
              <a:chOff x="0" y="0"/>
              <a:chExt cx="6780960" cy="235440"/>
            </a:xfrm>
          </p:grpSpPr>
          <p:sp>
            <p:nvSpPr>
              <p:cNvPr id="342" name=""/>
              <p:cNvSpPr/>
              <p:nvPr/>
            </p:nvSpPr>
            <p:spPr>
              <a:xfrm>
                <a:off x="0" y="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0" y="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f &lt;&lt; ' 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0" y="235440"/>
              <a:ext cx="6780960" cy="235440"/>
              <a:chOff x="0" y="235440"/>
              <a:chExt cx="6780960" cy="235440"/>
            </a:xfrm>
          </p:grpSpPr>
          <p:sp>
            <p:nvSpPr>
              <p:cNvPr id="345" name=""/>
              <p:cNvSpPr/>
              <p:nvPr/>
            </p:nvSpPr>
            <p:spPr>
              <a:xfrm>
                <a:off x="0" y="23544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23544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0" y="470880"/>
              <a:ext cx="6780960" cy="235440"/>
              <a:chOff x="0" y="470880"/>
              <a:chExt cx="6780960" cy="235440"/>
            </a:xfrm>
          </p:grpSpPr>
          <p:sp>
            <p:nvSpPr>
              <p:cNvPr id="348" name=""/>
              <p:cNvSpPr/>
              <p:nvPr/>
            </p:nvSpPr>
            <p:spPr>
              <a:xfrm>
                <a:off x="0" y="47088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0" y="47088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Stack is empty. Cannot pop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0" y="706320"/>
              <a:ext cx="6780960" cy="235440"/>
              <a:chOff x="0" y="706320"/>
              <a:chExt cx="6780960" cy="235440"/>
            </a:xfrm>
          </p:grpSpPr>
          <p:sp>
            <p:nvSpPr>
              <p:cNvPr id="351" name=""/>
              <p:cNvSpPr/>
              <p:nvPr/>
            </p:nvSpPr>
            <p:spPr>
              <a:xfrm>
                <a:off x="0" y="70632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0" y="70632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0" y="942120"/>
              <a:ext cx="6780960" cy="235440"/>
              <a:chOff x="0" y="942120"/>
              <a:chExt cx="6780960" cy="235440"/>
            </a:xfrm>
          </p:grpSpPr>
          <p:sp>
            <p:nvSpPr>
              <p:cNvPr id="354" name=""/>
              <p:cNvSpPr/>
              <p:nvPr/>
            </p:nvSpPr>
            <p:spPr>
              <a:xfrm>
                <a:off x="0" y="94212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0" y="94212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ack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gt; intStack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1177560"/>
              <a:ext cx="6780960" cy="235440"/>
              <a:chOff x="0" y="1177560"/>
              <a:chExt cx="6780960" cy="23544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117756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117756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0" y="1413000"/>
              <a:ext cx="6780960" cy="235440"/>
              <a:chOff x="0" y="1413000"/>
              <a:chExt cx="6780960" cy="235440"/>
            </a:xfrm>
          </p:grpSpPr>
          <p:sp>
            <p:nvSpPr>
              <p:cNvPr id="360" name=""/>
              <p:cNvSpPr/>
              <p:nvPr/>
            </p:nvSpPr>
            <p:spPr>
              <a:xfrm>
                <a:off x="0" y="141300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141300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Pushing elements onto intStack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0" y="1648440"/>
              <a:ext cx="6780960" cy="235440"/>
              <a:chOff x="0" y="1648440"/>
              <a:chExt cx="6780960" cy="235440"/>
            </a:xfrm>
          </p:grpSpPr>
          <p:sp>
            <p:nvSpPr>
              <p:cNvPr id="363" name=""/>
              <p:cNvSpPr/>
              <p:nvPr/>
            </p:nvSpPr>
            <p:spPr>
              <a:xfrm>
                <a:off x="0" y="164844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164844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0" y="1884240"/>
              <a:ext cx="6780960" cy="235440"/>
              <a:chOff x="0" y="1884240"/>
              <a:chExt cx="6780960" cy="235440"/>
            </a:xfrm>
          </p:grpSpPr>
          <p:sp>
            <p:nvSpPr>
              <p:cNvPr id="366" name=""/>
              <p:cNvSpPr/>
              <p:nvPr/>
            </p:nvSpPr>
            <p:spPr>
              <a:xfrm>
                <a:off x="0" y="188424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188424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ntStack.push( i ) ) {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uccess true return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0" y="2119680"/>
              <a:ext cx="6780960" cy="235440"/>
              <a:chOff x="0" y="2119680"/>
              <a:chExt cx="6780960" cy="235440"/>
            </a:xfrm>
          </p:grpSpPr>
          <p:sp>
            <p:nvSpPr>
              <p:cNvPr id="369" name=""/>
              <p:cNvSpPr/>
              <p:nvPr/>
            </p:nvSpPr>
            <p:spPr>
              <a:xfrm>
                <a:off x="0" y="211968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211968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i &lt;&lt; ' 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0" y="2355120"/>
              <a:ext cx="6780960" cy="235440"/>
              <a:chOff x="0" y="2355120"/>
              <a:chExt cx="6780960" cy="235440"/>
            </a:xfrm>
          </p:grpSpPr>
          <p:sp>
            <p:nvSpPr>
              <p:cNvPr id="372" name=""/>
              <p:cNvSpPr/>
              <p:nvPr/>
            </p:nvSpPr>
            <p:spPr>
              <a:xfrm>
                <a:off x="0" y="235512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235512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++i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0" y="2590920"/>
              <a:ext cx="6780960" cy="235440"/>
              <a:chOff x="0" y="2590920"/>
              <a:chExt cx="6780960" cy="235440"/>
            </a:xfrm>
          </p:grpSpPr>
          <p:sp>
            <p:nvSpPr>
              <p:cNvPr id="375" name=""/>
              <p:cNvSpPr/>
              <p:nvPr/>
            </p:nvSpPr>
            <p:spPr>
              <a:xfrm>
                <a:off x="0" y="259092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259092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0" y="2826360"/>
              <a:ext cx="6780960" cy="235440"/>
              <a:chOff x="0" y="2826360"/>
              <a:chExt cx="6780960" cy="235440"/>
            </a:xfrm>
          </p:grpSpPr>
          <p:sp>
            <p:nvSpPr>
              <p:cNvPr id="378" name=""/>
              <p:cNvSpPr/>
              <p:nvPr/>
            </p:nvSpPr>
            <p:spPr>
              <a:xfrm>
                <a:off x="0" y="282636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282636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0" y="3061800"/>
              <a:ext cx="6780960" cy="235440"/>
              <a:chOff x="0" y="3061800"/>
              <a:chExt cx="6780960" cy="235440"/>
            </a:xfrm>
          </p:grpSpPr>
          <p:sp>
            <p:nvSpPr>
              <p:cNvPr id="381" name=""/>
              <p:cNvSpPr/>
              <p:nvPr/>
            </p:nvSpPr>
            <p:spPr>
              <a:xfrm>
                <a:off x="0" y="306180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306180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Stack is full. Cannot push " &lt;&lt; i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0" y="3297240"/>
              <a:ext cx="6780960" cy="235440"/>
              <a:chOff x="0" y="3297240"/>
              <a:chExt cx="6780960" cy="235440"/>
            </a:xfrm>
          </p:grpSpPr>
          <p:sp>
            <p:nvSpPr>
              <p:cNvPr id="384" name=""/>
              <p:cNvSpPr/>
              <p:nvPr/>
            </p:nvSpPr>
            <p:spPr>
              <a:xfrm>
                <a:off x="0" y="329724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0" y="329724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\nPopping elements from intStack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0" y="3533040"/>
              <a:ext cx="6780960" cy="235440"/>
              <a:chOff x="0" y="3533040"/>
              <a:chExt cx="6780960" cy="235440"/>
            </a:xfrm>
          </p:grpSpPr>
          <p:sp>
            <p:nvSpPr>
              <p:cNvPr id="387" name=""/>
              <p:cNvSpPr/>
              <p:nvPr/>
            </p:nvSpPr>
            <p:spPr>
              <a:xfrm>
                <a:off x="0" y="353304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0" y="353304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0" y="3768480"/>
              <a:ext cx="6780960" cy="235440"/>
              <a:chOff x="0" y="3768480"/>
              <a:chExt cx="6780960" cy="235440"/>
            </a:xfrm>
          </p:grpSpPr>
          <p:sp>
            <p:nvSpPr>
              <p:cNvPr id="390" name=""/>
              <p:cNvSpPr/>
              <p:nvPr/>
            </p:nvSpPr>
            <p:spPr>
              <a:xfrm>
                <a:off x="0" y="376848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0" y="376848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ntStack.pop( i )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uccess true return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0" y="4003920"/>
              <a:ext cx="6780960" cy="235440"/>
              <a:chOff x="0" y="4003920"/>
              <a:chExt cx="6780960" cy="235440"/>
            </a:xfrm>
          </p:grpSpPr>
          <p:sp>
            <p:nvSpPr>
              <p:cNvPr id="393" name=""/>
              <p:cNvSpPr/>
              <p:nvPr/>
            </p:nvSpPr>
            <p:spPr>
              <a:xfrm>
                <a:off x="0" y="400392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0" y="400392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i &lt;&lt; ' 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0" y="4239360"/>
              <a:ext cx="6780960" cy="235440"/>
              <a:chOff x="0" y="4239360"/>
              <a:chExt cx="6780960" cy="235440"/>
            </a:xfrm>
          </p:grpSpPr>
          <p:sp>
            <p:nvSpPr>
              <p:cNvPr id="396" name=""/>
              <p:cNvSpPr/>
              <p:nvPr/>
            </p:nvSpPr>
            <p:spPr>
              <a:xfrm>
                <a:off x="0" y="423936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0" y="423936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0" y="4474800"/>
              <a:ext cx="6780960" cy="235440"/>
              <a:chOff x="0" y="4474800"/>
              <a:chExt cx="6780960" cy="235440"/>
            </a:xfrm>
          </p:grpSpPr>
          <p:sp>
            <p:nvSpPr>
              <p:cNvPr id="399" name=""/>
              <p:cNvSpPr/>
              <p:nvPr/>
            </p:nvSpPr>
            <p:spPr>
              <a:xfrm>
                <a:off x="0" y="447480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0" y="447480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Stack is empty. Cannot pop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0" y="4710600"/>
              <a:ext cx="6780960" cy="235440"/>
              <a:chOff x="0" y="4710600"/>
              <a:chExt cx="6780960" cy="235440"/>
            </a:xfrm>
          </p:grpSpPr>
          <p:sp>
            <p:nvSpPr>
              <p:cNvPr id="402" name=""/>
              <p:cNvSpPr/>
              <p:nvPr/>
            </p:nvSpPr>
            <p:spPr>
              <a:xfrm>
                <a:off x="0" y="471060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471060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0" y="4946040"/>
              <a:ext cx="6780960" cy="235440"/>
              <a:chOff x="0" y="4946040"/>
              <a:chExt cx="6780960" cy="235440"/>
            </a:xfrm>
          </p:grpSpPr>
          <p:sp>
            <p:nvSpPr>
              <p:cNvPr id="405" name=""/>
              <p:cNvSpPr/>
              <p:nvPr/>
            </p:nvSpPr>
            <p:spPr>
              <a:xfrm>
                <a:off x="0" y="494604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0" y="494604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0"/>
            <a:ext cx="6781680" cy="3561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shing elements onto double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.1 2.2 3.3 4.4 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ck is full. Cannot push 6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pping elements from double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.5 4.4 3.3 2.2 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ck is empty. Cannot p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shing elements onto int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2 3 4 5 6 7 8 9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ck is full. Cannot push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pping elements from int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 9 8 7 6 5 4 3 2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ck is empty. Cannot p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13:50:06Z</dcterms:created>
  <dc:creator>kalid</dc:creator>
  <dc:description/>
  <dc:language>en-US</dc:language>
  <cp:lastModifiedBy>kalid</cp:lastModifiedBy>
  <dcterms:modified xsi:type="dcterms:W3CDTF">2000-08-04T13:30:22Z</dcterms:modified>
  <cp:revision>282</cp:revision>
  <dc:subject/>
  <dc:title>Chapter 12 - Templates</dc:title>
</cp:coreProperties>
</file>