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CEA5-AFD9-487F-B3F3-0C1655D92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8ADC-B51D-452F-B94F-6B22C2343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20F7-6D3D-44C6-81D0-B4CCCB6D0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4BA-1DD3-4498-8493-8CAD730B5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941-BF25-4E21-B1EE-0A4A41FD0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BE21-28DA-4D19-91A8-C26BE04F2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A120-9203-4C63-8B65-E96697E0C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EB57-DDC7-47F1-A91D-0FE960E05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952D-DCA8-4852-B2FA-61BE8114B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61C3-17AD-4D59-AA3C-FFC66A4CC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C4A6-58AD-43D9-9F23-B91404472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D960-D844-4CED-BD53-4C192A6BC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B2C-F1BE-4821-BC5D-49614B362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8 - Java Graphics and Java2D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133720"/>
            <a:ext cx="62481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raphics Contexts and Graphic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Ar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Polygons and Poly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Java2D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1" name="28_05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38113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takes thre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Font( String name, int style, int 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: any font supported by system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: consta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.PL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.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.ITALIC + FONT.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: measured in points (1/72 of an i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imila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setFont( fontObjec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Styl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am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Famil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l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Bol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Italic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Fo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ont(Font 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nt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methods for getting font metr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getFont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nt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70520" y="4253040"/>
            <a:ext cx="876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70520" y="4986360"/>
            <a:ext cx="757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4200" y="5637240"/>
            <a:ext cx="99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35600" y="5869080"/>
            <a:ext cx="876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28680" y="4924440"/>
            <a:ext cx="75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4336920"/>
            <a:ext cx="3483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y1</a:t>
            </a:r>
            <a:r>
              <a:rPr b="1" lang="en-US" sz="7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646520"/>
            <a:ext cx="485460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6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17840" y="4253040"/>
            <a:ext cx="49939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6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5720" y="5845320"/>
            <a:ext cx="54039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6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46280" y="6132600"/>
            <a:ext cx="49305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6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92360" y="4280040"/>
            <a:ext cx="360" cy="1852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85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5640" y="4259160"/>
            <a:ext cx="360" cy="370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2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05640" y="4646520"/>
            <a:ext cx="360" cy="1193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7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5857920"/>
            <a:ext cx="360" cy="288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06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88800"/>
            <a:ext cx="54514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243400"/>
            <a:ext cx="545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496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83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 (I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ntMetr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Asce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Desce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Leading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Heigh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FontMetrics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FontMetrics( Font f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nt Examp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0" name=""/>
            <p:cNvGrpSpPr/>
            <p:nvPr/>
          </p:nvGrpSpPr>
          <p:grpSpPr>
            <a:xfrm>
              <a:off x="0" y="0"/>
              <a:ext cx="6780960" cy="253800"/>
              <a:chOff x="0" y="0"/>
              <a:chExt cx="6780960" cy="2538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9: Fonts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53800"/>
              <a:ext cx="6780960" cy="253800"/>
              <a:chOff x="0" y="253800"/>
              <a:chExt cx="6780960" cy="2538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53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53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Using fo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507600"/>
              <a:ext cx="6780960" cy="253800"/>
              <a:chOff x="0" y="507600"/>
              <a:chExt cx="6780960" cy="2538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5076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076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761760"/>
              <a:ext cx="6780960" cy="253800"/>
              <a:chOff x="0" y="761760"/>
              <a:chExt cx="6780960" cy="25380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7617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7617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1015920"/>
              <a:ext cx="6780960" cy="253800"/>
              <a:chOff x="0" y="1015920"/>
              <a:chExt cx="6780960" cy="2538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1015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015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1269720"/>
              <a:ext cx="6780960" cy="253800"/>
              <a:chOff x="0" y="1269720"/>
              <a:chExt cx="6780960" cy="2538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2697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12697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1523880"/>
              <a:ext cx="6780960" cy="253800"/>
              <a:chOff x="0" y="1523880"/>
              <a:chExt cx="6780960" cy="2538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523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523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Fonts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1778040"/>
              <a:ext cx="6780960" cy="253800"/>
              <a:chOff x="0" y="1778040"/>
              <a:chExt cx="6780960" cy="2538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1778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1778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Font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031840"/>
              <a:ext cx="6780960" cy="253800"/>
              <a:chOff x="0" y="2031840"/>
              <a:chExt cx="6780960" cy="2538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031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031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2286000"/>
              <a:ext cx="6780960" cy="253800"/>
              <a:chOff x="0" y="2286000"/>
              <a:chExt cx="6780960" cy="2538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2286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286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Using font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2539800"/>
              <a:ext cx="6780960" cy="253800"/>
              <a:chOff x="0" y="2539800"/>
              <a:chExt cx="6780960" cy="2538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39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539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2793960"/>
              <a:ext cx="6780960" cy="253800"/>
              <a:chOff x="0" y="2793960"/>
              <a:chExt cx="6780960" cy="2538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2793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793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420, 1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3048120"/>
              <a:ext cx="6780960" cy="253800"/>
              <a:chOff x="0" y="3048120"/>
              <a:chExt cx="6780960" cy="2538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3048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3048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3301920"/>
              <a:ext cx="6780960" cy="253800"/>
              <a:chOff x="0" y="3301920"/>
              <a:chExt cx="6780960" cy="2538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3301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301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3556080"/>
              <a:ext cx="6780960" cy="253800"/>
              <a:chOff x="0" y="3556080"/>
              <a:chExt cx="6780960" cy="2538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3556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3556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3809880"/>
              <a:ext cx="6780960" cy="253800"/>
              <a:chOff x="0" y="3809880"/>
              <a:chExt cx="6780960" cy="2538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3809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809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4064040"/>
              <a:ext cx="6780960" cy="253800"/>
              <a:chOff x="0" y="4064040"/>
              <a:chExt cx="6780960" cy="2538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4064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4064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4317840"/>
              <a:ext cx="6780960" cy="253800"/>
              <a:chOff x="0" y="4317840"/>
              <a:chExt cx="6780960" cy="2538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4317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4317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current font to Serif (Times), bold, 12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572000"/>
              <a:ext cx="6780960" cy="253800"/>
              <a:chOff x="0" y="4572000"/>
              <a:chExt cx="6780960" cy="2538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572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572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and draw a strin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4825800"/>
              <a:ext cx="6780960" cy="253800"/>
              <a:chOff x="0" y="4825800"/>
              <a:chExt cx="6780960" cy="2538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4825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825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 new Font( "Serif", Font.BOLD, 1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5079960"/>
              <a:ext cx="6780960" cy="253800"/>
              <a:chOff x="0" y="5079960"/>
              <a:chExt cx="6780960" cy="2538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5079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5079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Serif 12 point bold.", 2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5334120"/>
              <a:ext cx="6780960" cy="253800"/>
              <a:chOff x="0" y="5334120"/>
              <a:chExt cx="6780960" cy="2538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5334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5334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5587920"/>
              <a:ext cx="6780960" cy="253800"/>
              <a:chOff x="0" y="5587920"/>
              <a:chExt cx="6780960" cy="2538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5587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5587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current font to Monospaced (Courier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5842080"/>
              <a:ext cx="6780960" cy="253800"/>
              <a:chOff x="0" y="5842080"/>
              <a:chExt cx="6780960" cy="2538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5842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5842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italic, 24pt and draw a strin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6096240"/>
              <a:ext cx="6780960" cy="253800"/>
              <a:chOff x="0" y="6096240"/>
              <a:chExt cx="6780960" cy="2538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60962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60962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 new Font( "Monospaced", Font.ITALIC, 24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6350040"/>
              <a:ext cx="6780960" cy="253800"/>
              <a:chOff x="0" y="6350040"/>
              <a:chExt cx="6780960" cy="2538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6350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6350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Monospaced 24 point italic.", 20, 7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6604200"/>
              <a:ext cx="6780960" cy="253800"/>
              <a:chOff x="0" y="6604200"/>
              <a:chExt cx="6780960" cy="25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66042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66042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83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current font to SansSerif (Helvetica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plain, 14pt and draw a strin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 new Font( "SansSerif", Font.PLAIN, 14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SansSerif 14 point plain.", 20, 9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current font to Serif (times), bold/italic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18pt and draw a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r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Font( "Serif", Font.BOLD + Font.ITALIC, 18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g.getFont().getName() + " "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g.getFont().getSize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" point bold italic.", 20, 1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onts app = new Font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1" name="28_09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5410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ntMetrics Examp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4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12: Metrics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Demonstrating methods of class FontMetric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class Graphics useful for obtaining font metr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Metrics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Metric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Demonstrating FontMetric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510, 2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 new Font( "SansSerif", Font.BOLD, 1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ontMetrics fm = g.getFontMetric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Current font: " + g.getFont(), 10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Ascent: " + fm.getAscent(), 10, 5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Descent: " + fm.getDescent(), 10, 7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Height: " + fm.getHeight(), 10, 8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Leading: " + fm.getLeading(), 10, 1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4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ont font = new Font( "Serif", Font.ITALIC, 1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m = g.getFontMetrics( fo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Font( fo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Current font: " + font, 10, 13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Ascent: " + fm.getAscent(), 10, 1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Descent: " + fm.getDescent(), 10, 16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Height: " + fm.getHeight(), 10, 17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Leading: " + fm.getLeading(), 10, 19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etrics app = new Metric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2D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pealing for its graphic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a class hierarchy for its graphics classes and 2D API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oordinat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x,y)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- vertic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 left corner is (0,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rdinates measured in pixels (smallest unit of resolu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627" name="28_12" descr=""/>
          <p:cNvPicPr/>
          <p:nvPr/>
        </p:nvPicPr>
        <p:blipFill>
          <a:blip r:embed="rId1"/>
          <a:stretch/>
        </p:blipFill>
        <p:spPr>
          <a:xfrm>
            <a:off x="157320" y="1295280"/>
            <a:ext cx="6472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 methods for drawing sh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Line( x1, y1, x2, y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Rect( x1, y1, width, heig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rectangle with upper left corn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1, y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Rect( x1, y1, width, heig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except fills rectangle with current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Rect (x1, y1, width, heig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except fills rectangle with background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3DRect(x1, y1, width, heigh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isRais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tangle, raised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Raised tru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low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 methods for drawing shape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3DR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previous, but fills rectangle with current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RoundRect( x, y, width, height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arcWidth, arcHeigh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rectangle with rounded corners.  See diagram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RoundRect( x, y, width, height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rcWidth, arcHeigh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Oval( x, y, width, heigh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oval in bounding rectangle (see di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ches rectangle at midpoint of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Oval ( x, y, width, heigh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91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80880" y="990720"/>
            <a:ext cx="5713920" cy="5104440"/>
            <a:chOff x="380880" y="990720"/>
            <a:chExt cx="5713920" cy="5104440"/>
          </a:xfrm>
        </p:grpSpPr>
        <p:sp>
          <p:nvSpPr>
            <p:cNvPr id="635" name=""/>
            <p:cNvSpPr/>
            <p:nvPr/>
          </p:nvSpPr>
          <p:spPr>
            <a:xfrm>
              <a:off x="1108800" y="1355040"/>
              <a:ext cx="3410280" cy="2448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88"/>
                  </a:lnTo>
                  <a:lnTo>
                    <a:pt x="0" y="19988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08800" y="1355040"/>
              <a:ext cx="3410280" cy="244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5320" y="5326920"/>
              <a:ext cx="712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5320" y="5654880"/>
              <a:ext cx="712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95320" y="5978880"/>
              <a:ext cx="712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06440" y="2222640"/>
              <a:ext cx="16077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c 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8800" y="3978360"/>
              <a:ext cx="34102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31840" y="1355040"/>
              <a:ext cx="360" cy="2448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0360" y="4080960"/>
              <a:ext cx="9230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98600" y="2514240"/>
              <a:ext cx="1096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e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29240" y="1282320"/>
              <a:ext cx="186120" cy="152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0880" y="990720"/>
              <a:ext cx="11808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21760" y="1351440"/>
              <a:ext cx="1492200" cy="102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64080" y="1387800"/>
              <a:ext cx="360" cy="983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33800" y="1850760"/>
              <a:ext cx="1775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c he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90000" y="1891080"/>
              <a:ext cx="1145880" cy="108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9" y="19733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04920" y="2765520"/>
              <a:ext cx="1492200" cy="102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53160" y="3279240"/>
              <a:ext cx="1412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54800" y="2502720"/>
              <a:ext cx="360" cy="73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419720" y="4114800"/>
            <a:ext cx="4647240" cy="2590200"/>
            <a:chOff x="4419720" y="4114800"/>
            <a:chExt cx="4647240" cy="2590200"/>
          </a:xfrm>
        </p:grpSpPr>
        <p:grpSp>
          <p:nvGrpSpPr>
            <p:cNvPr id="655" name=""/>
            <p:cNvGrpSpPr/>
            <p:nvPr/>
          </p:nvGrpSpPr>
          <p:grpSpPr>
            <a:xfrm>
              <a:off x="4972680" y="4446000"/>
              <a:ext cx="2948400" cy="1735200"/>
              <a:chOff x="4972680" y="4446000"/>
              <a:chExt cx="2948400" cy="1735200"/>
            </a:xfrm>
          </p:grpSpPr>
          <p:sp>
            <p:nvSpPr>
              <p:cNvPr id="656" name=""/>
              <p:cNvSpPr/>
              <p:nvPr/>
            </p:nvSpPr>
            <p:spPr>
              <a:xfrm>
                <a:off x="4989600" y="4464000"/>
                <a:ext cx="2894400" cy="170064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972680" y="4446000"/>
                <a:ext cx="2948400" cy="1735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2" y="0"/>
                    </a:moveTo>
                    <a:lnTo>
                      <a:pt x="19992" y="19986"/>
                    </a:lnTo>
                    <a:lnTo>
                      <a:pt x="0" y="19986"/>
                    </a:lnTo>
                    <a:lnTo>
                      <a:pt x="0" y="0"/>
                    </a:lnTo>
                    <a:lnTo>
                      <a:pt x="1999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4917600" y="4409640"/>
              <a:ext cx="146880" cy="108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19720" y="4114800"/>
              <a:ext cx="8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(x, 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69040" y="4446000"/>
              <a:ext cx="360" cy="171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6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72680" y="6343920"/>
              <a:ext cx="29304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08440" y="5283360"/>
              <a:ext cx="758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64640" y="6416280"/>
              <a:ext cx="638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0" y="1836720"/>
            <a:ext cx="5486400" cy="2394000"/>
            <a:chOff x="0" y="1836720"/>
            <a:chExt cx="5486400" cy="2394000"/>
          </a:xfrm>
        </p:grpSpPr>
        <p:sp>
          <p:nvSpPr>
            <p:cNvPr id="665" name=""/>
            <p:cNvSpPr/>
            <p:nvPr/>
          </p:nvSpPr>
          <p:spPr>
            <a:xfrm>
              <a:off x="0" y="2665440"/>
              <a:ext cx="548640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183672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0" y="423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876920" y="1295280"/>
            <a:ext cx="3961800" cy="703800"/>
            <a:chOff x="4876920" y="1295280"/>
            <a:chExt cx="3961800" cy="703800"/>
          </a:xfrm>
        </p:grpSpPr>
        <p:sp>
          <p:nvSpPr>
            <p:cNvPr id="669" name=""/>
            <p:cNvSpPr/>
            <p:nvPr/>
          </p:nvSpPr>
          <p:spPr>
            <a:xfrm>
              <a:off x="6649560" y="1295280"/>
              <a:ext cx="218916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RoundRect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876920" y="1600200"/>
              <a:ext cx="177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762120" y="4876920"/>
            <a:ext cx="3962160" cy="609480"/>
            <a:chOff x="762120" y="4876920"/>
            <a:chExt cx="3962160" cy="609480"/>
          </a:xfrm>
        </p:grpSpPr>
        <p:sp>
          <p:nvSpPr>
            <p:cNvPr id="672" name=""/>
            <p:cNvSpPr/>
            <p:nvPr/>
          </p:nvSpPr>
          <p:spPr>
            <a:xfrm>
              <a:off x="762120" y="4876920"/>
              <a:ext cx="2895480" cy="398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Ov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57600" y="510552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Lines, Rectangles, and Ovals Examp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0" y="0"/>
            <a:ext cx="6781320" cy="6324120"/>
            <a:chOff x="0" y="0"/>
            <a:chExt cx="6781320" cy="6324120"/>
          </a:xfrm>
        </p:grpSpPr>
        <p:grpSp>
          <p:nvGrpSpPr>
            <p:cNvPr id="676" name=""/>
            <p:cNvGrpSpPr/>
            <p:nvPr/>
          </p:nvGrpSpPr>
          <p:grpSpPr>
            <a:xfrm>
              <a:off x="0" y="0"/>
              <a:ext cx="6781320" cy="2286000"/>
              <a:chOff x="0" y="0"/>
              <a:chExt cx="6781320" cy="228600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0" y="0"/>
                <a:ext cx="6780960" cy="221760"/>
                <a:chOff x="0" y="0"/>
                <a:chExt cx="6780960" cy="2217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0" y="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0" y="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// Fig. 28.14: LinesRectsOvals.ja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0" y="221760"/>
                <a:ext cx="6780960" cy="221760"/>
                <a:chOff x="0" y="221760"/>
                <a:chExt cx="6780960" cy="2217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0" y="2217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0" y="2217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// Drawing lines, rectangles and ova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0" y="443520"/>
                <a:ext cx="6780960" cy="221760"/>
                <a:chOff x="0" y="443520"/>
                <a:chExt cx="6780960" cy="2217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0" y="44352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0" y="44352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.awt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0" y="665280"/>
                <a:ext cx="6780960" cy="221760"/>
                <a:chOff x="0" y="665280"/>
                <a:chExt cx="6780960" cy="2217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0" y="6652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0" y="6652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.awt.event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0" y="887040"/>
                <a:ext cx="6780960" cy="221760"/>
                <a:chOff x="0" y="887040"/>
                <a:chExt cx="6780960" cy="2217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0" y="8870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0" y="8870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x.swing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0" y="1108800"/>
                <a:ext cx="6780960" cy="221760"/>
                <a:chOff x="0" y="1108800"/>
                <a:chExt cx="6780960" cy="2217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0" y="110880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0" y="110880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0" y="1330560"/>
                <a:ext cx="6780960" cy="221760"/>
                <a:chOff x="0" y="1330560"/>
                <a:chExt cx="6780960" cy="2217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0" y="13305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0" y="13305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ublic class LinesRectsOvals extends JFram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0" y="1552680"/>
                <a:ext cx="6780960" cy="221760"/>
                <a:chOff x="0" y="1552680"/>
                <a:chExt cx="6780960" cy="2217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0" y="15526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0" y="15526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rivate String s = "Using drawString!"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0" y="1774440"/>
                <a:ext cx="6780960" cy="221760"/>
                <a:chOff x="0" y="1774440"/>
                <a:chExt cx="6780960" cy="221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0" y="17744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0" y="17744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"/>
              <p:cNvSpPr/>
              <p:nvPr/>
            </p:nvSpPr>
            <p:spPr>
              <a:xfrm>
                <a:off x="0" y="1996200"/>
                <a:ext cx="67813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09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1981080"/>
              <a:ext cx="6780960" cy="4343040"/>
              <a:chOff x="0" y="1981080"/>
              <a:chExt cx="6780960" cy="434304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0" y="1981080"/>
                <a:ext cx="6780960" cy="206640"/>
                <a:chOff x="0" y="1981080"/>
                <a:chExt cx="6780960" cy="2066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0" y="19810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0" y="19810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LinesRectsOvals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0" y="2187720"/>
                <a:ext cx="6780960" cy="206640"/>
                <a:chOff x="0" y="2187720"/>
                <a:chExt cx="6780960" cy="2066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0" y="21877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0" y="21877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0" y="2394360"/>
                <a:ext cx="6780960" cy="206640"/>
                <a:chOff x="0" y="2394360"/>
                <a:chExt cx="6780960" cy="2066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0" y="2394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0" y="2394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uper( "Drawing lines, rectangles and ovals"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0" y="2601360"/>
                <a:ext cx="6780960" cy="206640"/>
                <a:chOff x="0" y="2601360"/>
                <a:chExt cx="6780960" cy="206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0" y="2601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0" y="2601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0" y="2808360"/>
                <a:ext cx="6780960" cy="206640"/>
                <a:chOff x="0" y="2808360"/>
                <a:chExt cx="6780960" cy="2066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0" y="2808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0" y="28083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etSize( 400, 16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0" y="3015000"/>
                <a:ext cx="6780960" cy="206640"/>
                <a:chOff x="0" y="3015000"/>
                <a:chExt cx="6780960" cy="2066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0" y="30150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0" y="30150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how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0" y="3222000"/>
                <a:ext cx="6780960" cy="206640"/>
                <a:chOff x="0" y="3222000"/>
                <a:chExt cx="6780960" cy="2066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0" y="32220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0" y="32220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0" y="3428640"/>
                <a:ext cx="6780960" cy="206640"/>
                <a:chOff x="0" y="3428640"/>
                <a:chExt cx="6780960" cy="2066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0" y="34286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0" y="34286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0" y="3635640"/>
                <a:ext cx="6780960" cy="206640"/>
                <a:chOff x="0" y="3635640"/>
                <a:chExt cx="6780960" cy="2066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0" y="36356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0" y="36356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void paint( Graphics g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0" y="3842280"/>
                <a:ext cx="6780960" cy="206640"/>
                <a:chOff x="0" y="3842280"/>
                <a:chExt cx="6780960" cy="2066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0" y="38422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0" y="38422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0" y="4049280"/>
                <a:ext cx="6780960" cy="206640"/>
                <a:chOff x="0" y="4049280"/>
                <a:chExt cx="6780960" cy="2066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0" y="40492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0" y="40492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setColor( Color.red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0" y="4255920"/>
                <a:ext cx="6780960" cy="206640"/>
                <a:chOff x="0" y="4255920"/>
                <a:chExt cx="6780960" cy="2066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0" y="4255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0" y="4255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Line( 5, 30, 350, 3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0" y="4462920"/>
                <a:ext cx="6780960" cy="206640"/>
                <a:chOff x="0" y="4462920"/>
                <a:chExt cx="6780960" cy="2066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0" y="4462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0" y="4462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0" y="4669920"/>
                <a:ext cx="6780960" cy="206640"/>
                <a:chOff x="0" y="4669920"/>
                <a:chExt cx="6780960" cy="2066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0" y="4669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0" y="466992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setColor( Color.blue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0" y="4876560"/>
                <a:ext cx="6780960" cy="206640"/>
                <a:chOff x="0" y="4876560"/>
                <a:chExt cx="6780960" cy="20664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0" y="48765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0" y="48765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Rect( 5, 40, 90, 5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0" y="5083560"/>
                <a:ext cx="6780960" cy="206640"/>
                <a:chOff x="0" y="5083560"/>
                <a:chExt cx="6780960" cy="206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0" y="50835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0" y="508356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fillRect( 100, 40, 90, 5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0" y="5290200"/>
                <a:ext cx="6780960" cy="206640"/>
                <a:chOff x="0" y="5290200"/>
                <a:chExt cx="6780960" cy="2066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0" y="52902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0" y="52902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0" y="5497200"/>
                <a:ext cx="6780960" cy="206640"/>
                <a:chOff x="0" y="5497200"/>
                <a:chExt cx="6780960" cy="2066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0" y="54972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0" y="549720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setColor( Color.cyan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0" y="5703840"/>
                <a:ext cx="6780960" cy="206640"/>
                <a:chOff x="0" y="5703840"/>
                <a:chExt cx="6780960" cy="2066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0" y="57038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0" y="57038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fillRoundRect( 195, 40, 90, 55, 50, 5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0" y="5910840"/>
                <a:ext cx="6780960" cy="206640"/>
                <a:chOff x="0" y="5910840"/>
                <a:chExt cx="6780960" cy="2066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0" y="59108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0" y="591084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RoundRect( 290, 40, 90, 55, 20, 2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0" y="6117480"/>
                <a:ext cx="6780960" cy="206640"/>
                <a:chOff x="0" y="6117480"/>
                <a:chExt cx="6780960" cy="2066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0" y="61174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0" y="6117480"/>
                  <a:ext cx="6780960" cy="206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771" name=""/>
            <p:cNvGrpSpPr/>
            <p:nvPr/>
          </p:nvGrpSpPr>
          <p:grpSpPr>
            <a:xfrm>
              <a:off x="0" y="0"/>
              <a:ext cx="6780960" cy="218520"/>
              <a:chOff x="0" y="0"/>
              <a:chExt cx="6780960" cy="21852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yellow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218520"/>
              <a:ext cx="6780960" cy="218520"/>
              <a:chOff x="0" y="218520"/>
              <a:chExt cx="6780960" cy="21852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2185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2185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3DRect( 5, 100, 90, 55, tru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437040"/>
              <a:ext cx="6780960" cy="218520"/>
              <a:chOff x="0" y="437040"/>
              <a:chExt cx="6780960" cy="21852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4370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4370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3DRect( 100, 100, 90, 55, fal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655920"/>
              <a:ext cx="6780960" cy="218520"/>
              <a:chOff x="0" y="655920"/>
              <a:chExt cx="6780960" cy="21852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6559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6559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874440"/>
              <a:ext cx="6780960" cy="218520"/>
              <a:chOff x="0" y="874440"/>
              <a:chExt cx="6780960" cy="21852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8744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8744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magenta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1093320"/>
              <a:ext cx="6780960" cy="218520"/>
              <a:chOff x="0" y="1093320"/>
              <a:chExt cx="6780960" cy="21852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10933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10933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Oval( 195, 100, 90, 5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1311840"/>
              <a:ext cx="6780960" cy="218520"/>
              <a:chOff x="0" y="1311840"/>
              <a:chExt cx="6780960" cy="21852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1311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311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Oval( 290, 100, 90, 5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1530720"/>
              <a:ext cx="6780960" cy="218520"/>
              <a:chOff x="0" y="1530720"/>
              <a:chExt cx="6780960" cy="21852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15307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15307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1749240"/>
              <a:ext cx="6780960" cy="218520"/>
              <a:chOff x="0" y="1749240"/>
              <a:chExt cx="6780960" cy="21852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17492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17492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1967760"/>
              <a:ext cx="6780960" cy="218520"/>
              <a:chOff x="0" y="1967760"/>
              <a:chExt cx="6780960" cy="21852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1967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1967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2186640"/>
              <a:ext cx="6780960" cy="218520"/>
              <a:chOff x="0" y="2186640"/>
              <a:chExt cx="6780960" cy="21852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21866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21866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2405160"/>
              <a:ext cx="6780960" cy="218520"/>
              <a:chOff x="0" y="2405160"/>
              <a:chExt cx="6780960" cy="21852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24051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4051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LinesRectsOvals app = new LinesRectsOval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2624040"/>
              <a:ext cx="6780960" cy="218520"/>
              <a:chOff x="0" y="2624040"/>
              <a:chExt cx="6780960" cy="21852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26240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26240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2842560"/>
              <a:ext cx="6780960" cy="218520"/>
              <a:chOff x="0" y="2842560"/>
              <a:chExt cx="6780960" cy="21852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28425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28425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3061080"/>
              <a:ext cx="6780960" cy="218520"/>
              <a:chOff x="0" y="3061080"/>
              <a:chExt cx="6780960" cy="21852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3061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3061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3279960"/>
              <a:ext cx="6780960" cy="218520"/>
              <a:chOff x="0" y="3279960"/>
              <a:chExt cx="6780960" cy="21852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3279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3279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3498480"/>
              <a:ext cx="6780960" cy="218520"/>
              <a:chOff x="0" y="3498480"/>
              <a:chExt cx="6780960" cy="21852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3498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3498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3717360"/>
              <a:ext cx="6780960" cy="218520"/>
              <a:chOff x="0" y="3717360"/>
              <a:chExt cx="6780960" cy="21852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37173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37173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3935880"/>
              <a:ext cx="6780960" cy="218520"/>
              <a:chOff x="0" y="3935880"/>
              <a:chExt cx="6780960" cy="21852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3935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3935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4154400"/>
              <a:ext cx="6780960" cy="218520"/>
              <a:chOff x="0" y="4154400"/>
              <a:chExt cx="6780960" cy="21852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4154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4154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4373280"/>
              <a:ext cx="6780960" cy="218520"/>
              <a:chOff x="0" y="4373280"/>
              <a:chExt cx="6780960" cy="21852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43732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43732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4591800"/>
              <a:ext cx="6780960" cy="218520"/>
              <a:chOff x="0" y="4591800"/>
              <a:chExt cx="6780960" cy="21852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4591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4591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4810680"/>
              <a:ext cx="6780960" cy="218520"/>
              <a:chOff x="0" y="4810680"/>
              <a:chExt cx="6780960" cy="21852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4810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4810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841" name="28_14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5486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Arc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an o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d in deg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a starting angle and sweeps the number of degrees specified by arc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- counterclock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- clock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rawing an arc, specify bounding rectangle for an o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Arc( x, y, width, height, startAngle, arcAngl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Ar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s above, but draws a solid arc (sect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4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19: DrawArcs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Drawing ar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DrawArcs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DrawArc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Drawing Arc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300, 17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0 and sweep 36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yello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Rect( 15, 35, 80, 8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bla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Arc( 15, 35, 80, 80, 0, 36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0 and sweep 11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yello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Rect( 100, 35, 80, 8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bla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Arc( 100, 35, 80, 80, 0, 1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0" y="0"/>
            <a:ext cx="6781320" cy="990720"/>
            <a:chOff x="0" y="0"/>
            <a:chExt cx="6781320" cy="990720"/>
          </a:xfrm>
        </p:grpSpPr>
        <p:grpSp>
          <p:nvGrpSpPr>
            <p:cNvPr id="935" name=""/>
            <p:cNvGrpSpPr/>
            <p:nvPr/>
          </p:nvGrpSpPr>
          <p:grpSpPr>
            <a:xfrm>
              <a:off x="0" y="0"/>
              <a:ext cx="6780960" cy="229680"/>
              <a:chOff x="0" y="0"/>
              <a:chExt cx="6780960" cy="22968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0"/>
                <a:ext cx="6780960" cy="229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0"/>
                <a:ext cx="6780960" cy="229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0 and sweep -27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229680"/>
              <a:ext cx="6780960" cy="229680"/>
              <a:chOff x="0" y="229680"/>
              <a:chExt cx="6780960" cy="22968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229680"/>
                <a:ext cx="6780960" cy="229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229680"/>
                <a:ext cx="6780960" cy="229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yello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459720"/>
              <a:ext cx="6780960" cy="230040"/>
              <a:chOff x="0" y="459720"/>
              <a:chExt cx="6780960" cy="23004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45972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45972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Rect( 185, 35, 80, 8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0" y="690120"/>
              <a:ext cx="67813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0" y="-37180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0" y="685800"/>
            <a:ext cx="6780960" cy="5866920"/>
            <a:chOff x="0" y="685800"/>
            <a:chExt cx="6780960" cy="5866920"/>
          </a:xfrm>
        </p:grpSpPr>
        <p:grpSp>
          <p:nvGrpSpPr>
            <p:cNvPr id="947" name=""/>
            <p:cNvGrpSpPr/>
            <p:nvPr/>
          </p:nvGrpSpPr>
          <p:grpSpPr>
            <a:xfrm>
              <a:off x="0" y="685800"/>
              <a:ext cx="6780960" cy="217080"/>
              <a:chOff x="0" y="685800"/>
              <a:chExt cx="6780960" cy="21708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685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685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Color.bla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902880"/>
              <a:ext cx="6780960" cy="217080"/>
              <a:chOff x="0" y="902880"/>
              <a:chExt cx="6780960" cy="21708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9028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9028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Arc( 185, 35, 80, 80, 0, -27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1120320"/>
              <a:ext cx="6780960" cy="217080"/>
              <a:chOff x="0" y="1120320"/>
              <a:chExt cx="6780960" cy="21708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11203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11203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1337760"/>
              <a:ext cx="6780960" cy="217080"/>
              <a:chOff x="0" y="1337760"/>
              <a:chExt cx="6780960" cy="21708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1337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1337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0 and sweep 36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0" y="1554840"/>
              <a:ext cx="6780960" cy="217080"/>
              <a:chOff x="0" y="1554840"/>
              <a:chExt cx="6780960" cy="217080"/>
            </a:xfrm>
          </p:grpSpPr>
          <p:sp>
            <p:nvSpPr>
              <p:cNvPr id="960" name=""/>
              <p:cNvSpPr/>
              <p:nvPr/>
            </p:nvSpPr>
            <p:spPr>
              <a:xfrm>
                <a:off x="0" y="15548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15548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Arc( 15, 120, 80, 40, 0, 36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0" y="1772280"/>
              <a:ext cx="6780960" cy="217080"/>
              <a:chOff x="0" y="1772280"/>
              <a:chExt cx="6780960" cy="217080"/>
            </a:xfrm>
          </p:grpSpPr>
          <p:sp>
            <p:nvSpPr>
              <p:cNvPr id="963" name=""/>
              <p:cNvSpPr/>
              <p:nvPr/>
            </p:nvSpPr>
            <p:spPr>
              <a:xfrm>
                <a:off x="0" y="1772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1772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0" y="1989720"/>
              <a:ext cx="6780960" cy="217080"/>
              <a:chOff x="0" y="1989720"/>
              <a:chExt cx="6780960" cy="217080"/>
            </a:xfrm>
          </p:grpSpPr>
          <p:sp>
            <p:nvSpPr>
              <p:cNvPr id="966" name=""/>
              <p:cNvSpPr/>
              <p:nvPr/>
            </p:nvSpPr>
            <p:spPr>
              <a:xfrm>
                <a:off x="0" y="1989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1989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270 and sweep -9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0" y="2206800"/>
              <a:ext cx="6780960" cy="217080"/>
              <a:chOff x="0" y="2206800"/>
              <a:chExt cx="6780960" cy="217080"/>
            </a:xfrm>
          </p:grpSpPr>
          <p:sp>
            <p:nvSpPr>
              <p:cNvPr id="969" name=""/>
              <p:cNvSpPr/>
              <p:nvPr/>
            </p:nvSpPr>
            <p:spPr>
              <a:xfrm>
                <a:off x="0" y="2206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2206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Arc( 100, 120, 80, 40, 270, -9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0" y="2424240"/>
              <a:ext cx="6780960" cy="217080"/>
              <a:chOff x="0" y="2424240"/>
              <a:chExt cx="6780960" cy="217080"/>
            </a:xfrm>
          </p:grpSpPr>
          <p:sp>
            <p:nvSpPr>
              <p:cNvPr id="972" name=""/>
              <p:cNvSpPr/>
              <p:nvPr/>
            </p:nvSpPr>
            <p:spPr>
              <a:xfrm>
                <a:off x="0" y="2424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2424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0" y="2641320"/>
              <a:ext cx="6780960" cy="217080"/>
              <a:chOff x="0" y="2641320"/>
              <a:chExt cx="6780960" cy="21708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26413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26413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tart at 0 and sweep -270 degr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0" y="2858760"/>
              <a:ext cx="6780960" cy="217080"/>
              <a:chOff x="0" y="2858760"/>
              <a:chExt cx="6780960" cy="217080"/>
            </a:xfrm>
          </p:grpSpPr>
          <p:sp>
            <p:nvSpPr>
              <p:cNvPr id="978" name=""/>
              <p:cNvSpPr/>
              <p:nvPr/>
            </p:nvSpPr>
            <p:spPr>
              <a:xfrm>
                <a:off x="0" y="2858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2858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Arc( 185, 120, 80, 40, 0, -27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0" y="3076200"/>
              <a:ext cx="6780960" cy="217080"/>
              <a:chOff x="0" y="3076200"/>
              <a:chExt cx="6780960" cy="21708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3076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3076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3293280"/>
              <a:ext cx="6780960" cy="217080"/>
              <a:chOff x="0" y="3293280"/>
              <a:chExt cx="6780960" cy="21708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3293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3293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3510720"/>
              <a:ext cx="6780960" cy="217080"/>
              <a:chOff x="0" y="3510720"/>
              <a:chExt cx="6780960" cy="21708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351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351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3728160"/>
              <a:ext cx="6780960" cy="217080"/>
              <a:chOff x="0" y="3728160"/>
              <a:chExt cx="6780960" cy="21708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3728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3728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3945240"/>
              <a:ext cx="6780960" cy="217080"/>
              <a:chOff x="0" y="3945240"/>
              <a:chExt cx="6780960" cy="21708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394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394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DrawArcs app = new DrawArc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4162680"/>
              <a:ext cx="6780960" cy="217080"/>
              <a:chOff x="0" y="4162680"/>
              <a:chExt cx="6780960" cy="21708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416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16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4379760"/>
              <a:ext cx="6780960" cy="217080"/>
              <a:chOff x="0" y="4379760"/>
              <a:chExt cx="6780960" cy="21708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437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437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4597200"/>
              <a:ext cx="6780960" cy="217080"/>
              <a:chOff x="0" y="4597200"/>
              <a:chExt cx="6780960" cy="21708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459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459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4814640"/>
              <a:ext cx="6780960" cy="217080"/>
              <a:chOff x="0" y="4814640"/>
              <a:chExt cx="6780960" cy="21708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4814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4814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5031720"/>
              <a:ext cx="6780960" cy="217080"/>
              <a:chOff x="0" y="5031720"/>
              <a:chExt cx="6780960" cy="21708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503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503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5249160"/>
              <a:ext cx="6780960" cy="217080"/>
              <a:chOff x="0" y="5249160"/>
              <a:chExt cx="6780960" cy="21708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524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524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5466600"/>
              <a:ext cx="6780960" cy="217080"/>
              <a:chOff x="0" y="5466600"/>
              <a:chExt cx="6780960" cy="21708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5466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5466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5684040"/>
              <a:ext cx="6780960" cy="217080"/>
              <a:chOff x="0" y="5684040"/>
              <a:chExt cx="6780960" cy="21708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5684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5684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5901120"/>
              <a:ext cx="6780960" cy="217080"/>
              <a:chOff x="0" y="5901120"/>
              <a:chExt cx="6780960" cy="21708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590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590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6118560"/>
              <a:ext cx="6780960" cy="217080"/>
              <a:chOff x="0" y="6118560"/>
              <a:chExt cx="6780960" cy="21708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6118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6118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6335640"/>
              <a:ext cx="6780960" cy="217080"/>
              <a:chOff x="0" y="6335640"/>
              <a:chExt cx="6780960" cy="217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633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633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raphics Contexts and Graphics Objec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rawing on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manages graphics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how information is 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methods for drawing, font manipulatio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instantiat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hidden - more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class for many classe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s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29" name="28_19" descr=""/>
          <p:cNvPicPr/>
          <p:nvPr/>
        </p:nvPicPr>
        <p:blipFill>
          <a:blip r:embed="rId1"/>
          <a:stretch/>
        </p:blipFill>
        <p:spPr>
          <a:xfrm>
            <a:off x="1371600" y="1652760"/>
            <a:ext cx="45529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Polygons and Polylin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gon - multiside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line - series of connected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of class Poly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Polygon( xPoints[], yPoints[]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poin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polygon, with x and y points specified in arrays.  Last argument specifies number of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d polygon, even if last point different from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Polyline ( xPoints[], yPoint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poin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draws a poly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oly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Polygons and Polylin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of class Poly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Polygon( myPolygo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specified closed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Polygon( xPoints[], yPoints[], poin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solid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Polygon( myPolygo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specified solid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( xValues[], yValues[], numberOfPoin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a new polyg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Polygon.addPoint( x, y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airs of x-y coordinates to polyg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36" name=""/>
            <p:cNvGrpSpPr/>
            <p:nvPr/>
          </p:nvGrpSpPr>
          <p:grpSpPr>
            <a:xfrm>
              <a:off x="0" y="0"/>
              <a:ext cx="6780960" cy="1752120"/>
              <a:chOff x="0" y="0"/>
              <a:chExt cx="6780960" cy="175212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0" y="0"/>
                <a:ext cx="6780960" cy="250200"/>
                <a:chOff x="0" y="0"/>
                <a:chExt cx="6780960" cy="25020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0" y="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0" y="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// Fig. 28.21: DrawPolygons.ja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0" y="250200"/>
                <a:ext cx="6780960" cy="250200"/>
                <a:chOff x="0" y="250200"/>
                <a:chExt cx="6780960" cy="2502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0" y="25020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0" y="25020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// Drawing polyg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0" y="500400"/>
                <a:ext cx="6780960" cy="250200"/>
                <a:chOff x="0" y="500400"/>
                <a:chExt cx="6780960" cy="25020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0" y="50040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0" y="50040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.awt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0" y="750960"/>
                <a:ext cx="6780960" cy="250200"/>
                <a:chOff x="0" y="750960"/>
                <a:chExt cx="6780960" cy="2502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0" y="75096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0" y="75096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.awt.event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0" y="1001160"/>
                <a:ext cx="6780960" cy="250200"/>
                <a:chOff x="0" y="1001160"/>
                <a:chExt cx="6780960" cy="25020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0" y="100116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0" y="100116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mport javax.swing.*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0" y="1251720"/>
                <a:ext cx="6780960" cy="250200"/>
                <a:chOff x="0" y="1251720"/>
                <a:chExt cx="6780960" cy="25020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0" y="125172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0" y="125172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0" y="1501920"/>
                <a:ext cx="6780960" cy="250200"/>
                <a:chOff x="0" y="1501920"/>
                <a:chExt cx="6780960" cy="25020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0" y="150192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0" y="1501920"/>
                  <a:ext cx="6780960" cy="250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ublic class DrawPolygons extends JFram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"/>
            <p:cNvGrpSpPr/>
            <p:nvPr/>
          </p:nvGrpSpPr>
          <p:grpSpPr>
            <a:xfrm>
              <a:off x="0" y="1752480"/>
              <a:ext cx="6780960" cy="5105520"/>
              <a:chOff x="0" y="1752480"/>
              <a:chExt cx="6780960" cy="5105520"/>
            </a:xfrm>
          </p:grpSpPr>
          <p:grpSp>
            <p:nvGrpSpPr>
              <p:cNvPr id="1059" name=""/>
              <p:cNvGrpSpPr/>
              <p:nvPr/>
            </p:nvGrpSpPr>
            <p:grpSpPr>
              <a:xfrm>
                <a:off x="0" y="1752480"/>
                <a:ext cx="6780960" cy="212400"/>
                <a:chOff x="0" y="1752480"/>
                <a:chExt cx="6780960" cy="2124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0" y="175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0" y="175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DrawPolygons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0" y="1964880"/>
                <a:ext cx="6780960" cy="212400"/>
                <a:chOff x="0" y="1964880"/>
                <a:chExt cx="6780960" cy="2124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0" y="19648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0" y="19648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0" y="2177640"/>
                <a:ext cx="6780960" cy="212760"/>
                <a:chOff x="0" y="2177640"/>
                <a:chExt cx="6780960" cy="21276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0" y="217764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0" y="217764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uper( "Drawing Polygons"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0" y="2390400"/>
                <a:ext cx="6780960" cy="212400"/>
                <a:chOff x="0" y="2390400"/>
                <a:chExt cx="6780960" cy="2124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0" y="23904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0" y="23904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0" y="2603160"/>
                <a:ext cx="6780960" cy="212400"/>
                <a:chOff x="0" y="2603160"/>
                <a:chExt cx="6780960" cy="2124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0" y="26031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0" y="26031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etSize( 275, 23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0" y="2815920"/>
                <a:ext cx="6780960" cy="212400"/>
                <a:chOff x="0" y="2815920"/>
                <a:chExt cx="6780960" cy="2124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0" y="28159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0" y="28159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how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0" y="3028680"/>
                <a:ext cx="6780960" cy="212760"/>
                <a:chOff x="0" y="3028680"/>
                <a:chExt cx="6780960" cy="21276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0" y="302868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0" y="302868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0" y="3241440"/>
                <a:ext cx="6780960" cy="212400"/>
                <a:chOff x="0" y="3241440"/>
                <a:chExt cx="6780960" cy="2124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0" y="32414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0" y="32414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0" y="3454200"/>
                <a:ext cx="6780960" cy="212400"/>
                <a:chOff x="0" y="3454200"/>
                <a:chExt cx="6780960" cy="2124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0" y="34542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0" y="34542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void paint( Graphics g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0" y="3666960"/>
                <a:ext cx="6780960" cy="212400"/>
                <a:chOff x="0" y="3666960"/>
                <a:chExt cx="6780960" cy="2124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0" y="36669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36669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0" y="3879720"/>
                <a:ext cx="6780960" cy="212760"/>
                <a:chOff x="0" y="3879720"/>
                <a:chExt cx="6780960" cy="2127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0" y="387972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0" y="387972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xValues[] = { 20, 40, 50, 30, 20, 15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0" y="4092480"/>
                <a:ext cx="6780960" cy="212400"/>
                <a:chOff x="0" y="4092480"/>
                <a:chExt cx="6780960" cy="2124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0" y="409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0" y="409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yValues[] = { 50, 50, 60, 80, 80, 6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0" y="4305240"/>
                <a:ext cx="6780960" cy="212400"/>
                <a:chOff x="0" y="4305240"/>
                <a:chExt cx="6780960" cy="2124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0" y="43052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0" y="43052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Polygon poly1 = new Polygon( xValues, yValues, 6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0" y="4518000"/>
                <a:ext cx="6780960" cy="212400"/>
                <a:chOff x="0" y="4518000"/>
                <a:chExt cx="6780960" cy="2124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0" y="45180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0" y="451800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0" y="4730760"/>
                <a:ext cx="6780960" cy="212760"/>
                <a:chOff x="0" y="4730760"/>
                <a:chExt cx="6780960" cy="2127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0" y="473076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0" y="473076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Polygon( poly1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0" y="4943520"/>
                <a:ext cx="6780960" cy="212400"/>
                <a:chOff x="0" y="4943520"/>
                <a:chExt cx="6780960" cy="2124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0" y="49435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0" y="49435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0" y="5156280"/>
                <a:ext cx="6780960" cy="212400"/>
                <a:chOff x="0" y="5156280"/>
                <a:chExt cx="6780960" cy="2124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0" y="51562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0" y="51562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xValues2[] = { 70, 90, 100, 80, 70, 65, 6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0" y="5368680"/>
                <a:ext cx="6780960" cy="212400"/>
                <a:chOff x="0" y="5368680"/>
                <a:chExt cx="6780960" cy="2124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0" y="53686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0" y="53686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yValues2[] = { 100, 100, 110, 110, 130, 110, 9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0" y="5581440"/>
                <a:ext cx="6780960" cy="212400"/>
                <a:chOff x="0" y="5581440"/>
                <a:chExt cx="6780960" cy="2124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0" y="55814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0" y="558144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0" y="5794200"/>
                <a:ext cx="6780960" cy="212760"/>
                <a:chOff x="0" y="5794200"/>
                <a:chExt cx="6780960" cy="21276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0" y="579420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0" y="579420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Polyline( xValues2, yValues2, 7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0" y="6006960"/>
                <a:ext cx="6780960" cy="212400"/>
                <a:chOff x="0" y="6006960"/>
                <a:chExt cx="6780960" cy="2124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0" y="60069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0" y="600696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0" y="6219720"/>
                <a:ext cx="6780960" cy="212400"/>
                <a:chOff x="0" y="6219720"/>
                <a:chExt cx="6780960" cy="2124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0" y="62197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0" y="621972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xValues3[] = { 120, 140, 150, 19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0" y="6432480"/>
                <a:ext cx="6780960" cy="212400"/>
                <a:chOff x="0" y="6432480"/>
                <a:chExt cx="6780960" cy="2124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0" y="643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0" y="6432480"/>
                  <a:ext cx="6780960" cy="212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 yValues3[] = { 40, 70, 80, 6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0" y="6645240"/>
                <a:ext cx="6780960" cy="212760"/>
                <a:chOff x="0" y="6645240"/>
                <a:chExt cx="6780960" cy="2127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0" y="664524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0" y="6645240"/>
                  <a:ext cx="6780960" cy="212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0" y="0"/>
            <a:ext cx="6780960" cy="5638680"/>
            <a:chOff x="0" y="0"/>
            <a:chExt cx="6780960" cy="5638680"/>
          </a:xfrm>
        </p:grpSpPr>
        <p:grpSp>
          <p:nvGrpSpPr>
            <p:cNvPr id="1133" name=""/>
            <p:cNvGrpSpPr/>
            <p:nvPr/>
          </p:nvGrpSpPr>
          <p:grpSpPr>
            <a:xfrm>
              <a:off x="0" y="0"/>
              <a:ext cx="6780960" cy="216720"/>
              <a:chOff x="0" y="0"/>
              <a:chExt cx="6780960" cy="21672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Polygon( xValues3, yValues3, 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216720"/>
              <a:ext cx="6780960" cy="216720"/>
              <a:chOff x="0" y="216720"/>
              <a:chExt cx="6780960" cy="21672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2167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167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433440"/>
              <a:ext cx="6780960" cy="216720"/>
              <a:chOff x="0" y="433440"/>
              <a:chExt cx="6780960" cy="216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433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433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gon poly2 = new Polygon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650520"/>
              <a:ext cx="6780960" cy="216720"/>
              <a:chOff x="0" y="650520"/>
              <a:chExt cx="6780960" cy="21672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6505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6505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2.addPoint( 165, 13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867240"/>
              <a:ext cx="6780960" cy="216720"/>
              <a:chOff x="0" y="867240"/>
              <a:chExt cx="6780960" cy="216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8672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8672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2.addPoint( 175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084320"/>
              <a:ext cx="6780960" cy="216720"/>
              <a:chOff x="0" y="1084320"/>
              <a:chExt cx="6780960" cy="21672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084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084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2.addPoint( 270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301040"/>
              <a:ext cx="6780960" cy="216720"/>
              <a:chOff x="0" y="1301040"/>
              <a:chExt cx="6780960" cy="216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301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301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2.addPoint( 200, 2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518120"/>
              <a:ext cx="6780960" cy="216720"/>
              <a:chOff x="0" y="1518120"/>
              <a:chExt cx="6780960" cy="21672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5181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5181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ly2.addPoint( 130, 18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734840"/>
              <a:ext cx="6780960" cy="216720"/>
              <a:chOff x="0" y="1734840"/>
              <a:chExt cx="6780960" cy="216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734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734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951560"/>
              <a:ext cx="6780960" cy="216720"/>
              <a:chOff x="0" y="1951560"/>
              <a:chExt cx="6780960" cy="216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951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951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Polygon( poly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168640"/>
              <a:ext cx="6780960" cy="216720"/>
              <a:chOff x="0" y="2168640"/>
              <a:chExt cx="6780960" cy="21672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168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168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385720"/>
              <a:ext cx="6780960" cy="216720"/>
              <a:chOff x="0" y="2385720"/>
              <a:chExt cx="6780960" cy="216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3857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3857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602440"/>
              <a:ext cx="6780960" cy="216720"/>
              <a:chOff x="0" y="2602440"/>
              <a:chExt cx="6780960" cy="216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602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602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819160"/>
              <a:ext cx="6780960" cy="216720"/>
              <a:chOff x="0" y="2819160"/>
              <a:chExt cx="6780960" cy="21672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819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819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036240"/>
              <a:ext cx="6780960" cy="216720"/>
              <a:chOff x="0" y="3036240"/>
              <a:chExt cx="6780960" cy="216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0362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0362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DrawPolygons app = new DrawPolygon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252960"/>
              <a:ext cx="6780960" cy="216720"/>
              <a:chOff x="0" y="3252960"/>
              <a:chExt cx="6780960" cy="21672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252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252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3470040"/>
              <a:ext cx="6780960" cy="216720"/>
              <a:chOff x="0" y="3470040"/>
              <a:chExt cx="6780960" cy="216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3470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3470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686760"/>
              <a:ext cx="6780960" cy="216720"/>
              <a:chOff x="0" y="3686760"/>
              <a:chExt cx="6780960" cy="21672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686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686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903480"/>
              <a:ext cx="6780960" cy="216720"/>
              <a:chOff x="0" y="3903480"/>
              <a:chExt cx="6780960" cy="216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903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903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120560"/>
              <a:ext cx="6780960" cy="216720"/>
              <a:chOff x="0" y="4120560"/>
              <a:chExt cx="6780960" cy="216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120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120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4337640"/>
              <a:ext cx="6780960" cy="216720"/>
              <a:chOff x="0" y="4337640"/>
              <a:chExt cx="6780960" cy="216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4337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4337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4554360"/>
              <a:ext cx="6780960" cy="216720"/>
              <a:chOff x="0" y="4554360"/>
              <a:chExt cx="6780960" cy="216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4554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4554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4771080"/>
              <a:ext cx="6780960" cy="216720"/>
              <a:chOff x="0" y="4771080"/>
              <a:chExt cx="6780960" cy="216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4771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4771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988160"/>
              <a:ext cx="6780960" cy="216720"/>
              <a:chOff x="0" y="4988160"/>
              <a:chExt cx="6780960" cy="216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988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988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204880"/>
              <a:ext cx="6780960" cy="216720"/>
              <a:chOff x="0" y="5204880"/>
              <a:chExt cx="6780960" cy="216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204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204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5421960"/>
              <a:ext cx="6780960" cy="216720"/>
              <a:chOff x="0" y="5421960"/>
              <a:chExt cx="6780960" cy="216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5421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5421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212" name="28_21" descr=""/>
          <p:cNvPicPr/>
          <p:nvPr/>
        </p:nvPicPr>
        <p:blipFill>
          <a:blip r:embed="rId1"/>
          <a:stretch/>
        </p:blipFill>
        <p:spPr>
          <a:xfrm>
            <a:off x="1905120" y="1201680"/>
            <a:ext cx="39751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Java2D API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two dimensional graphic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 many capabilities to cover (for overview, see dem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 with Java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nstance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ll graphics capabilities we have previously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downca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 pass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2D g2d = ( Graphics2D ) 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technique used in programs of next s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thods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aint ( paintObjec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is an object of a class that 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awt.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 object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, GradientPaint, SystemColor, Texture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dientPaint ( x1, y1, color1, x2, y2, color2, cycli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gradient (slowly changing color)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tarting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hanging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ic 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cyclic gradient (keeps transitioning col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cyclic, only transitions colors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thods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 ( shapeObjec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fi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 of any class that 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lipse2D.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-precision inner class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lips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troke( strokeObjec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 shape's b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 of a class that 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Stroke( width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ne of many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specifies width in pixels of b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thods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 ( shapeObjec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specifi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Buffered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duce images in color or gray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reate patterns by drawing into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xtureP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 can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hape to f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urePa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drawn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has further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raphics Contexts and Graphics Objec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lled automatically when applet st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ten called in response to an ev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force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rely called di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overridden to reduce "flicke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repa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update( Graphics 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 (I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c2D.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normal arcs, except has another argument a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2D.P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lose arc with two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2D.CH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draws line from endpoints of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2D.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rc not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to create customized dashed lines, set how lines end and jo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 (V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neral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general path is a shape made from lines and cur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v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first point in a gener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n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line to next point in gener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se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line from last point to point specified in last cal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Shapes (V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th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tate( radians )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tate next shape around ori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late(x, y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ranslates origin to x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as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Notice use of Java2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2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22: Shapes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Demonstrating some Java2D shap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geom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image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Shapes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hapes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Drawing 2D shap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425, 16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create 2D by casting g to Graphics2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phics2D g2d = ( Graphics2D ) 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draw 2D ellipse filled with a blue-yellow grad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Paint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GradientPaint( 5, 30,         // x1, y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Color.blue,    // initial Col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35, 100,       // x2, y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Color.yellow,  // end Col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true ) );      // cycl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fill( new Ellipse2D.Double( 5, 30, 65, 10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32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Notice use of Java2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24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draw 2D rectangle in 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Paint( Color.red );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Stroke( new BasicStroke( 10.0f )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draw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Rectangle2D.Double( 80, 30, 65, 10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draw 2D rounded rectangle with a buffered backgrou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fferedImage buffImage 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BufferedImage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10, 10, BufferedImage.TYPE_INT_RGB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phics2D gg = buffImage.createGraphics(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setColor( Color.yellow ); // draw in ye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fillRect( 0, 0, 10, 10 ); // draw a filled rectang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setColor( Color.black );  // draw in bl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drawRect( 1, 1, 6, 6 );   // draw a rectang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setColor( Color.blue );   // draw in b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fillRect( 1, 1, 3, 3 );   // draw a filled rectang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setColor( Color.red );    // draw in 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g.fillRect( 4, 4, 3, 3 );   // draw a filled rectang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paint buffImage onto the JFr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Paint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TexturePaint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buffImage, new Rectangle( 10, 10 )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fill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RoundRectangle2D.Double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155, 30, 75, 100, 50, 5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draw 2D pie-shaped arc in wh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Paint( Color.whit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setStroke( new BasicStroke( 6.0f )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draw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Arc2D.Double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240, 30, 75, 100, 0, 270, Arc2D.PIE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Notice use of Java2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1431" name=""/>
            <p:cNvGrpSpPr/>
            <p:nvPr/>
          </p:nvGrpSpPr>
          <p:grpSpPr>
            <a:xfrm>
              <a:off x="0" y="0"/>
              <a:ext cx="6780960" cy="3580920"/>
              <a:chOff x="0" y="0"/>
              <a:chExt cx="6780960" cy="3580920"/>
            </a:xfrm>
          </p:grpSpPr>
          <p:grpSp>
            <p:nvGrpSpPr>
              <p:cNvPr id="1432" name=""/>
              <p:cNvGrpSpPr/>
              <p:nvPr/>
            </p:nvGrpSpPr>
            <p:grpSpPr>
              <a:xfrm>
                <a:off x="0" y="0"/>
                <a:ext cx="6780960" cy="223560"/>
                <a:chOff x="0" y="0"/>
                <a:chExt cx="6780960" cy="22356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0" y="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0" y="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0" y="223560"/>
                <a:ext cx="6780960" cy="223560"/>
                <a:chOff x="0" y="223560"/>
                <a:chExt cx="6780960" cy="22356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0" y="2235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0" y="2235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// draw 2D lines in green and yel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0" y="447480"/>
                <a:ext cx="6780960" cy="223920"/>
                <a:chOff x="0" y="447480"/>
                <a:chExt cx="6780960" cy="223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0" y="44748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0" y="44748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2d.setPaint( Color.green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0" y="671400"/>
                <a:ext cx="6780960" cy="223560"/>
                <a:chOff x="0" y="671400"/>
                <a:chExt cx="6780960" cy="223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0" y="67140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0" y="67140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2d.draw( new Line2D.Double( 395, 30, 320, 150 )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0" y="895320"/>
                <a:ext cx="6780960" cy="223560"/>
                <a:chOff x="0" y="895320"/>
                <a:chExt cx="6780960" cy="22356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0" y="89532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0" y="89532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0" y="1118880"/>
                <a:ext cx="6780960" cy="223560"/>
                <a:chOff x="0" y="1118880"/>
                <a:chExt cx="6780960" cy="22356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0" y="111888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0" y="111888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float dashes[] = { 10 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0" y="1342800"/>
                <a:ext cx="6780960" cy="223920"/>
                <a:chOff x="0" y="1342800"/>
                <a:chExt cx="6780960" cy="223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0" y="134280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0" y="134280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0" y="1566720"/>
                <a:ext cx="6780960" cy="223560"/>
                <a:chOff x="0" y="1566720"/>
                <a:chExt cx="6780960" cy="223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0" y="156672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0" y="156672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2d.setPaint( Color.yellow );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0" y="1790640"/>
                <a:ext cx="6780960" cy="223560"/>
                <a:chOff x="0" y="1790640"/>
                <a:chExt cx="6780960" cy="22356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0" y="179064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0" y="179064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2d.setStroke(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0" y="2014560"/>
                <a:ext cx="6780960" cy="223560"/>
                <a:chOff x="0" y="2014560"/>
                <a:chExt cx="6780960" cy="223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0" y="20145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0" y="20145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new BasicStroke( 4,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0" y="2238120"/>
                <a:ext cx="6780960" cy="223920"/>
                <a:chOff x="0" y="2238120"/>
                <a:chExt cx="6780960" cy="22392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0" y="223812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0" y="223812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BasicStroke.CAP_ROUND,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5" name=""/>
              <p:cNvGrpSpPr/>
              <p:nvPr/>
            </p:nvGrpSpPr>
            <p:grpSpPr>
              <a:xfrm>
                <a:off x="0" y="2462040"/>
                <a:ext cx="6780960" cy="223560"/>
                <a:chOff x="0" y="2462040"/>
                <a:chExt cx="6780960" cy="223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0" y="246204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0" y="246204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BasicStroke.JOIN_ROUND,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0" y="2685960"/>
                <a:ext cx="6780960" cy="223560"/>
                <a:chOff x="0" y="2685960"/>
                <a:chExt cx="6780960" cy="2235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0" y="26859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0" y="26859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10, dashes, 0 ) );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0" y="2909880"/>
                <a:ext cx="6780960" cy="223560"/>
                <a:chOff x="0" y="2909880"/>
                <a:chExt cx="6780960" cy="22356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0" y="290988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0" y="290988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2d.draw( new Line2D.Double( 320, 30, 395, 150 )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0" y="3133440"/>
                <a:ext cx="6780960" cy="223920"/>
                <a:chOff x="0" y="3133440"/>
                <a:chExt cx="6780960" cy="22392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0" y="313344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0" y="3133440"/>
                  <a:ext cx="678096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7" name=""/>
              <p:cNvGrpSpPr/>
              <p:nvPr/>
            </p:nvGrpSpPr>
            <p:grpSpPr>
              <a:xfrm>
                <a:off x="0" y="3357360"/>
                <a:ext cx="6780960" cy="223560"/>
                <a:chOff x="0" y="3357360"/>
                <a:chExt cx="6780960" cy="22356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0" y="33573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0" y="3357360"/>
                  <a:ext cx="6780960" cy="2235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0" y="3581280"/>
              <a:ext cx="6780960" cy="3047760"/>
              <a:chOff x="0" y="3581280"/>
              <a:chExt cx="6780960" cy="304776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0" y="3581280"/>
                <a:ext cx="6780960" cy="217440"/>
                <a:chOff x="0" y="3581280"/>
                <a:chExt cx="6780960" cy="2174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0" y="358128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0" y="358128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static void main( String args[]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0" y="3798720"/>
                <a:ext cx="6780960" cy="217440"/>
                <a:chOff x="0" y="3798720"/>
                <a:chExt cx="6780960" cy="21744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0" y="37987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0" y="37987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0" y="4016520"/>
                <a:ext cx="6780960" cy="217800"/>
                <a:chOff x="0" y="4016520"/>
                <a:chExt cx="6780960" cy="21780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0" y="401652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0" y="401652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hapes app = new Shapes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0" y="4234320"/>
                <a:ext cx="6780960" cy="217440"/>
                <a:chOff x="0" y="4234320"/>
                <a:chExt cx="6780960" cy="21744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0" y="42343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0" y="42343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0" y="4452120"/>
                <a:ext cx="6780960" cy="217440"/>
                <a:chOff x="0" y="4452120"/>
                <a:chExt cx="6780960" cy="21744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0" y="44521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0" y="44521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app.addWindowListener(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0" y="4669920"/>
                <a:ext cx="6780960" cy="217440"/>
                <a:chOff x="0" y="4669920"/>
                <a:chExt cx="6780960" cy="21744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0" y="46699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0" y="46699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new WindowAdapter()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0" y="4887360"/>
                <a:ext cx="6780960" cy="217800"/>
                <a:chOff x="0" y="4887360"/>
                <a:chExt cx="6780960" cy="21780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0" y="488736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0" y="488736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public void windowClosing( WindowEvent e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0" y="5105520"/>
                <a:ext cx="6780960" cy="217440"/>
                <a:chOff x="0" y="5105520"/>
                <a:chExt cx="6780960" cy="21744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0" y="51055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0" y="510552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0" y="5322960"/>
                <a:ext cx="6780960" cy="217440"/>
                <a:chOff x="0" y="5322960"/>
                <a:chExt cx="6780960" cy="21744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0" y="53229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0" y="53229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System.exit(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0" y="5540760"/>
                <a:ext cx="6780960" cy="217440"/>
                <a:chOff x="0" y="5540760"/>
                <a:chExt cx="6780960" cy="21744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0" y="55407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0" y="55407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0" y="5758560"/>
                <a:ext cx="6780960" cy="217800"/>
                <a:chOff x="0" y="5758560"/>
                <a:chExt cx="6780960" cy="21780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0" y="575856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0" y="5758560"/>
                  <a:ext cx="6780960" cy="217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0" y="5976360"/>
                <a:ext cx="6780960" cy="217440"/>
                <a:chOff x="0" y="5976360"/>
                <a:chExt cx="6780960" cy="2174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0" y="59763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0" y="59763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0" y="6194160"/>
                <a:ext cx="6780960" cy="217440"/>
                <a:chOff x="0" y="6194160"/>
                <a:chExt cx="6780960" cy="21744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0" y="61941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0" y="619416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0" y="6411600"/>
                <a:ext cx="6780960" cy="217440"/>
                <a:chOff x="0" y="6411600"/>
                <a:chExt cx="6780960" cy="21744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0" y="641160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0" y="6411600"/>
                  <a:ext cx="6780960" cy="217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524" name="28_2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4052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Java2D Examp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alPat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Add points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0" y="0"/>
            <a:ext cx="6780960" cy="6248520"/>
            <a:chOff x="0" y="0"/>
            <a:chExt cx="6780960" cy="6248520"/>
          </a:xfrm>
        </p:grpSpPr>
        <p:grpSp>
          <p:nvGrpSpPr>
            <p:cNvPr id="1527" name=""/>
            <p:cNvGrpSpPr/>
            <p:nvPr/>
          </p:nvGrpSpPr>
          <p:grpSpPr>
            <a:xfrm>
              <a:off x="0" y="0"/>
              <a:ext cx="6780960" cy="215280"/>
              <a:chOff x="0" y="0"/>
              <a:chExt cx="6780960" cy="21528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23: Shapes2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215280"/>
              <a:ext cx="6780960" cy="215280"/>
              <a:chOff x="0" y="215280"/>
              <a:chExt cx="6780960" cy="21528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Demonstrating a general pa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430560"/>
              <a:ext cx="6780960" cy="215280"/>
              <a:chOff x="0" y="430560"/>
              <a:chExt cx="6780960" cy="21528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646200"/>
              <a:ext cx="6780960" cy="215280"/>
              <a:chOff x="0" y="646200"/>
              <a:chExt cx="6780960" cy="21528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6462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6462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861840"/>
              <a:ext cx="6780960" cy="215280"/>
              <a:chOff x="0" y="861840"/>
              <a:chExt cx="6780960" cy="21528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861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861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1077120"/>
              <a:ext cx="6780960" cy="215280"/>
              <a:chOff x="0" y="1077120"/>
              <a:chExt cx="6780960" cy="21528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1077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1077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geom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1292760"/>
              <a:ext cx="6780960" cy="215280"/>
              <a:chOff x="0" y="1292760"/>
              <a:chExt cx="6780960" cy="21528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1292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1292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1508040"/>
              <a:ext cx="6780960" cy="215280"/>
              <a:chOff x="0" y="1508040"/>
              <a:chExt cx="6780960" cy="215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1508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1508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Shapes2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1723680"/>
              <a:ext cx="6780960" cy="215280"/>
              <a:chOff x="0" y="1723680"/>
              <a:chExt cx="6780960" cy="21528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1723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1723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hapes2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1938960"/>
              <a:ext cx="6780960" cy="215280"/>
              <a:chOff x="0" y="1938960"/>
              <a:chExt cx="6780960" cy="21528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19389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19389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2154600"/>
              <a:ext cx="6780960" cy="215280"/>
              <a:chOff x="0" y="2154600"/>
              <a:chExt cx="6780960" cy="21528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2154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2154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Drawing 2D Shap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2370240"/>
              <a:ext cx="6780960" cy="215280"/>
              <a:chOff x="0" y="2370240"/>
              <a:chExt cx="6780960" cy="21528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2370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2370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2585520"/>
              <a:ext cx="6780960" cy="215280"/>
              <a:chOff x="0" y="2585520"/>
              <a:chExt cx="6780960" cy="21528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2585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2585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Background( Color.yello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2800800"/>
              <a:ext cx="6780960" cy="215280"/>
              <a:chOff x="0" y="2800800"/>
              <a:chExt cx="6780960" cy="21528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2800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2800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400, 4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3016440"/>
              <a:ext cx="6780960" cy="215280"/>
              <a:chOff x="0" y="3016440"/>
              <a:chExt cx="6780960" cy="21528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3016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3016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3232080"/>
              <a:ext cx="6780960" cy="215280"/>
              <a:chOff x="0" y="3232080"/>
              <a:chExt cx="6780960" cy="21528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3232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3232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3447360"/>
              <a:ext cx="6780960" cy="215280"/>
              <a:chOff x="0" y="3447360"/>
              <a:chExt cx="6780960" cy="21528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3447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3447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3663000"/>
              <a:ext cx="6780960" cy="215280"/>
              <a:chOff x="0" y="3663000"/>
              <a:chExt cx="6780960" cy="21528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3663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3663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3878280"/>
              <a:ext cx="6780960" cy="215280"/>
              <a:chOff x="0" y="3878280"/>
              <a:chExt cx="6780960" cy="215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3878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3878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4093920"/>
              <a:ext cx="6780960" cy="215280"/>
              <a:chOff x="0" y="4093920"/>
              <a:chExt cx="6780960" cy="21528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4093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4093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nt xPoints[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4309200"/>
              <a:ext cx="6780960" cy="215280"/>
              <a:chOff x="0" y="4309200"/>
              <a:chExt cx="6780960" cy="21528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43092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43092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{ 55, 67, 109, 73, 83, 55, 27, 37, 1, 43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0" y="4524840"/>
              <a:ext cx="6780960" cy="215280"/>
              <a:chOff x="0" y="4524840"/>
              <a:chExt cx="6780960" cy="215280"/>
            </a:xfrm>
          </p:grpSpPr>
          <p:sp>
            <p:nvSpPr>
              <p:cNvPr id="1591" name=""/>
              <p:cNvSpPr/>
              <p:nvPr/>
            </p:nvSpPr>
            <p:spPr>
              <a:xfrm>
                <a:off x="0" y="4524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4524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int yPoints[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0" y="4740120"/>
              <a:ext cx="6780960" cy="215280"/>
              <a:chOff x="0" y="4740120"/>
              <a:chExt cx="6780960" cy="215280"/>
            </a:xfrm>
          </p:grpSpPr>
          <p:sp>
            <p:nvSpPr>
              <p:cNvPr id="1594" name=""/>
              <p:cNvSpPr/>
              <p:nvPr/>
            </p:nvSpPr>
            <p:spPr>
              <a:xfrm>
                <a:off x="0" y="4740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4740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{ 0, 36, 36, 54, 96, 72, 96, 54, 36, 36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0" y="4955760"/>
              <a:ext cx="6780960" cy="215280"/>
              <a:chOff x="0" y="4955760"/>
              <a:chExt cx="6780960" cy="21528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4955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4955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5171400"/>
              <a:ext cx="6780960" cy="215280"/>
              <a:chOff x="0" y="5171400"/>
              <a:chExt cx="6780960" cy="21528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517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517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phics2D g2d = ( Graphics2D ) 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5386680"/>
              <a:ext cx="6780960" cy="215280"/>
              <a:chOff x="0" y="5386680"/>
              <a:chExt cx="6780960" cy="21528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5386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5386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5601960"/>
              <a:ext cx="6780960" cy="215280"/>
              <a:chOff x="0" y="5601960"/>
              <a:chExt cx="6780960" cy="215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56019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56019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create a star from a series of poi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5817600"/>
              <a:ext cx="6780960" cy="215280"/>
              <a:chOff x="0" y="5817600"/>
              <a:chExt cx="6780960" cy="21528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581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581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eneralPath star = new GeneralPath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6033240"/>
              <a:ext cx="6780960" cy="215280"/>
              <a:chOff x="0" y="6033240"/>
              <a:chExt cx="6780960" cy="21528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6033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6033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4" name=""/>
          <p:cNvGrpSpPr/>
          <p:nvPr/>
        </p:nvGrpSpPr>
        <p:grpSpPr>
          <a:xfrm>
            <a:off x="0" y="6248520"/>
            <a:ext cx="6780960" cy="609120"/>
            <a:chOff x="0" y="6248520"/>
            <a:chExt cx="6780960" cy="609120"/>
          </a:xfrm>
        </p:grpSpPr>
        <p:grpSp>
          <p:nvGrpSpPr>
            <p:cNvPr id="1615" name=""/>
            <p:cNvGrpSpPr/>
            <p:nvPr/>
          </p:nvGrpSpPr>
          <p:grpSpPr>
            <a:xfrm>
              <a:off x="0" y="6248520"/>
              <a:ext cx="6780960" cy="203040"/>
              <a:chOff x="0" y="6248520"/>
              <a:chExt cx="6780960" cy="20304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6248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6248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the initial coordinate of the General Pa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6451560"/>
              <a:ext cx="6780960" cy="203040"/>
              <a:chOff x="0" y="6451560"/>
              <a:chExt cx="6780960" cy="20304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64515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64515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ar.moveTo( xPoints[ 0 ], yPoints[ 0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6654600"/>
              <a:ext cx="6780960" cy="203040"/>
              <a:chOff x="0" y="6654600"/>
              <a:chExt cx="6780960" cy="20304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6654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6654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Add points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Randomize colo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26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create the star--this does not draw the st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or ( int k = 1; k &lt; xPoints.length; k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tar.lineTo( xPoints[ k ], yPoints[ k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close the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ar.closePath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translate the origin to (200, 20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2d.translate( 200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rotate around origin and draw stars in random col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or ( int j = 1; j &lt;= 20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2d.rotate( Math.PI / 1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2d.setColo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new Color( ( int ) ( Math.random() * 256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( int ) ( Math.random() * 256 ),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( int ) ( Math.random() * 256 )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2d.fill( star );   // draw a filled st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1687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1690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tatic void main( String args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1693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1696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apes2 app = new Shapes2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1699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pp.addWindowListener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1705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new WindowAdapter(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1708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ublic void windowClosing( WindowEvent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1711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1714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System.exit(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1717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1720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1726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1729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732" name="28_2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381168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methods and constants for manipulating col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s created from red, green, and blue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 value: 3 integers from 0 to 255 each, or three floating point values from 0 to 1.0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the value, more of that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 metho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Gre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B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 an integer between 0 and 255 representing am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s 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s drawing 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current color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ColorCho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dialog allowing user to select a 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wDi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: reference to par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ndow from which dialog being display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dialog - user cannot interact with other dialogs while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argumen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itl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argument: Initial selected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ak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background 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8_06b" descr=""/>
          <p:cNvPicPr/>
          <p:nvPr/>
        </p:nvPicPr>
        <p:blipFill>
          <a:blip r:embed="rId1"/>
          <a:stretch/>
        </p:blipFill>
        <p:spPr>
          <a:xfrm>
            <a:off x="533520" y="1700280"/>
            <a:ext cx="4167000" cy="39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 (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19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ColorChoo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6780960" cy="253800"/>
              <a:chOff x="0" y="0"/>
              <a:chExt cx="6780960" cy="2538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Fig. 28.5: ShowColors.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253800"/>
              <a:ext cx="6780960" cy="253800"/>
              <a:chOff x="0" y="253800"/>
              <a:chExt cx="6780960" cy="25380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253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3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Demonstrating Col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507600"/>
              <a:ext cx="6780960" cy="253800"/>
              <a:chOff x="0" y="507600"/>
              <a:chExt cx="6780960" cy="25380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5076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076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761760"/>
              <a:ext cx="6780960" cy="253800"/>
              <a:chOff x="0" y="761760"/>
              <a:chExt cx="6780960" cy="25380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7617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7617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x.swing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1015920"/>
              <a:ext cx="6780960" cy="253800"/>
              <a:chOff x="0" y="1015920"/>
              <a:chExt cx="6780960" cy="25380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1015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015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mport java.awt.event.*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269720"/>
              <a:ext cx="6780960" cy="253800"/>
              <a:chOff x="0" y="1269720"/>
              <a:chExt cx="6780960" cy="25380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2697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697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523880"/>
              <a:ext cx="6780960" cy="253800"/>
              <a:chOff x="0" y="1523880"/>
              <a:chExt cx="6780960" cy="25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523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523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ublic class ShowColors extends JFra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778040"/>
              <a:ext cx="6780960" cy="253800"/>
              <a:chOff x="0" y="1778040"/>
              <a:chExt cx="6780960" cy="25380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778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778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ShowColor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2031840"/>
              <a:ext cx="6780960" cy="253800"/>
              <a:chOff x="0" y="2031840"/>
              <a:chExt cx="6780960" cy="25380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2031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31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286000"/>
              <a:ext cx="6780960" cy="253800"/>
              <a:chOff x="0" y="2286000"/>
              <a:chExt cx="6780960" cy="25380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286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286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per( "Using color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539800"/>
              <a:ext cx="6780960" cy="253800"/>
              <a:chOff x="0" y="2539800"/>
              <a:chExt cx="6780960" cy="25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539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539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793960"/>
              <a:ext cx="6780960" cy="253800"/>
              <a:chOff x="0" y="2793960"/>
              <a:chExt cx="6780960" cy="25380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793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793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etSize( 400, 13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3048120"/>
              <a:ext cx="6780960" cy="253800"/>
              <a:chOff x="0" y="3048120"/>
              <a:chExt cx="6780960" cy="25380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3048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3048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how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301920"/>
              <a:ext cx="6780960" cy="253800"/>
              <a:chOff x="0" y="3301920"/>
              <a:chExt cx="6780960" cy="25380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301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301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556080"/>
              <a:ext cx="6780960" cy="253800"/>
              <a:chOff x="0" y="3556080"/>
              <a:chExt cx="6780960" cy="25380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556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556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809880"/>
              <a:ext cx="6780960" cy="253800"/>
              <a:chOff x="0" y="3809880"/>
              <a:chExt cx="6780960" cy="25380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809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8098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blic void paint( Graphics g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064040"/>
              <a:ext cx="6780960" cy="253800"/>
              <a:chOff x="0" y="4064040"/>
              <a:chExt cx="6780960" cy="25380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4064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064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317840"/>
              <a:ext cx="6780960" cy="253800"/>
              <a:chOff x="0" y="4317840"/>
              <a:chExt cx="6780960" cy="25380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4317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3178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new drawing color using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572000"/>
              <a:ext cx="6780960" cy="253800"/>
              <a:chOff x="0" y="4572000"/>
              <a:chExt cx="6780960" cy="25380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572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5720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new Color( 255, 0,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825800"/>
              <a:ext cx="6780960" cy="253800"/>
              <a:chOff x="0" y="4825800"/>
              <a:chExt cx="6780960" cy="25380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825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8258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Rect( 25, 25, 100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5079960"/>
              <a:ext cx="6780960" cy="253800"/>
              <a:chOff x="0" y="5079960"/>
              <a:chExt cx="6780960" cy="25380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5079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07996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Current RGB: " + g.getColor(), 130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5334120"/>
              <a:ext cx="6780960" cy="253800"/>
              <a:chOff x="0" y="5334120"/>
              <a:chExt cx="6780960" cy="25380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5334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3341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5587920"/>
              <a:ext cx="6780960" cy="253800"/>
              <a:chOff x="0" y="5587920"/>
              <a:chExt cx="6780960" cy="25380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5587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58792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// set new drawing color using floa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842080"/>
              <a:ext cx="6780960" cy="253800"/>
              <a:chOff x="0" y="5842080"/>
              <a:chExt cx="6780960" cy="25380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842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84208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setColor( new Color( 0.0f, 1.0f, 0.0f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6096240"/>
              <a:ext cx="6780960" cy="253800"/>
              <a:chOff x="0" y="6096240"/>
              <a:chExt cx="6780960" cy="25380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60962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0962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fillRect( 25, 50, 100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6350040"/>
              <a:ext cx="6780960" cy="253800"/>
              <a:chOff x="0" y="6350040"/>
              <a:chExt cx="6780960" cy="25380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6350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35004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.drawString( "Current RGB: " + g.getColor(), 130, 6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6604200"/>
              <a:ext cx="6780960" cy="253800"/>
              <a:chOff x="0" y="6604200"/>
              <a:chExt cx="6780960" cy="25380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66042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6604200"/>
                <a:ext cx="6780960" cy="253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0"/>
            <a:ext cx="6781320" cy="6858000"/>
            <a:chOff x="0" y="0"/>
            <a:chExt cx="6781320" cy="6858000"/>
          </a:xfrm>
        </p:grpSpPr>
        <p:grpSp>
          <p:nvGrpSpPr>
            <p:cNvPr id="186" name=""/>
            <p:cNvGrpSpPr/>
            <p:nvPr/>
          </p:nvGrpSpPr>
          <p:grpSpPr>
            <a:xfrm>
              <a:off x="0" y="0"/>
              <a:ext cx="6781320" cy="1447560"/>
              <a:chOff x="0" y="0"/>
              <a:chExt cx="6781320" cy="14475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0" y="0"/>
                <a:ext cx="6780960" cy="272520"/>
                <a:chOff x="0" y="0"/>
                <a:chExt cx="6780960" cy="272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0" y="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0" y="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// set new drawing color using static Color objec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0" y="272520"/>
                <a:ext cx="6780960" cy="272520"/>
                <a:chOff x="0" y="272520"/>
                <a:chExt cx="6780960" cy="272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0" y="27252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0" y="27252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setColor( Color.blue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0" y="545400"/>
                <a:ext cx="6780960" cy="272880"/>
                <a:chOff x="0" y="545400"/>
                <a:chExt cx="6780960" cy="272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0" y="545400"/>
                  <a:ext cx="6780960" cy="2728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0" y="545400"/>
                  <a:ext cx="6780960" cy="2728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fillRect( 25, 75, 100, 2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0" y="818280"/>
                <a:ext cx="6780960" cy="272520"/>
                <a:chOff x="0" y="818280"/>
                <a:chExt cx="6780960" cy="272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0" y="81828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0" y="818280"/>
                  <a:ext cx="6780960" cy="272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String( "Current RGB: " + g.getColor(), 130, 9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0" y="1091160"/>
                <a:ext cx="6781320" cy="35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09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09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1066680"/>
              <a:ext cx="6780960" cy="5791320"/>
              <a:chOff x="0" y="1066680"/>
              <a:chExt cx="6780960" cy="57913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0" y="1066680"/>
                <a:ext cx="6780960" cy="251640"/>
                <a:chOff x="0" y="1066680"/>
                <a:chExt cx="6780960" cy="251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0" y="10666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0" y="10666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0" y="1318320"/>
                <a:ext cx="6780960" cy="251640"/>
                <a:chOff x="0" y="1318320"/>
                <a:chExt cx="6780960" cy="25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0" y="13183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0" y="13183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// display individual RGB valu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0" y="1570320"/>
                <a:ext cx="6780960" cy="251640"/>
                <a:chOff x="0" y="1570320"/>
                <a:chExt cx="6780960" cy="25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0" y="15703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0" y="15703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Color c = Color.magenta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0" y="1821960"/>
                <a:ext cx="6780960" cy="251640"/>
                <a:chOff x="0" y="1821960"/>
                <a:chExt cx="6780960" cy="25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0" y="18219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0" y="18219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setColor( c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0" y="2073600"/>
                <a:ext cx="6780960" cy="251640"/>
                <a:chOff x="0" y="2073600"/>
                <a:chExt cx="6780960" cy="25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0" y="20736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0" y="20736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fillRect( 25, 100, 100, 2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0" y="2325600"/>
                <a:ext cx="6780960" cy="251640"/>
                <a:chOff x="0" y="2325600"/>
                <a:chExt cx="6780960" cy="25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0" y="23256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0" y="23256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g.drawString( "RGB values: " + c.getRed() + ", " 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0" y="2577240"/>
                <a:ext cx="6780960" cy="251640"/>
                <a:chOff x="0" y="2577240"/>
                <a:chExt cx="6780960" cy="25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0" y="25772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0" y="25772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c.getGreen() + ", " + c.getBlue(), 130, 11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0" y="2829240"/>
                <a:ext cx="6780960" cy="251640"/>
                <a:chOff x="0" y="2829240"/>
                <a:chExt cx="6780960" cy="25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0" y="28292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28292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0" y="3080880"/>
                <a:ext cx="6780960" cy="251640"/>
                <a:chOff x="0" y="3080880"/>
                <a:chExt cx="6780960" cy="25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0" y="30808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0" y="30808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0" y="3332520"/>
                <a:ext cx="6780960" cy="251640"/>
                <a:chOff x="0" y="3332520"/>
                <a:chExt cx="6780960" cy="25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0" y="3332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0" y="3332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ublic static void main( String args[]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3584520"/>
                <a:ext cx="6780960" cy="251640"/>
                <a:chOff x="0" y="3584520"/>
                <a:chExt cx="6780960" cy="251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3584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0" y="3584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0" y="3836520"/>
                <a:ext cx="6780960" cy="251640"/>
                <a:chOff x="0" y="3836520"/>
                <a:chExt cx="6780960" cy="251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0" y="3836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0" y="38365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ShowColors app = new ShowColors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0" y="4088160"/>
                <a:ext cx="6780960" cy="251640"/>
                <a:chOff x="0" y="4088160"/>
                <a:chExt cx="6780960" cy="251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0" y="40881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0" y="40881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0" y="4339800"/>
                <a:ext cx="6780960" cy="251640"/>
                <a:chOff x="0" y="4339800"/>
                <a:chExt cx="6780960" cy="251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0" y="43398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0" y="43398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app.addWindowListener(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0" y="4591800"/>
                <a:ext cx="6780960" cy="251640"/>
                <a:chOff x="0" y="4591800"/>
                <a:chExt cx="6780960" cy="251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0" y="45918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0" y="459180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new WindowAdapter()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0" y="4843440"/>
                <a:ext cx="6780960" cy="251640"/>
                <a:chOff x="0" y="4843440"/>
                <a:chExt cx="6780960" cy="251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0" y="48434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0" y="48434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public void windowClosing( WindowEvent e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0" y="5095440"/>
                <a:ext cx="6780960" cy="251640"/>
                <a:chOff x="0" y="5095440"/>
                <a:chExt cx="6780960" cy="2516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0" y="50954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0" y="509544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0" y="5347080"/>
                <a:ext cx="6780960" cy="251640"/>
                <a:chOff x="0" y="5347080"/>
                <a:chExt cx="6780960" cy="251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0" y="53470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0" y="53470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System.exit(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0" y="5599080"/>
                <a:ext cx="6780960" cy="251640"/>
                <a:chOff x="0" y="5599080"/>
                <a:chExt cx="6780960" cy="251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0" y="55990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0" y="559908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0" y="5850720"/>
                <a:ext cx="6780960" cy="251640"/>
                <a:chOff x="0" y="5850720"/>
                <a:chExt cx="6780960" cy="2516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0" y="58507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0" y="58507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0" y="6102720"/>
                <a:ext cx="6780960" cy="251640"/>
                <a:chOff x="0" y="6102720"/>
                <a:chExt cx="6780960" cy="2516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0" y="61027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0" y="610272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0" y="6354360"/>
                <a:ext cx="6780960" cy="251640"/>
                <a:chOff x="0" y="6354360"/>
                <a:chExt cx="6780960" cy="25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0" y="63543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0" y="63543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6606360"/>
                <a:ext cx="6780960" cy="251640"/>
                <a:chOff x="0" y="6606360"/>
                <a:chExt cx="6780960" cy="251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0" y="66063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6606360"/>
                  <a:ext cx="6780960" cy="2516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9:24:06Z</dcterms:created>
  <dc:creator>kalid</dc:creator>
  <dc:description/>
  <dc:language>en-US</dc:language>
  <cp:lastModifiedBy>kalid</cp:lastModifiedBy>
  <dcterms:modified xsi:type="dcterms:W3CDTF">2000-08-04T13:10:22Z</dcterms:modified>
  <cp:revision>229</cp:revision>
  <dc:subject/>
  <dc:title>Chapter 28 - Java Graphics and Java2D</dc:title>
</cp:coreProperties>
</file>