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7437E-6FFF-4B8B-8E70-86D5FAA8DA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611DA-8428-4007-9C57-9F0B637BF8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9CA26-F568-4E9E-9A6A-E1E6626200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98F0B-A8E9-4E70-BD49-8AFCD2D78A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9A444-D630-436B-BAB8-2767065021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6964F-E49C-4572-B13B-D9E2DB6BEC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37F9F-C131-4195-8A04-EE9FE96BEB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CDACD-A3AE-49F3-9B8C-BDE8B63B1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17BB1-5879-496B-86DA-F943F34A58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38C5F-5F47-4D7D-9E36-0AD4B38A76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966F6-18AB-465D-A2F5-306BDE0DAA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E7B92-1E18-4515-952D-2E943190D1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2306-4BFC-4A7E-B15D-63DFDBE89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ava Multimedia: Images, Animation, Audio and Video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009880"/>
            <a:ext cx="6629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0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0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Loading, Displaying and Scaling Im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0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Loading and Playing Audio Cl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0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nimating a Series of Im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0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nimation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0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ustomizing Applets via the HTML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param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0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mage Ma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0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 Plug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0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rnet and World Wide Web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0.3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Loading and Playing Audio Clips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ing audio cl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la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udioCli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ter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e flexible th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pp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tho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l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dio stored in program, can be re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AudioCl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reference to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udioCl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format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pp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tho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AudioClip( location, filename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AudioClip( soundURL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c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udioCli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oaded, use metho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plays audio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continuous loops audio in back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terminates clip that is currently play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or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Declar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i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Set layo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11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212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0.2: LoadAudioAndPlay.jav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215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Load an audio clip and play it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218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mpor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ava.applet.*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221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mpor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ava.awt.*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224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mpor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ava.awt.event.*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227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mpor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avax.swing.*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230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233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 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oadAudioAndPlay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xtend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Apple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236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udioClip sound1, sound2, currentSound;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239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Button playSound, loopSound, stopSoun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242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ComboBox chooseSoun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245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load the image when the applet begins execut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251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nit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254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257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ntainer c = getContentPane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260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.setLayou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lowLayout(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263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266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tring choices[] = { "Welcome", "Hi"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269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hooseSound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ComboBox( choices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272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hooseSound.addItemListener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temListener(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278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temStateChanged( ItemEvent 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281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284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currentSound.stop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287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290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currentSound =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293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chooseSound.getSelectedIndex() == 0 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296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sound1 : sound2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299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302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305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Add butt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3 Initialize audio clip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o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4.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ttonHandl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309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310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.add( chooseSoun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313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ButtonHandler handle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uttonHandler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319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laySound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Button( "Play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322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laySound.addActionListener( handle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325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.add( playSoun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328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loopSound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Button( "Loop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331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loopSound.addActionListener( handle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334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.add( loopSoun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337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topSound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Button( "Stop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340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topSound.addActionListener( handle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343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.add( stopSoun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346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349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ound1 = getAudioClip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352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getDocumentBase(), "welcome.wav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355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ound2 = getAudioClip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358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getDocumentBase(), "hi.au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361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urrentSound = sound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364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367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370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stop the sound when the user switches Web pag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(i.e., be polite to the user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376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op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379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382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urrentSound.stop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385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388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391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 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uttonHandler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mplement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ctionListener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394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ctionPerformed( ActionEvent 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397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400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e.getSource() == playSound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403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currentSound.pla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0" y="0"/>
            <a:ext cx="6780960" cy="2209680"/>
            <a:chOff x="0" y="0"/>
            <a:chExt cx="6780960" cy="2209680"/>
          </a:xfrm>
        </p:grpSpPr>
        <p:grpSp>
          <p:nvGrpSpPr>
            <p:cNvPr id="407" name=""/>
            <p:cNvGrpSpPr/>
            <p:nvPr/>
          </p:nvGrpSpPr>
          <p:grpSpPr>
            <a:xfrm>
              <a:off x="0" y="0"/>
              <a:ext cx="6780960" cy="315360"/>
              <a:chOff x="0" y="0"/>
              <a:chExt cx="6780960" cy="315360"/>
            </a:xfrm>
          </p:grpSpPr>
          <p:sp>
            <p:nvSpPr>
              <p:cNvPr id="408" name=""/>
              <p:cNvSpPr/>
              <p:nvPr/>
            </p:nvSpPr>
            <p:spPr>
              <a:xfrm>
                <a:off x="0" y="0"/>
                <a:ext cx="6780960" cy="315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0" y="0"/>
                <a:ext cx="6780960" cy="315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 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e.getSource() == loopSound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0" y="315360"/>
              <a:ext cx="6780960" cy="315360"/>
              <a:chOff x="0" y="315360"/>
              <a:chExt cx="6780960" cy="315360"/>
            </a:xfrm>
          </p:grpSpPr>
          <p:sp>
            <p:nvSpPr>
              <p:cNvPr id="411" name=""/>
              <p:cNvSpPr/>
              <p:nvPr/>
            </p:nvSpPr>
            <p:spPr>
              <a:xfrm>
                <a:off x="0" y="315360"/>
                <a:ext cx="6780960" cy="315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0" y="315360"/>
                <a:ext cx="6780960" cy="315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currentSound.loop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0" y="631080"/>
              <a:ext cx="6780960" cy="315720"/>
              <a:chOff x="0" y="631080"/>
              <a:chExt cx="6780960" cy="315720"/>
            </a:xfrm>
          </p:grpSpPr>
          <p:sp>
            <p:nvSpPr>
              <p:cNvPr id="414" name=""/>
              <p:cNvSpPr/>
              <p:nvPr/>
            </p:nvSpPr>
            <p:spPr>
              <a:xfrm>
                <a:off x="0" y="631080"/>
                <a:ext cx="6780960" cy="315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0" y="631080"/>
                <a:ext cx="6780960" cy="315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 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e.getSource() == stopSound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0" y="946800"/>
              <a:ext cx="6780960" cy="315360"/>
              <a:chOff x="0" y="946800"/>
              <a:chExt cx="6780960" cy="315360"/>
            </a:xfrm>
          </p:grpSpPr>
          <p:sp>
            <p:nvSpPr>
              <p:cNvPr id="417" name=""/>
              <p:cNvSpPr/>
              <p:nvPr/>
            </p:nvSpPr>
            <p:spPr>
              <a:xfrm>
                <a:off x="0" y="946800"/>
                <a:ext cx="6780960" cy="315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946800"/>
                <a:ext cx="6780960" cy="315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currentSound.stop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0" y="1262520"/>
              <a:ext cx="6780960" cy="315360"/>
              <a:chOff x="0" y="1262520"/>
              <a:chExt cx="6780960" cy="315360"/>
            </a:xfrm>
          </p:grpSpPr>
          <p:sp>
            <p:nvSpPr>
              <p:cNvPr id="420" name=""/>
              <p:cNvSpPr/>
              <p:nvPr/>
            </p:nvSpPr>
            <p:spPr>
              <a:xfrm>
                <a:off x="0" y="1262520"/>
                <a:ext cx="6780960" cy="315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0" y="1262520"/>
                <a:ext cx="6780960" cy="315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0" y="1578240"/>
              <a:ext cx="6780960" cy="315360"/>
              <a:chOff x="0" y="1578240"/>
              <a:chExt cx="6780960" cy="315360"/>
            </a:xfrm>
          </p:grpSpPr>
          <p:sp>
            <p:nvSpPr>
              <p:cNvPr id="423" name=""/>
              <p:cNvSpPr/>
              <p:nvPr/>
            </p:nvSpPr>
            <p:spPr>
              <a:xfrm>
                <a:off x="0" y="1578240"/>
                <a:ext cx="6780960" cy="315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0" y="1578240"/>
                <a:ext cx="6780960" cy="315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0" y="1893960"/>
              <a:ext cx="6780960" cy="315720"/>
              <a:chOff x="0" y="1893960"/>
              <a:chExt cx="6780960" cy="315720"/>
            </a:xfrm>
          </p:grpSpPr>
          <p:sp>
            <p:nvSpPr>
              <p:cNvPr id="426" name=""/>
              <p:cNvSpPr/>
              <p:nvPr/>
            </p:nvSpPr>
            <p:spPr>
              <a:xfrm>
                <a:off x="0" y="1893960"/>
                <a:ext cx="6780960" cy="315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0" y="1893960"/>
                <a:ext cx="6780960" cy="315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28" name="30_02" descr=""/>
          <p:cNvPicPr/>
          <p:nvPr/>
        </p:nvPicPr>
        <p:blipFill>
          <a:blip r:embed="rId1"/>
          <a:stretch/>
        </p:blipFill>
        <p:spPr>
          <a:xfrm>
            <a:off x="1219320" y="2962440"/>
            <a:ext cx="434340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0.4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nimating a Series of Imag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a series of images stored in an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same techniques to load and displa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mageIc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i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at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ctionEv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t a fixed interval in milliseco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r ( animationDelay, ActionListener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at will respond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tion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etho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Ru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0.4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nimating a Series of Images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pa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l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pd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which call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classe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Compon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hould draw in metho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 superclass'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sure Swing components displayed prope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dth and height specify entire window, not client ar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imens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DimObject = new Dimension( 100, 200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DimObject.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0.4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nimating a Series of Images (I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etImageLoadStat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mageIc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s if image is completely loaded into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complete images should be displayed (smooth anim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loaded, 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ediaTracker.COMPLE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ediaTrack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etermine when images are loaded, or force program to wait if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ageIc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reates ou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diaTrack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or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s ActionListen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Declar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Con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4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ageIcon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Call to super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437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438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0.3: LogoAnimator.jav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441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nimation a series of imag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444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mpor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ava.awt.*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447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mpor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ava.awt.event.*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450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mpor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avax.swing.*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453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456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 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ogoAnimator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xtend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Pane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459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mplement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ctionListener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462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otecte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mageIcon images[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465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otected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otalImages = 30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468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currentImage = 0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471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animationDelay = 50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50 millisecond del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474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otecte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r animationTim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477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480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ogoAnimator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483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486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etSize( getPreferredSize(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489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492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images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mageIcon[ totalImages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495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498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0; i &lt; images.length; ++i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501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images[ i ] =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504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mageIcon( "images/deitel" + i + ".gif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507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510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tartAnimation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513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516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519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aintComponent( Graphics g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522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525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uper.paintComponent( g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528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531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If image loaded, display it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intIcon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3 Increme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Imag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ctionPerformed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artAnima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opAnima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getMinimumSiz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535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536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mages[ currentImage ].getImageLoadStatus() ==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539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MediaTracker.COMPLETE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542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images[ currentImage ].paintIco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g, 0,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545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currentImage = ( currentImage + 1 ) % totalImage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548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551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554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557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ctionPerformed( ActionEvent 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560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563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repa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566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569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572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artAnimatio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575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578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animationTimer =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ul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581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currentImage = 0;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584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animationTime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r( animationDela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587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animationTimer.star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590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593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tinue from last image display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596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! animationTimer.isRunning(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599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animationTimer.restar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602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605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608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opAnimatio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611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614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animationTimer.stop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617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620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623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imension getMinimumSiz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626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629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PreferredSize()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632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4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PreferredSiz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4. mai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636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637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640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imension getPreferredSiz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643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646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 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imension( 160, 8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649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652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655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 static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 String args[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658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661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LogoAnimator anim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ogoAnimator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664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667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JFrame app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Frame( "Animator test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670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app.getContentPane().add( anim, fBorderLayout.CENTE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673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676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app.addWindowListener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679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indowAdapter(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682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indowClosing( WindowEvent 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685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688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System.exit(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691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694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697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700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703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   // The constants 10 and 30 are used below to size th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706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   // window 10 pixels wider than the animation a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709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   // 30 pixels taller than the animation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712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app.setSize( anim.getPreferredSize().width + 10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715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anim.getPreferredSize().height + 3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718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app.show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721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724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0.1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olution in computer indu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fore, computers used for high-speed calcul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w, data manipulation import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"sizzle" of Java - images, sound, vid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Ds, DVDs, video ca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mands extraordinary computing pow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st processors making multimedia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s built-in multimedia capab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programming languages do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velop powerful multimedia appl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727" name="30_05a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1625760" cy="1054080"/>
          </a:xfrm>
          <a:prstGeom prst="rect">
            <a:avLst/>
          </a:prstGeom>
          <a:ln w="0">
            <a:noFill/>
          </a:ln>
        </p:spPr>
      </p:pic>
      <p:pic>
        <p:nvPicPr>
          <p:cNvPr id="728" name="30_05b" descr=""/>
          <p:cNvPicPr/>
          <p:nvPr/>
        </p:nvPicPr>
        <p:blipFill>
          <a:blip r:embed="rId2"/>
          <a:stretch/>
        </p:blipFill>
        <p:spPr>
          <a:xfrm>
            <a:off x="2514600" y="914400"/>
            <a:ext cx="1625760" cy="1054080"/>
          </a:xfrm>
          <a:prstGeom prst="rect">
            <a:avLst/>
          </a:prstGeom>
          <a:ln w="0">
            <a:noFill/>
          </a:ln>
        </p:spPr>
      </p:pic>
      <p:pic>
        <p:nvPicPr>
          <p:cNvPr id="729" name="30_05c" descr=""/>
          <p:cNvPicPr/>
          <p:nvPr/>
        </p:nvPicPr>
        <p:blipFill>
          <a:blip r:embed="rId3"/>
          <a:stretch/>
        </p:blipFill>
        <p:spPr>
          <a:xfrm>
            <a:off x="4546440" y="914400"/>
            <a:ext cx="1625760" cy="1054080"/>
          </a:xfrm>
          <a:prstGeom prst="rect">
            <a:avLst/>
          </a:prstGeom>
          <a:ln w="0">
            <a:noFill/>
          </a:ln>
        </p:spPr>
      </p:pic>
      <p:pic>
        <p:nvPicPr>
          <p:cNvPr id="730" name="30_05d" descr=""/>
          <p:cNvPicPr/>
          <p:nvPr/>
        </p:nvPicPr>
        <p:blipFill>
          <a:blip r:embed="rId4"/>
          <a:stretch/>
        </p:blipFill>
        <p:spPr>
          <a:xfrm>
            <a:off x="609480" y="2590920"/>
            <a:ext cx="16257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0.5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nimation Issu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ing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laced/non-interlaced form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es order in which pixels are st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interlaced - pixels stored in order they appear on sc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age appears in chunks from top to bottom as it is loa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laced - pixels stored in rows, but out of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age appears to fade in and become more cl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imation flic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ue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pd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ing called in response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pa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AWT GUI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s filled rectangle in background color where image w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 image, sleep, clear background (flicker), draw next imag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wing'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verrid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pd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avoid th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0.5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nimation Issues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 buff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smooth anim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renders one image on scre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s next image in off-screen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ime to display next image, done smoothl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al images user would have seen (while image loads) are hid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pixels for next image displayed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ce/Time tradeof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s flicker, but can slow animation speed and uses more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Swing GUI components by defau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0.6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ustomizing Applets via the HTML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param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Tag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ize through parameters in HTML file that invok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html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applet code="LogoApplet.class" width=4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height=400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param name="totalimages" value="30"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param name="imagename" value="deitel"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param name="animationdelay" value="200"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/applet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/html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vokes apple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ogoAppl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r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ha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Applet metho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Para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return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rameter = getParameter( "animationdelay"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0.6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ustomizing Applets via the HTML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param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Tag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ogoAnima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as before, but modified slight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Apple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ogoAppl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s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goAnim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using th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ys an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mpor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oAnimato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as befor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Constructor to allow customiza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741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742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0.4: LogoAnimator.jav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745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nimating a series of imag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748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mpor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ava.awt.*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751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mpor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ava.awt.event.*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754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mpor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avax.swing.*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757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760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 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ogoAnimator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xtend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Pane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763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mplement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ctionListener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766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otecte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mageIcon images[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769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otected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otalImages = 30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772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currentImage = 0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775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animationDelay = 50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50 millisecond del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778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otecte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ring imageName = "deitel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otecte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r animationTim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784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787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ogoAnimator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790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793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initializeAnim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796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799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802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new constructor to support customizatio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805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ogoAnimato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u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lay, String nam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808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811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totalImages = nu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814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animationDelay = dela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817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imageName = 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820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823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initializeAnim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826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829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832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nitializeAnim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835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Methods as befor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839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840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images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mageIcon[ totalImages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843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846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0; i &lt; images.length; ++i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849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images[ i ]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mageIcon( "images/" 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852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  imageName + i + ".gif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855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858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   // moved here so getPreferredSize can check the size o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861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   // the first loaded imag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864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etSize( getPreferredSize() )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6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867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870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tartAnimation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2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873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5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876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8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879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aintComponent( Graphics g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882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4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885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uper.paintComponent( g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888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891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mages[ currentImage ].getImageLoadStatus() ==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3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894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MediaTracker.COMPLETE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897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images[ currentImage ].paintIco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g, 0,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900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currentImage = ( currentImage + 1 ) % totalImage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903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906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909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912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ctionPerformed( ActionEvent 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915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918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repa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921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3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924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6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927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artAnimatio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9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930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2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933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animationTimer =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ul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Methods as befor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937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938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currentImage = 0;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941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animationTime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r( animationDela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944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animationTimer.star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947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950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ontinue from last image display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953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! animationTimer.isRunning(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956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animationTimer.restar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959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962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965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opAnimatio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968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971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animationTimer.stop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974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977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980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imension getMinimumSiz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983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986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PreferredSize()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989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992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995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imension getPreferredSiz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998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1001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 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imension( images[ 0 ].getIconWidth()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1004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images[ 0 ].getIconHeight(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1007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1010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1013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 static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 String args[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016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019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LogoAnimator anim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ogoAnimator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022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025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JFrame app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Frame( "Animator test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028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app.getContentPane().add( anim, BorderLayout.CENTE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031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34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035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1036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app.addWindowListener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8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1039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indowAdapter(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1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1042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indowClosing( WindowEvent 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4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1045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7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1048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System.exit(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1051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3" name="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1054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1057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9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1060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2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1063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app.setSize( anim.getPreferredSize().width + 10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5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1066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anim.getPreferredSize().height + 3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8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1069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app.show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1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1072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1075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1078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0.4: LogoApplet.jav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0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1081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ustomizing an applet via HTML paramete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3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1084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6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1087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HTML parameter "animationdelay" is an int indicat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9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1090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illiseconds to sleep between images (default 50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2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1093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5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1096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HTML parameter "imagename" is the base name of the imag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1099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hat will be displayed (i.e., "deitel" is the base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1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1102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or images "deitel0.gif," "deitel1.gif," etc.). The appl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4" name="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1105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ssumes that images are in an "images" subdirectory o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7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1108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he directory in which the applet reside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1111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1114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HTML parameter "totalimages" is an integer representing th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6" name="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1117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otal number of images in the animation. The applet assum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9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1120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mages are numbered from 0 to totalimages - 1 (default 30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2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1123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Apple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i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s from paramete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Supply variables to con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Set layo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127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1128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mpor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ava.awt.*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0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1131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mpor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avax.swing.*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3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1134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1137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 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ogoApplet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xtend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Applet{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1140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nit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1143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5" name="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1146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tring paramet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8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1149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1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1152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arameter = getParameter( "animationdelay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4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1155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nimationDelay = ( parameter =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ul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? 50 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7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1158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 Integer.parseInt( parameter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1161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3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1164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tring imageName = getParameter( "imagename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1167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1170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arameter = getParameter( "totalimages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1173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otalImages = ( parameter =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ul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? 0 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1176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Integer.parseInt( parameter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1179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1182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   // Create an instance of LogoAnim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1185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LogoAnimator animato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1188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1191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mageName =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ul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|| totalImages == 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1194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animato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ogoAnimator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1197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1200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animato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ogoAnimator( totalImages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2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1203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animationDelay, imageNam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1206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8" name="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1209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etSize( animator.getPreferredSize().width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1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1212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animator.getPreferredSize().heigh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4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1215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etContentPane().add( animator, BorderLayout.CENTE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0.2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Loading, Displaying and Scaling Imag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Multi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raphics, images, animations, sounds, and vid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 with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m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ava.aw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bstract class, cannot create an object direct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request that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 loaded and returned to 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pp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superclass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App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has this meth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Image( imageLocation, filename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ageLocation - getDocumentBase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URL (address) of HTML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nam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Java suppor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g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jp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jpe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rtAnima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18" name=""/>
          <p:cNvGrpSpPr/>
          <p:nvPr/>
        </p:nvGrpSpPr>
        <p:grpSpPr>
          <a:xfrm>
            <a:off x="0" y="0"/>
            <a:ext cx="6780960" cy="1218960"/>
            <a:chOff x="0" y="0"/>
            <a:chExt cx="6780960" cy="1218960"/>
          </a:xfrm>
        </p:grpSpPr>
        <p:grpSp>
          <p:nvGrpSpPr>
            <p:cNvPr id="1219" name=""/>
            <p:cNvGrpSpPr/>
            <p:nvPr/>
          </p:nvGrpSpPr>
          <p:grpSpPr>
            <a:xfrm>
              <a:off x="0" y="0"/>
              <a:ext cx="6780960" cy="304560"/>
              <a:chOff x="0" y="0"/>
              <a:chExt cx="6780960" cy="304560"/>
            </a:xfrm>
          </p:grpSpPr>
          <p:sp>
            <p:nvSpPr>
              <p:cNvPr id="1220" name=""/>
              <p:cNvSpPr/>
              <p:nvPr/>
            </p:nvSpPr>
            <p:spPr>
              <a:xfrm>
                <a:off x="0" y="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0" y="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2" name=""/>
            <p:cNvGrpSpPr/>
            <p:nvPr/>
          </p:nvGrpSpPr>
          <p:grpSpPr>
            <a:xfrm>
              <a:off x="0" y="304560"/>
              <a:ext cx="6780960" cy="304560"/>
              <a:chOff x="0" y="304560"/>
              <a:chExt cx="6780960" cy="304560"/>
            </a:xfrm>
          </p:grpSpPr>
          <p:sp>
            <p:nvSpPr>
              <p:cNvPr id="1223" name=""/>
              <p:cNvSpPr/>
              <p:nvPr/>
            </p:nvSpPr>
            <p:spPr>
              <a:xfrm>
                <a:off x="0" y="30456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0" y="30456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animator.startAnimation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5" name=""/>
            <p:cNvGrpSpPr/>
            <p:nvPr/>
          </p:nvGrpSpPr>
          <p:grpSpPr>
            <a:xfrm>
              <a:off x="0" y="609480"/>
              <a:ext cx="6780960" cy="304920"/>
              <a:chOff x="0" y="609480"/>
              <a:chExt cx="6780960" cy="304920"/>
            </a:xfrm>
          </p:grpSpPr>
          <p:sp>
            <p:nvSpPr>
              <p:cNvPr id="1226" name=""/>
              <p:cNvSpPr/>
              <p:nvPr/>
            </p:nvSpPr>
            <p:spPr>
              <a:xfrm>
                <a:off x="0" y="609480"/>
                <a:ext cx="678096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0" y="609480"/>
                <a:ext cx="678096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8" name=""/>
            <p:cNvGrpSpPr/>
            <p:nvPr/>
          </p:nvGrpSpPr>
          <p:grpSpPr>
            <a:xfrm>
              <a:off x="0" y="914400"/>
              <a:ext cx="6780960" cy="304560"/>
              <a:chOff x="0" y="914400"/>
              <a:chExt cx="6780960" cy="304560"/>
            </a:xfrm>
          </p:grpSpPr>
          <p:sp>
            <p:nvSpPr>
              <p:cNvPr id="1229" name=""/>
              <p:cNvSpPr/>
              <p:nvPr/>
            </p:nvSpPr>
            <p:spPr>
              <a:xfrm>
                <a:off x="0" y="91440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0" y="91440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31" name="30_05a" descr=""/>
          <p:cNvPicPr/>
          <p:nvPr/>
        </p:nvPicPr>
        <p:blipFill>
          <a:blip r:embed="rId1"/>
          <a:stretch/>
        </p:blipFill>
        <p:spPr>
          <a:xfrm>
            <a:off x="609480" y="1917720"/>
            <a:ext cx="1625760" cy="1054080"/>
          </a:xfrm>
          <a:prstGeom prst="rect">
            <a:avLst/>
          </a:prstGeom>
          <a:ln w="0">
            <a:noFill/>
          </a:ln>
        </p:spPr>
      </p:pic>
      <p:pic>
        <p:nvPicPr>
          <p:cNvPr id="1232" name="30_05b" descr=""/>
          <p:cNvPicPr/>
          <p:nvPr/>
        </p:nvPicPr>
        <p:blipFill>
          <a:blip r:embed="rId2"/>
          <a:stretch/>
        </p:blipFill>
        <p:spPr>
          <a:xfrm>
            <a:off x="2514600" y="1917720"/>
            <a:ext cx="1625760" cy="1054080"/>
          </a:xfrm>
          <a:prstGeom prst="rect">
            <a:avLst/>
          </a:prstGeom>
          <a:ln w="0">
            <a:noFill/>
          </a:ln>
        </p:spPr>
      </p:pic>
      <p:pic>
        <p:nvPicPr>
          <p:cNvPr id="1233" name="30_05c" descr=""/>
          <p:cNvPicPr/>
          <p:nvPr/>
        </p:nvPicPr>
        <p:blipFill>
          <a:blip r:embed="rId3"/>
          <a:stretch/>
        </p:blipFill>
        <p:spPr>
          <a:xfrm>
            <a:off x="4546440" y="1917720"/>
            <a:ext cx="1625760" cy="1054080"/>
          </a:xfrm>
          <a:prstGeom prst="rect">
            <a:avLst/>
          </a:prstGeom>
          <a:ln w="0">
            <a:noFill/>
          </a:ln>
        </p:spPr>
      </p:pic>
      <p:pic>
        <p:nvPicPr>
          <p:cNvPr id="1234" name="30_05d" descr=""/>
          <p:cNvPicPr/>
          <p:nvPr/>
        </p:nvPicPr>
        <p:blipFill>
          <a:blip r:embed="rId4"/>
          <a:stretch/>
        </p:blipFill>
        <p:spPr>
          <a:xfrm>
            <a:off x="609480" y="3594240"/>
            <a:ext cx="16257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0.7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mage Map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 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age that has hot are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can click to accomplish a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bble hel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mouse over particular point in screen, small message displayed in status 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follow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ad several im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event handl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useMov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find x-coordin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d on the x-coordinate, display a mess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mpor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Declar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i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Initializ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mageIc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239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240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0.5: ImageMap.jav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2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243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ing an image map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5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246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mpor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ava.awt.*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8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1249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mpor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ava.awt.event.*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1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252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mpor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avax.swing.*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4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255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1258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 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mageMap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xtend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Apple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0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1261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mageIcon mapImag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3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1264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idth, heigh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6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1267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9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1270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nit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2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1273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5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1276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addMouseListener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8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1279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useAdapter(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1282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useExited( MouseEvent 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4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1285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7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1288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showStatus( "Pointer outside applet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0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1291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3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1294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6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1297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9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1300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2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1303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addMouseMotionListener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5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1306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useMotionAdapter(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8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1309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useMoved( MouseEvent 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1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1312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4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1315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showStatus( translateLocation( e.getX()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7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318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0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321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3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324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327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9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330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mapImag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mageIcon( "icons2.gif" )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2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333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width = mapImage.getIconWidth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4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anslateLoca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4.1 Display message depending 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336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337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1338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height = mapImage.getIconHeigh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0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1341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etSize( width, heigh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3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1344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6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1347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9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1350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aint( Graphics g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2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1353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5" name="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1356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mapImage.paintIco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g, 0,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8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1359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1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1362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4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1365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ring translateLocatio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7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1368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0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1371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   // determine width of each icon (there are 6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3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1374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conWidth = width / 6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6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1377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9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1380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x &gt;= 0 &amp;&amp; x &lt;= iconWidth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2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1383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ommon Programming Error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5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1386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 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x &gt; iconWidth &amp;&amp; x &lt;= iconWidth * 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8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1389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Good Programming Practice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1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1392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 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x &gt; iconWidth * 2 &amp;&amp; x &lt;= iconWidth * 3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4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1395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erformance Tip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7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1398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 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x &gt; iconWidth * 3 &amp;&amp; x &lt;= iconWidth * 4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0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1401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rtability Tip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1404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 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x &gt; iconWidth * 4 &amp;&amp; x &lt;= iconWidth * 5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6" name="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1407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Software Engineering Observatio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9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1410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 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x &gt; iconWidth * 5 &amp;&amp; x &lt;= iconWidth * 6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2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1413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Testing and Debugging Tip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5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1416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8" name="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1419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"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1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1422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4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1425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1428" name="30_07a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3213000" cy="1231920"/>
          </a:xfrm>
          <a:prstGeom prst="rect">
            <a:avLst/>
          </a:prstGeom>
          <a:ln w="0">
            <a:noFill/>
          </a:ln>
        </p:spPr>
      </p:pic>
      <p:pic>
        <p:nvPicPr>
          <p:cNvPr id="1429" name="30_07b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3213360" cy="1231920"/>
          </a:xfrm>
          <a:prstGeom prst="rect">
            <a:avLst/>
          </a:prstGeom>
          <a:ln w="0">
            <a:noFill/>
          </a:ln>
        </p:spPr>
      </p:pic>
      <p:pic>
        <p:nvPicPr>
          <p:cNvPr id="1430" name="30_07c" descr=""/>
          <p:cNvPicPr/>
          <p:nvPr/>
        </p:nvPicPr>
        <p:blipFill>
          <a:blip r:embed="rId3"/>
          <a:stretch/>
        </p:blipFill>
        <p:spPr>
          <a:xfrm>
            <a:off x="1447920" y="3263760"/>
            <a:ext cx="32130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0.8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 Plug-In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y different browser vers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st support Java 1.0 and 1.1, but few support Java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nsistent support of 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use Java 2 in an applet, use the Java Plug-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passes browser's Java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lls complete version of Java Runtime Environment on user's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file - ideal for corporate intranets and high-speed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0.8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 Plug-In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e Plug in with app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applet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param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/applet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gs must be conver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indicate that Plug-in should be used to execute app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Java Plug-in 1.2 HTML Conver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s conversion for 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://java.sun.com/products/plugi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install directory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 HTMLConver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file to convert and type of con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0.9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rnet and World Wide Web Resourc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 and web resources for Java Media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ttp://java.sun.com/products/java-media/jmf/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wnload and documentation for JM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ttp://java.sun.com/products/java-media/ jmf/forDevelopers/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te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x.medi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PI descri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wnloadable image, audio, and video galleri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your multimedia program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ttp://www.nasa.gov/gallery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ttp://sunsite.sut.ac.jp/multimed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0.2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Loading, Displaying and Scaling Images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m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with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raw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y overloaded vers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Image( myImage, x, y, ImageObserver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Image - Im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,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coordinates to display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ageObser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object on which image is displa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indicate the app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any object that implemen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ageObser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Image( myImage, x, y, width, height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ageObserver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dimensions of image (automatically scal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Width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Height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return dimensions of app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0.2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Loading, Displaying and Scaling Images (I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mageI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an abstract class (can create objec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 con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ImageIcon myIc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Icon = new ImageIcon( "myIcon.gif"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c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metho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paintI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Icon.paintIcon( Component, Graphics, x, y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onent - Compon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on which to display imag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used to render imag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coordinate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0.2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Loading, Displaying and Scaling Images (IV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mageIc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are simpler th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mag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objects direc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need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ageObser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ever, cannot sca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mageIc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mageIc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tho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Im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can be used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Im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be sca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mage Examp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or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Declar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it(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int(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rawImag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00" name=""/>
            <p:cNvGrpSpPr/>
            <p:nvPr/>
          </p:nvGrpSpPr>
          <p:grpSpPr>
            <a:xfrm>
              <a:off x="0" y="0"/>
              <a:ext cx="6780960" cy="237600"/>
              <a:chOff x="0" y="0"/>
              <a:chExt cx="6780960" cy="237600"/>
            </a:xfrm>
          </p:grpSpPr>
          <p:sp>
            <p:nvSpPr>
              <p:cNvPr id="101" name=""/>
              <p:cNvSpPr/>
              <p:nvPr/>
            </p:nvSpPr>
            <p:spPr>
              <a:xfrm>
                <a:off x="0" y="0"/>
                <a:ext cx="6780960" cy="23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0"/>
                <a:ext cx="6780960" cy="23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0.1: LoadImageAndScale.jav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0" y="237600"/>
              <a:ext cx="6780960" cy="220320"/>
              <a:chOff x="0" y="237600"/>
              <a:chExt cx="6780960" cy="220320"/>
            </a:xfrm>
          </p:grpSpPr>
          <p:sp>
            <p:nvSpPr>
              <p:cNvPr id="104" name=""/>
              <p:cNvSpPr/>
              <p:nvPr/>
            </p:nvSpPr>
            <p:spPr>
              <a:xfrm>
                <a:off x="0" y="23760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23760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Load an image and display it in its original si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0" y="458280"/>
              <a:ext cx="6780960" cy="220680"/>
              <a:chOff x="0" y="458280"/>
              <a:chExt cx="6780960" cy="220680"/>
            </a:xfrm>
          </p:grpSpPr>
          <p:sp>
            <p:nvSpPr>
              <p:cNvPr id="107" name=""/>
              <p:cNvSpPr/>
              <p:nvPr/>
            </p:nvSpPr>
            <p:spPr>
              <a:xfrm>
                <a:off x="0" y="4582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4582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nd scale it to twice its original width and height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0" y="678960"/>
              <a:ext cx="6780960" cy="220320"/>
              <a:chOff x="0" y="678960"/>
              <a:chExt cx="6780960" cy="220320"/>
            </a:xfrm>
          </p:grpSpPr>
          <p:sp>
            <p:nvSpPr>
              <p:cNvPr id="110" name=""/>
              <p:cNvSpPr/>
              <p:nvPr/>
            </p:nvSpPr>
            <p:spPr>
              <a:xfrm>
                <a:off x="0" y="67896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7896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Load and display the same image as an ImageIcon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0" y="899640"/>
              <a:ext cx="6780960" cy="220320"/>
              <a:chOff x="0" y="899640"/>
              <a:chExt cx="6780960" cy="220320"/>
            </a:xfrm>
          </p:grpSpPr>
          <p:sp>
            <p:nvSpPr>
              <p:cNvPr id="113" name=""/>
              <p:cNvSpPr/>
              <p:nvPr/>
            </p:nvSpPr>
            <p:spPr>
              <a:xfrm>
                <a:off x="0" y="89964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89964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mpor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ava.applet.Apple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0" y="1120320"/>
              <a:ext cx="6780960" cy="220320"/>
              <a:chOff x="0" y="1120320"/>
              <a:chExt cx="6780960" cy="220320"/>
            </a:xfrm>
          </p:grpSpPr>
          <p:sp>
            <p:nvSpPr>
              <p:cNvPr id="116" name=""/>
              <p:cNvSpPr/>
              <p:nvPr/>
            </p:nvSpPr>
            <p:spPr>
              <a:xfrm>
                <a:off x="0" y="112032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112032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mpor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ava.awt.*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0" y="1341000"/>
              <a:ext cx="6780960" cy="220680"/>
              <a:chOff x="0" y="1341000"/>
              <a:chExt cx="6780960" cy="2206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13410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13410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mpor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avax.swing.*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0" y="1561680"/>
              <a:ext cx="6780960" cy="220320"/>
              <a:chOff x="0" y="1561680"/>
              <a:chExt cx="6780960" cy="220320"/>
            </a:xfrm>
          </p:grpSpPr>
          <p:sp>
            <p:nvSpPr>
              <p:cNvPr id="122" name=""/>
              <p:cNvSpPr/>
              <p:nvPr/>
            </p:nvSpPr>
            <p:spPr>
              <a:xfrm>
                <a:off x="0" y="156168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156168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0" y="1782360"/>
              <a:ext cx="6780960" cy="220320"/>
              <a:chOff x="0" y="1782360"/>
              <a:chExt cx="6780960" cy="220320"/>
            </a:xfrm>
          </p:grpSpPr>
          <p:sp>
            <p:nvSpPr>
              <p:cNvPr id="125" name=""/>
              <p:cNvSpPr/>
              <p:nvPr/>
            </p:nvSpPr>
            <p:spPr>
              <a:xfrm>
                <a:off x="0" y="178236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78236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 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oadImageAndScale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xtend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Apple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0" y="2003040"/>
              <a:ext cx="6780960" cy="220320"/>
              <a:chOff x="0" y="2003040"/>
              <a:chExt cx="6780960" cy="220320"/>
            </a:xfrm>
          </p:grpSpPr>
          <p:sp>
            <p:nvSpPr>
              <p:cNvPr id="128" name=""/>
              <p:cNvSpPr/>
              <p:nvPr/>
            </p:nvSpPr>
            <p:spPr>
              <a:xfrm>
                <a:off x="0" y="200304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200304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mage logo1;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0" y="2223720"/>
              <a:ext cx="6780960" cy="220320"/>
              <a:chOff x="0" y="2223720"/>
              <a:chExt cx="6780960" cy="220320"/>
            </a:xfrm>
          </p:grpSpPr>
          <p:sp>
            <p:nvSpPr>
              <p:cNvPr id="131" name=""/>
              <p:cNvSpPr/>
              <p:nvPr/>
            </p:nvSpPr>
            <p:spPr>
              <a:xfrm>
                <a:off x="0" y="222372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222372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mageIcon logo2;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0" y="2444400"/>
              <a:ext cx="6780960" cy="220680"/>
              <a:chOff x="0" y="2444400"/>
              <a:chExt cx="6780960" cy="220680"/>
            </a:xfrm>
          </p:grpSpPr>
          <p:sp>
            <p:nvSpPr>
              <p:cNvPr id="134" name=""/>
              <p:cNvSpPr/>
              <p:nvPr/>
            </p:nvSpPr>
            <p:spPr>
              <a:xfrm>
                <a:off x="0" y="24444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24444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0" y="2665080"/>
              <a:ext cx="6780960" cy="220320"/>
              <a:chOff x="0" y="2665080"/>
              <a:chExt cx="6780960" cy="220320"/>
            </a:xfrm>
          </p:grpSpPr>
          <p:sp>
            <p:nvSpPr>
              <p:cNvPr id="137" name=""/>
              <p:cNvSpPr/>
              <p:nvPr/>
            </p:nvSpPr>
            <p:spPr>
              <a:xfrm>
                <a:off x="0" y="266508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266508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load the image when the applet is load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0" y="2885760"/>
              <a:ext cx="6780960" cy="220320"/>
              <a:chOff x="0" y="2885760"/>
              <a:chExt cx="6780960" cy="220320"/>
            </a:xfrm>
          </p:grpSpPr>
          <p:sp>
            <p:nvSpPr>
              <p:cNvPr id="140" name=""/>
              <p:cNvSpPr/>
              <p:nvPr/>
            </p:nvSpPr>
            <p:spPr>
              <a:xfrm>
                <a:off x="0" y="288576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288576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nit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0" y="3106440"/>
              <a:ext cx="6780960" cy="220320"/>
              <a:chOff x="0" y="3106440"/>
              <a:chExt cx="6780960" cy="220320"/>
            </a:xfrm>
          </p:grpSpPr>
          <p:sp>
            <p:nvSpPr>
              <p:cNvPr id="143" name=""/>
              <p:cNvSpPr/>
              <p:nvPr/>
            </p:nvSpPr>
            <p:spPr>
              <a:xfrm>
                <a:off x="0" y="310644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310644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0" y="3327120"/>
              <a:ext cx="6780960" cy="220680"/>
              <a:chOff x="0" y="3327120"/>
              <a:chExt cx="6780960" cy="220680"/>
            </a:xfrm>
          </p:grpSpPr>
          <p:sp>
            <p:nvSpPr>
              <p:cNvPr id="146" name=""/>
              <p:cNvSpPr/>
              <p:nvPr/>
            </p:nvSpPr>
            <p:spPr>
              <a:xfrm>
                <a:off x="0" y="33271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33271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logo1 = getImage( getDocumentBase(), "logo.gif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0" y="3547800"/>
              <a:ext cx="6780960" cy="220320"/>
              <a:chOff x="0" y="3547800"/>
              <a:chExt cx="6780960" cy="22032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354780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54780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logo2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mageIcon( "logo.gif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0" y="3768480"/>
              <a:ext cx="6780960" cy="220320"/>
              <a:chOff x="0" y="3768480"/>
              <a:chExt cx="6780960" cy="220320"/>
            </a:xfrm>
          </p:grpSpPr>
          <p:sp>
            <p:nvSpPr>
              <p:cNvPr id="152" name=""/>
              <p:cNvSpPr/>
              <p:nvPr/>
            </p:nvSpPr>
            <p:spPr>
              <a:xfrm>
                <a:off x="0" y="376848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376848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0" y="3989160"/>
              <a:ext cx="6780960" cy="220320"/>
              <a:chOff x="0" y="3989160"/>
              <a:chExt cx="6780960" cy="220320"/>
            </a:xfrm>
          </p:grpSpPr>
          <p:sp>
            <p:nvSpPr>
              <p:cNvPr id="155" name=""/>
              <p:cNvSpPr/>
              <p:nvPr/>
            </p:nvSpPr>
            <p:spPr>
              <a:xfrm>
                <a:off x="0" y="398916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398916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0" y="4209840"/>
              <a:ext cx="6780960" cy="220680"/>
              <a:chOff x="0" y="4209840"/>
              <a:chExt cx="6780960" cy="220680"/>
            </a:xfrm>
          </p:grpSpPr>
          <p:sp>
            <p:nvSpPr>
              <p:cNvPr id="158" name=""/>
              <p:cNvSpPr/>
              <p:nvPr/>
            </p:nvSpPr>
            <p:spPr>
              <a:xfrm>
                <a:off x="0" y="42098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42098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isplay the ima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0" y="4430520"/>
              <a:ext cx="6780960" cy="220320"/>
              <a:chOff x="0" y="4430520"/>
              <a:chExt cx="6780960" cy="220320"/>
            </a:xfrm>
          </p:grpSpPr>
          <p:sp>
            <p:nvSpPr>
              <p:cNvPr id="161" name=""/>
              <p:cNvSpPr/>
              <p:nvPr/>
            </p:nvSpPr>
            <p:spPr>
              <a:xfrm>
                <a:off x="0" y="443052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443052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aint( Graphics g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0" y="4651200"/>
              <a:ext cx="6780960" cy="220320"/>
              <a:chOff x="0" y="4651200"/>
              <a:chExt cx="6780960" cy="220320"/>
            </a:xfrm>
          </p:grpSpPr>
          <p:sp>
            <p:nvSpPr>
              <p:cNvPr id="164" name=""/>
              <p:cNvSpPr/>
              <p:nvPr/>
            </p:nvSpPr>
            <p:spPr>
              <a:xfrm>
                <a:off x="0" y="465120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465120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0" y="4871880"/>
              <a:ext cx="6780960" cy="220320"/>
              <a:chOff x="0" y="4871880"/>
              <a:chExt cx="6780960" cy="220320"/>
            </a:xfrm>
          </p:grpSpPr>
          <p:sp>
            <p:nvSpPr>
              <p:cNvPr id="167" name=""/>
              <p:cNvSpPr/>
              <p:nvPr/>
            </p:nvSpPr>
            <p:spPr>
              <a:xfrm>
                <a:off x="0" y="487188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487188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   // draw the original ima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0" y="5092560"/>
              <a:ext cx="6780960" cy="220680"/>
              <a:chOff x="0" y="5092560"/>
              <a:chExt cx="6780960" cy="220680"/>
            </a:xfrm>
          </p:grpSpPr>
          <p:sp>
            <p:nvSpPr>
              <p:cNvPr id="170" name=""/>
              <p:cNvSpPr/>
              <p:nvPr/>
            </p:nvSpPr>
            <p:spPr>
              <a:xfrm>
                <a:off x="0" y="50925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50925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drawImage( logo1, 0,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0" y="5313240"/>
              <a:ext cx="6780960" cy="220320"/>
              <a:chOff x="0" y="5313240"/>
              <a:chExt cx="6780960" cy="220320"/>
            </a:xfrm>
          </p:grpSpPr>
          <p:sp>
            <p:nvSpPr>
              <p:cNvPr id="173" name=""/>
              <p:cNvSpPr/>
              <p:nvPr/>
            </p:nvSpPr>
            <p:spPr>
              <a:xfrm>
                <a:off x="0" y="531324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31324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0" y="5533920"/>
              <a:ext cx="6780960" cy="220320"/>
              <a:chOff x="0" y="5533920"/>
              <a:chExt cx="6780960" cy="220320"/>
            </a:xfrm>
          </p:grpSpPr>
          <p:sp>
            <p:nvSpPr>
              <p:cNvPr id="176" name=""/>
              <p:cNvSpPr/>
              <p:nvPr/>
            </p:nvSpPr>
            <p:spPr>
              <a:xfrm>
                <a:off x="0" y="553392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553392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   // draw the image scaled to fit the width of the appl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0" y="5754600"/>
              <a:ext cx="6780960" cy="220320"/>
              <a:chOff x="0" y="5754600"/>
              <a:chExt cx="6780960" cy="220320"/>
            </a:xfrm>
          </p:grpSpPr>
          <p:sp>
            <p:nvSpPr>
              <p:cNvPr id="179" name=""/>
              <p:cNvSpPr/>
              <p:nvPr/>
            </p:nvSpPr>
            <p:spPr>
              <a:xfrm>
                <a:off x="0" y="575460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75460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   // and the height of the applet minus 120 pixe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0" y="5975280"/>
              <a:ext cx="6780960" cy="220320"/>
              <a:chOff x="0" y="5975280"/>
              <a:chExt cx="6780960" cy="220320"/>
            </a:xfrm>
          </p:grpSpPr>
          <p:sp>
            <p:nvSpPr>
              <p:cNvPr id="182" name=""/>
              <p:cNvSpPr/>
              <p:nvPr/>
            </p:nvSpPr>
            <p:spPr>
              <a:xfrm>
                <a:off x="0" y="597528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597528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drawImage( logo1, 0, 120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0" y="6195960"/>
              <a:ext cx="6780960" cy="220680"/>
              <a:chOff x="0" y="6195960"/>
              <a:chExt cx="6780960" cy="220680"/>
            </a:xfrm>
          </p:grpSpPr>
          <p:sp>
            <p:nvSpPr>
              <p:cNvPr id="185" name=""/>
              <p:cNvSpPr/>
              <p:nvPr/>
            </p:nvSpPr>
            <p:spPr>
              <a:xfrm>
                <a:off x="0" y="61959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61959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getWidth(), getHeight() - 12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0" y="6416640"/>
              <a:ext cx="6780960" cy="220320"/>
              <a:chOff x="0" y="6416640"/>
              <a:chExt cx="6780960" cy="220320"/>
            </a:xfrm>
          </p:grpSpPr>
          <p:sp>
            <p:nvSpPr>
              <p:cNvPr id="188" name=""/>
              <p:cNvSpPr/>
              <p:nvPr/>
            </p:nvSpPr>
            <p:spPr>
              <a:xfrm>
                <a:off x="0" y="641664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641664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0" y="6637320"/>
              <a:ext cx="6780960" cy="220320"/>
              <a:chOff x="0" y="6637320"/>
              <a:chExt cx="6780960" cy="220320"/>
            </a:xfrm>
          </p:grpSpPr>
          <p:sp>
            <p:nvSpPr>
              <p:cNvPr id="191" name=""/>
              <p:cNvSpPr/>
              <p:nvPr/>
            </p:nvSpPr>
            <p:spPr>
              <a:xfrm>
                <a:off x="0" y="663732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663732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   // draw the icon using its paintIcon metho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intIcon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all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0" y="0"/>
            <a:ext cx="6780960" cy="1142640"/>
            <a:chOff x="0" y="0"/>
            <a:chExt cx="6780960" cy="1142640"/>
          </a:xfrm>
        </p:grpSpPr>
        <p:grpSp>
          <p:nvGrpSpPr>
            <p:cNvPr id="195" name=""/>
            <p:cNvGrpSpPr/>
            <p:nvPr/>
          </p:nvGrpSpPr>
          <p:grpSpPr>
            <a:xfrm>
              <a:off x="0" y="0"/>
              <a:ext cx="6780960" cy="380880"/>
              <a:chOff x="0" y="0"/>
              <a:chExt cx="6780960" cy="380880"/>
            </a:xfrm>
          </p:grpSpPr>
          <p:sp>
            <p:nvSpPr>
              <p:cNvPr id="196" name=""/>
              <p:cNvSpPr/>
              <p:nvPr/>
            </p:nvSpPr>
            <p:spPr>
              <a:xfrm>
                <a:off x="0" y="0"/>
                <a:ext cx="678096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0"/>
                <a:ext cx="678096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logo2.paintIco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g, 180,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0" y="380880"/>
              <a:ext cx="6780960" cy="380880"/>
              <a:chOff x="0" y="380880"/>
              <a:chExt cx="6780960" cy="380880"/>
            </a:xfrm>
          </p:grpSpPr>
          <p:sp>
            <p:nvSpPr>
              <p:cNvPr id="199" name=""/>
              <p:cNvSpPr/>
              <p:nvPr/>
            </p:nvSpPr>
            <p:spPr>
              <a:xfrm>
                <a:off x="0" y="380880"/>
                <a:ext cx="678096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80880"/>
                <a:ext cx="678096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0" y="761760"/>
              <a:ext cx="6780960" cy="380880"/>
              <a:chOff x="0" y="761760"/>
              <a:chExt cx="6780960" cy="380880"/>
            </a:xfrm>
          </p:grpSpPr>
          <p:sp>
            <p:nvSpPr>
              <p:cNvPr id="202" name=""/>
              <p:cNvSpPr/>
              <p:nvPr/>
            </p:nvSpPr>
            <p:spPr>
              <a:xfrm>
                <a:off x="0" y="761760"/>
                <a:ext cx="678096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761760"/>
                <a:ext cx="678096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04" name="30_01" descr=""/>
          <p:cNvPicPr/>
          <p:nvPr/>
        </p:nvPicPr>
        <p:blipFill>
          <a:blip r:embed="rId1"/>
          <a:stretch/>
        </p:blipFill>
        <p:spPr>
          <a:xfrm>
            <a:off x="1066680" y="1662120"/>
            <a:ext cx="331488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0.3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Loading and Playing Audio Clip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dio cl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quire speakers and a sound bo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und engine - plays audio cli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a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wa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 Media Framework supports additional form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ing audio cl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la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thod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ppl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ys clip once, marked for garbage collection when finish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lay( location, soundFileName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cation - getDocumentB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RL of HTML f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lay( soundURL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undUR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URL that contains location and filename of cl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5:23:17Z</dcterms:created>
  <dc:creator>kalid</dc:creator>
  <dc:description/>
  <dc:language>en-US</dc:language>
  <cp:lastModifiedBy>kalid</cp:lastModifiedBy>
  <dcterms:modified xsi:type="dcterms:W3CDTF">2000-08-04T13:17:53Z</dcterms:modified>
  <cp:revision>190</cp:revision>
  <dc:subject/>
  <dc:title>Java Multimedia: Images, Animation, Audio and Video</dc:title>
</cp:coreProperties>
</file>