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87E-5DCA-4D89-AB98-6A2FADACB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hospi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xpensive health 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healthcare provi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rma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lue Cross Blue 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di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odore Rooseve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vil w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50%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di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Baby Boom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200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oughnut Ho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ederal Poverty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dica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United St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United St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D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health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B6A-713B-4AAB-87AE-385062CC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9CB-7638-4617-8507-0E371A1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392-433F-4FA8-9431-25611A00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FDA-66B4-42DC-A742-A58D97E3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39C-02F8-430B-89CD-F946D98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56E-65C4-42A0-B04E-B9D96E1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849-31AA-4D04-B2F4-E1C3B3E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6D3-D1E0-4882-9BDF-4A7A56E9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14B-8C1E-40CA-815D-795E9C4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198-6C74-4885-90DE-C366A09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ED5-4944-47FB-BAD3-40102D0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FBC-6913-4E0A-A54D-19EEB15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0A46-80F4-406B-9F38-F715050EA44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" Target="slide24.xml"/><Relationship Id="rId6" Type="http://schemas.openxmlformats.org/officeDocument/2006/relationships/slide" Target="slide29.xml"/><Relationship Id="rId7" Type="http://schemas.openxmlformats.org/officeDocument/2006/relationships/slide" Target="slide5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20.xml"/><Relationship Id="rId11" Type="http://schemas.openxmlformats.org/officeDocument/2006/relationships/slide" Target="slide25.xml"/><Relationship Id="rId12" Type="http://schemas.openxmlformats.org/officeDocument/2006/relationships/slide" Target="slide30.xml"/><Relationship Id="rId13" Type="http://schemas.openxmlformats.org/officeDocument/2006/relationships/slide" Target="slide6.xml"/><Relationship Id="rId14" Type="http://schemas.openxmlformats.org/officeDocument/2006/relationships/slide" Target="slide11.xml"/><Relationship Id="rId15" Type="http://schemas.openxmlformats.org/officeDocument/2006/relationships/slide" Target="slide16.xml"/><Relationship Id="rId16" Type="http://schemas.openxmlformats.org/officeDocument/2006/relationships/slide" Target="slide21.xml"/><Relationship Id="rId17" Type="http://schemas.openxmlformats.org/officeDocument/2006/relationships/slide" Target="slide26.xml"/><Relationship Id="rId18" Type="http://schemas.openxmlformats.org/officeDocument/2006/relationships/slide" Target="slide31.xml"/><Relationship Id="rId19" Type="http://schemas.openxmlformats.org/officeDocument/2006/relationships/slide" Target="slide7.xml"/><Relationship Id="rId20" Type="http://schemas.openxmlformats.org/officeDocument/2006/relationships/slide" Target="slide12.xml"/><Relationship Id="rId21" Type="http://schemas.openxmlformats.org/officeDocument/2006/relationships/slide" Target="slide17.xml"/><Relationship Id="rId22" Type="http://schemas.openxmlformats.org/officeDocument/2006/relationships/slide" Target="slide22.xml"/><Relationship Id="rId23" Type="http://schemas.openxmlformats.org/officeDocument/2006/relationships/slide" Target="slide27.xml"/><Relationship Id="rId24" Type="http://schemas.openxmlformats.org/officeDocument/2006/relationships/slide" Target="slide32.xml"/><Relationship Id="rId25" Type="http://schemas.openxmlformats.org/officeDocument/2006/relationships/slide" Target="slide8.xml"/><Relationship Id="rId26" Type="http://schemas.openxmlformats.org/officeDocument/2006/relationships/slide" Target="slide13.xml"/><Relationship Id="rId27" Type="http://schemas.openxmlformats.org/officeDocument/2006/relationships/slide" Target="slide18.xml"/><Relationship Id="rId28" Type="http://schemas.openxmlformats.org/officeDocument/2006/relationships/slide" Target="slide23.xml"/><Relationship Id="rId29" Type="http://schemas.openxmlformats.org/officeDocument/2006/relationships/slide" Target="slide28.xml"/><Relationship Id="rId30" Type="http://schemas.openxmlformats.org/officeDocument/2006/relationships/slide" Target="slide33.xml"/><Relationship Id="rId3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NECESSARY FOR MEDICAL CARE, THESE REGULATED FACILITIES WERE DESIGNED TO B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EFFECTS OF THIS CAUSE UNINSURED PEOPLE TO PAY HIGHER RATES WHILE HEALTH IS POSITIVELY CORRELATED TO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A GOOD SOLUTION TO THE RISING COSTS OF HEALTH CARE, THESE INDIVIDUALS AND ORGANIZATIONS CAN BE REGU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IN THIS NATION, EMPLOYERS AND EMPLOYEES SHARE THE COST OF HEALTHCARE EQ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MAJOR INSURANCE COMPANY BECAME THE FIRST OF ITS KIND IN THE LATE 193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TYPE OF INSURANCE IS OFFERED TO PEOPLE OVER THE AGE OF 65 AND IS THE TOPIC OF MARCIA’S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IN 1912, THIS PRESIDENT WITH TINY ROUND GLASSES MADE NATIONAL HEALTH INSURANCE A MAJOR PART OF THE PROGRESSIVE PARTY. HE IS ALSO THE NAMESAKE OF POPUL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STUFFED B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DURING THIS WAR, THE FIRST AMERICAN INSURANCE PLANS BE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BY 1995, THE GOVERNMENT WAS RESPONSIBLE FOR PAYING THIS PERCENTAGE OF HEALTHCAR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Chase $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yparody"/>
              </a:rPr>
              <a:t>This isn’t</a:t>
            </a:r>
            <a:br>
              <a:rPr sz="15600"/>
            </a:br>
            <a:r>
              <a:rPr b="0" lang="en-US" sz="15600" spc="-1" strike="noStrike">
                <a:solidFill>
                  <a:srgbClr val="ffffff"/>
                </a:solidFill>
                <a:latin typeface="Gyparody"/>
              </a:rPr>
              <a:t>Jeopardy!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Chase $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Chase $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Chase $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Chase $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Eric $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Eric $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Eric $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Eric $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Eric $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FORM OF SOCIAL HEALTH INSURANCE IS ALL THE RAGE WITH RETI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380880"/>
          <a:ext cx="8413920" cy="6096240"/>
        </p:xfrm>
        <a:graphic>
          <a:graphicData uri="http://schemas.openxmlformats.org/drawingml/2006/table">
            <a:tbl>
              <a:tblPr/>
              <a:tblGrid>
                <a:gridCol w="1393920"/>
                <a:gridCol w="1371600"/>
                <a:gridCol w="1371600"/>
                <a:gridCol w="1392120"/>
                <a:gridCol w="1371600"/>
                <a:gridCol w="151308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Impact"/>
                          <a:ea typeface="Arial"/>
                        </a:rPr>
                        <a:t>THE OTHER SIDE OF THE TRAC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Impact"/>
                          <a:ea typeface="Arial"/>
                        </a:rPr>
                        <a:t>THAT AIN’T CHEAP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Impact"/>
                          <a:ea typeface="Arial"/>
                        </a:rPr>
                        <a:t>LIVING IN THE P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Impact"/>
                          <a:ea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Impact"/>
                          <a:ea typeface="Arial"/>
                        </a:rPr>
                        <a:t>ER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Impact"/>
                          <a:ea typeface="Arial"/>
                        </a:rPr>
                        <a:t>FOR THE OLD FOL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6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1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2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6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7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8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1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2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3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4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6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7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8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29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Impact"/>
                          <a:ea typeface="Arial"/>
                          <a:hlinkClick r:id="rId30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GENERATION IS CAUSING THE AVERAGE AGE OF ALL AMERICANS TO INCR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E SAME YEAR AMERICA FOUND NEMO AND MET JACK SPARROW WAS WHEN THE MEDICARE PRESCRIPTION DRUG, IMPROVEMENT, AND MODERNIZATION ACT WAS SIGNED INTO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E COVERAGE GAP EXPERIENCED BY MANY ON MEDICARE IS, AT SOME BAKERIES, CALLED A “MUNCHKI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IS THE MEASURE USED TO DETERMINE ELIGIBLILTY FOR DIFFERENT LEVELS OF PRESCRIPTION DRUG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Gyparody"/>
              </a:rPr>
              <a:t>Daily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Gyparody"/>
              </a:rPr>
              <a:t>Double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Gyparody"/>
              </a:rPr>
              <a:t>Daily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Gyparody"/>
              </a:rPr>
              <a:t>Double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Gyparody"/>
              </a:rPr>
              <a:t>Final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FINAL JEOPARD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IS AMERICA’S BIGGEST HEALTH AND LONG-TERM CARE PROG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IS NORTH-AMERICAN NATION SPENDS THE MOST ON HEALTH CARE AS A PERCENTAGE OF GD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HE EUROPEAN COUNTRY BOASTS PUBLIC HEALTH INSURANCE FOR 100% OF ALL LEGAL RESIDENTS. AND THEY ALL LOUVR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OUT OF ALL MEMBERS OF THE ORGANIZATION FOR ECONOMIC CO-OPERATION AND DEVELOPMENT, THIS COUNTRY HAS THE HIGHEST INFANT MORTALITY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IT’S NOT SURPRISING THAT DICTORS’ SALARIES EXCEEDING $200,000 PER YEAR AFFECT THIS MAJOR INDICATOR OF AMERICA’S ECONOMIC WELL BE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IN THE EARLIEST DECADES OF UNITED STATES HISTORY, THE NATION WAS LACKING IN A FORMAL SYSTEM PROVIDING THIS TO IT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52280" y="6404040"/>
            <a:ext cx="304920" cy="3016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10916" y="3837"/>
                </a:moveTo>
                <a:lnTo>
                  <a:pt x="13492" y="6448"/>
                </a:ln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lnTo>
                  <a:pt x="17879" y="10800"/>
                </a:lnTo>
                <a:lnTo>
                  <a:pt x="16225" y="10800"/>
                </a:lnTo>
                <a:lnTo>
                  <a:pt x="16225" y="17989"/>
                </a:lnTo>
                <a:lnTo>
                  <a:pt x="5607" y="17989"/>
                </a:lnTo>
                <a:lnTo>
                  <a:pt x="5607" y="10800"/>
                </a:lnTo>
                <a:lnTo>
                  <a:pt x="3953" y="10800"/>
                </a:lnTo>
                <a:close/>
              </a:path>
              <a:path fill="darkenLess" w="21832" h="21600">
                <a:moveTo>
                  <a:pt x="13492" y="6448"/>
                </a:moveTo>
                <a:lnTo>
                  <a:pt x="13492" y="4707"/>
                </a:lnTo>
                <a:lnTo>
                  <a:pt x="15268" y="4707"/>
                </a:lnTo>
                <a:lnTo>
                  <a:pt x="15268" y="8224"/>
                </a:lnTo>
                <a:close/>
              </a:path>
              <a:path fill="darkenLess" w="21832" h="21600">
                <a:moveTo>
                  <a:pt x="9993" y="14299"/>
                </a:moveTo>
                <a:lnTo>
                  <a:pt x="11838" y="14299"/>
                </a:lnTo>
                <a:lnTo>
                  <a:pt x="11838" y="17989"/>
                </a:lnTo>
                <a:lnTo>
                  <a:pt x="16225" y="17989"/>
                </a:lnTo>
                <a:lnTo>
                  <a:pt x="16225" y="10800"/>
                </a:lnTo>
                <a:lnTo>
                  <a:pt x="5607" y="10800"/>
                </a:lnTo>
                <a:lnTo>
                  <a:pt x="5607" y="17989"/>
                </a:lnTo>
                <a:lnTo>
                  <a:pt x="9993" y="17989"/>
                </a:ln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2:42:36Z</dcterms:created>
  <dc:creator>Marcia Ashcraft</dc:creator>
  <dc:description/>
  <dc:language>en-US</dc:language>
  <cp:lastModifiedBy>Marcia Ashcraft</cp:lastModifiedBy>
  <dcterms:modified xsi:type="dcterms:W3CDTF">2007-04-26T02:42:36Z</dcterms:modified>
  <cp:revision>7</cp:revision>
  <dc:subject/>
  <dc:title>This isn’t Jeopardy!</dc:title>
</cp:coreProperties>
</file>