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DE7-6517-42C7-BF7C-D8273CC0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B10-7A93-418C-8264-3C63CC3C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BE8-DD09-4399-9DD0-5BA599C9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875-AAA7-437C-A769-513B4183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710F-9E81-4AFE-98E0-DC5543F9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F8BA-DEBF-41E9-BE39-29A3437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2C2-DC9B-410F-B80B-4AA546F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B561-692F-4FC3-B9F7-C165AF1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6DC-3F93-4643-9ABC-406B67DD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3319-1277-47EA-AE18-4A252CA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3825-22B1-4D10-91E1-01CD9D0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3E4-0E89-4D3A-8CF7-4A05150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8CE-F416-426D-BF1B-DDC1AD0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466-0042-4D7C-8849-13627D2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51DC-8D48-4A51-B642-78536FE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07E-85B6-49B1-9A66-56B9DD16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A063-9ABF-48A3-A836-EF175228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BEA-4ABD-4768-A005-C20D77B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6F5-E7C6-47A9-81A1-1D404E7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F05-F5F3-42AA-8622-D8BF291F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EED-E9BE-471F-A9D6-3B87E3F6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5C9-740E-44F3-8C1F-6309E44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E9E-6531-4DBA-B78B-E4AAC12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53A-26D0-4E49-8DC0-365F3F0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CC7-DC8F-4AC8-9BC0-C615A41E4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226-D83D-4C9D-A739-1AEFF34B2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990720"/>
            <a:ext cx="8076960" cy="642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Verdana"/>
              </a:rPr>
              <a:t>3G MOBILE COMMUNICA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828800"/>
          <a:ext cx="2743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2743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324480" y="1828800"/>
          <a:ext cx="251460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828800"/>
                    <a:ext cx="2514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438280" y="5791320"/>
            <a:ext cx="4343400" cy="8254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. J. SOMAIYA COLLEGE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809880"/>
            <a:ext cx="4876920" cy="0"/>
          </a:xfrm>
          <a:prstGeom prst="line">
            <a:avLst/>
          </a:prstGeom>
          <a:ln w="57240">
            <a:solidFill>
              <a:srgbClr val="418a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89154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PLICATONS OF 3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CE OVER INTERNE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MG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HOM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S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80060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581640" cy="205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G CONCEP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37160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 ACC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4800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SIC BLOCKS OF 3G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90720"/>
            <a:ext cx="1771560" cy="990360"/>
          </a:xfrm>
          <a:prstGeom prst="borderCallout2">
            <a:avLst>
              <a:gd name="adj1" fmla="val 18750"/>
              <a:gd name="adj2" fmla="val -8333"/>
              <a:gd name="adj3" fmla="val 11537"/>
              <a:gd name="adj4" fmla="val 116129"/>
              <a:gd name="adj5" fmla="val 105768"/>
              <a:gd name="adj6" fmla="val 127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752480" y="10666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296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931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3G NETWORK CONSISTS OF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HAND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SIMILAR TO 2G HANDSETS IN USE TODAY BUT HAS              TWO EXTRA CHIPS EMBEDDED CONTROLLER CHIP AND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 ACCESS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AN)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NO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RADIO NETWORK CONTROLLERS (RN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MOBILE SWITCHING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RELAYS CALLS BETWEEN PSTN AND CELLULAR NETWOR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DATABASES HLR AND VLR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PUBLIC LAND 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3G-SG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3G-GGS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4296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57200"/>
          <a:ext cx="9144000" cy="61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1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G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-22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3G PROTOCOL LAY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550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MOBIL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DE B APPLICATION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O LINK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UM AC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S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NS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RS TUNNEL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APPLICATION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M PROTOCO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4479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4920" y="533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ACTICAL WIRELESS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8915400" cy="64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LUETOOTH AS A 3G ENAB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UETOOTH IS A DEFACTO OPEN STANDARD FOR SHORT RANGE DIGITAL RA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3G SYSTEMS ARE USED TO DELIVER A “TRUNK” CONNECTION TO A SPECIFIC LOCATION AND BLUETOOTH IS USED AS FINAL DELIVERY AND LOCAL NETWORK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FOLLOWING EXAMPLES DEMONSTRATE HOW 3G AND BLUETOOTH COULD WORK TOGETHER, PROVIDING LOCAL INTERCOMMUNICATION AS WELL AS WIDE AREA CONNECTIVITY IN A WIDE RANGE OF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VENDING MACHINES IN ASHOPPING 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~ EMAIL DELIVEY TO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~ THE UNDERGROUND 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4572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4:50:12Z</dcterms:created>
  <dc:creator>Desai</dc:creator>
  <dc:description/>
  <dc:language>en-US</dc:language>
  <cp:lastModifiedBy>Desai</cp:lastModifiedBy>
  <dcterms:modified xsi:type="dcterms:W3CDTF">2001-12-17T13:15:08Z</dcterms:modified>
  <cp:revision>20</cp:revision>
  <dc:subject/>
  <dc:title>PowerPoint Presentation</dc:title>
</cp:coreProperties>
</file>