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1333-7C8B-40F2-8AEF-6896B8DE7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C8A1-B5CA-4BFB-B26F-27E4CC10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B334-0C6A-43A6-A73F-61A5ABDBC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0196-A1F1-4C6D-9148-11504943F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7D7F-D650-44FC-9B49-1AC9BAF2F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A0A9-F14E-4A26-AD23-41B97188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8275-DFA6-43D3-A121-AF1E843A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54CE-237E-4C9E-BEEA-F2C0B7BF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B48C-F44A-4965-A646-FFF38D87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96D6-0BDE-41DD-B7E5-615FB575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7B4D-6FF8-4BB6-B3C8-2BE61921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F603-79DC-4257-974C-F348FFAFE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5492E-88EA-428E-9905-EB72EDB1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F3723-2BAE-4F45-82ED-351147E7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B6E2-D8F4-4FCC-A0F7-381C573E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1FC3-285E-4BCA-A887-33F0EFDC6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F210-E30F-462C-8FD1-CC86B0D8A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E1A7-125D-44BC-99D7-D2133751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9D28-104B-48D6-AFA6-3623BF16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AC7B-D3E6-4F18-95EF-17134858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9D49-5257-40E4-B50F-F6EADAF7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9D52-9641-4B99-A53E-FE45037E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2106-4433-4CBC-9266-C1BEC319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CBDC-B85D-4E3B-877D-9BD4C35B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E8ED-D80E-46C1-A68A-0885BBD7A2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9A32-4C12-43D8-8C9A-8EDE608F5F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hrystone Benchmark</a:t>
            </a:r>
            <a:br>
              <a:rPr sz="4400"/>
            </a:b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                           Analysis &amp; Design Presentation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320004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jay Murth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FF5BB-CEBC-44B5-9431-464B7992011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develop team applications using the PARSA too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show how parallelism can be exploited in developing a Benchmark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easuring unit is in terms of dhrystones/seco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851E-8819-4B9D-947A-849B9F84CF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scrip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Unicode MS"/>
              </a:rPr>
              <a:t>Dhrystone Benchmark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 is entirely CPU bound, and goes blindingly fast on machines with high-speed cach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is is a good measure for programs that spend most of their time in some inner lo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It is a poor benchmark for I/O bound applicatio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E:The above info is got from the Interne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8FCE-76F0-4587-B0BC-2BD3D4D49F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chnolog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f  PARSA t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hance parallelis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ndards being adop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of Visual Objects to develop multithreaded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gram at one time. Codes can be generated for different types of machi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9D4D-4F65-4D4F-927D-5846103BAB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sourc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chine: Sun Ultra Sparc 3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S : SunOS 5.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SA to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crosoft Office for presen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n Workshop for Debugg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7AE0-D47E-4ACA-8E43-3B0C1A874BE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cedur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ce procedures basically make up the program, I am planning to exploit the function creation feature available in PARSA tool to develop multi threaded func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ter substitute this code in the original progra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tire Dhrystone program is divided to 12 proced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of them have loops while others spend their time in executing some statements sequential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DC2D-EAE9-44FE-8CD6-AECF173D77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cedures (contd.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exploit parallelism, look for procedures which spends most of their time in loops (or) procedures which can execute simultaneous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of the time in my program is spend on a single iterative loo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forall to provide parallelism t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w other procedures I can convert the while loops to while 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cedures called one after other which may act independently can be converted to gos and programmed to work simultaneous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3431-8DF8-44C5-A011-9F9C413DFA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urrent Statu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ccessful in converting a loop into  a forall G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expected delay while integrating this code with my main pr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w working with PARSA 1.2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dually planning to migrate to PARSA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6FFC-4BD5-42B8-8F3B-08B8C3A941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jay Murthi</cp:lastModifiedBy>
  <dcterms:modified xsi:type="dcterms:W3CDTF">2002-02-07T19:51:43Z</dcterms:modified>
  <cp:revision>8</cp:revision>
  <dc:subject/>
  <dc:title>PowerPoint Presentation</dc:title>
</cp:coreProperties>
</file>