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094-F6C8-4A83-854D-7433CF18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BCB-0B96-4BAD-8F24-D787512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59C-71E8-49E3-BFDD-CEA049E1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925-83C7-45A2-8897-09F9D5BB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CCAD-0FC3-4F4B-AC42-40399534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8A0E-8377-4285-9E77-0D882EFE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0103-FF08-479C-8124-00156640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1918-4A3E-4B3D-89D0-6C690E7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9EEE-37BD-412C-9060-B5F5710C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F334-F868-454C-BFEB-51EF83B4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272E-8220-45D9-ACBA-E3E5737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956-16C6-43F8-AF80-5BD377F7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159D-091C-4186-827D-ECE6F014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9DE6-4E75-44AB-A5A7-49538AE5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0CEE-F627-407D-989E-F41CA62A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9927-432A-4452-A143-B64EB435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2CF3-E494-4BFC-A57B-81A97B85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D92-DD8F-45C7-B221-269D14A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915-333E-40B8-AA0B-337D8C18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A94-CA42-43DE-9E91-3B6CB814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BA2-D6CE-40F4-B272-DC1BCFC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6ED-C0E1-4FD0-B47E-0F5BD70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6BD-0C63-4D6A-AF64-656C763A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B93-1EBC-4A8D-A477-E7B886F4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18CA-AF7F-44B1-8C5D-1D0836F9330C}" type="datetime">
              <a:rPr b="0" lang="en-US" sz="1200" spc="-1" strike="noStrike">
                <a:solidFill>
                  <a:srgbClr val="ffff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72C6-843A-4D7E-8DB3-B13088BAD660}" type="slidenum">
              <a:rPr b="0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BE15-C8A7-4695-8E22-C634722B28A7}" type="datetime">
              <a:rPr b="0" lang="en-US" sz="1200" spc="-1" strike="noStrike">
                <a:solidFill>
                  <a:srgbClr val="ffff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4FC5-7721-443C-9D2E-23C002E2DD6B}" type="slidenum">
              <a:rPr b="0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BANDUNG COMPARATIVE STUDY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FE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5011-CE7B-47FE-BF7D-48ED9E83D56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B697C4-CF4E-4838-B84F-5E33FD52956C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UJU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ningkatkan kinerja lembaga kemahasiswaan demi mewujudkan kontribusi berupa pelayanan kepada mahasiswa FEU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mbentuk karakter organisasi yang peduli terhadap dinamika permasalahan masyarakat dan bangs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mpererat hubungan baik antar lembaga kemahasiswaan di lingkungan FEU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mperluas jalinan kerjasama dengan lembaga – lembaga kemahasiswaan eksternal kamp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mperkaya budaya organisassi dengan melakukan studi komparas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93C-21DE-4B29-8969-F8A26D6609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83AC6-AAC6-4831-9A7F-95619466431E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ESERTA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dan pengurus harian ( BPH ) beserta Kepala departemen &amp; biro SMFEUI atau mereka yang mewakiliny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wakilan dari Unit Kegiatan Fakultas ( UKF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wakilan dari Badan Semi Otonom ( BSO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wakilan dari Badan Otonom ( BO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6E6-7776-4308-AC25-D84F8BD3C9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C6F3F-C30A-4CAF-B476-EF73E8F6A29D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TRUKTUR LEMBAGA KEMAHASISWAAN FEU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2016000" y="1881360"/>
            <a:ext cx="2448000" cy="64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JELIS MAHASISW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2852640"/>
            <a:ext cx="244800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897360"/>
            <a:ext cx="2448000" cy="64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MFEU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5013360"/>
            <a:ext cx="2448000" cy="64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3897360"/>
            <a:ext cx="2448000" cy="64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DAN OTON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08360" y="242100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43280" y="342900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47372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6720" y="2349360"/>
            <a:ext cx="2627280" cy="1079640"/>
          </a:xfrm>
          <a:custGeom>
            <a:avLst/>
            <a:gdLst>
              <a:gd name="textAreaLeft" fmla="*/ 468000 w 2627280"/>
              <a:gd name="textAreaRight" fmla="*/ 1649160 w 262728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00" hR="21600" stAng="10800000" swAng="5400000"/>
                <a:lnTo>
                  <a:pt x="9709" y="0"/>
                </a:lnTo>
                <a:arcTo wR="7700" hR="21600" stAng="-5400000" swAng="2643856"/>
                <a:lnTo>
                  <a:pt x="21126" y="14135"/>
                </a:lnTo>
                <a:lnTo>
                  <a:pt x="16404" y="21600"/>
                </a:lnTo>
                <a:lnTo>
                  <a:pt x="10733" y="14135"/>
                </a:lnTo>
                <a:lnTo>
                  <a:pt x="14925" y="14135"/>
                </a:lnTo>
                <a:arcTo wR="7700" hR="21600" stAng="-2756144" swAng="-2482725"/>
                <a:lnTo>
                  <a:pt x="8704" y="185"/>
                </a:lnTo>
                <a:arcTo wR="7700" hR="21600" stAng="-5561131" swAng="-5238869"/>
                <a:close/>
              </a:path>
              <a:path fill="darkenLess" w="21600" h="21600">
                <a:moveTo>
                  <a:pt x="0" y="21600"/>
                </a:moveTo>
                <a:arcTo wR="7700" hR="21600" stAng="10800000" swAng="5400000"/>
                <a:lnTo>
                  <a:pt x="7700" y="0"/>
                </a:lnTo>
                <a:arcTo wR="7700" hR="21600" stAng="-5400000" swAng="161131"/>
                <a:lnTo>
                  <a:pt x="8704" y="185"/>
                </a:lnTo>
                <a:arcTo wR="7700" hR="21600" stAng="-5561131" swAng="-5238869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4FA-3424-4990-937E-E8C0F76D4D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BF31D-2E64-4C42-AE12-2D0299824501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opic Tw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ails about this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ing information and ex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it relates to your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D7BB-113B-4744-8A83-5405E8FC67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06172-660D-4900-8016-0E30EC0C992E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opic Thre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ails about this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ing information and examp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it relates to your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903-7560-47FE-A647-6123C5FD6A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A3F27-0A90-41BF-A5C0-F6EC6084A48A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al Lif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 an example or real life anecdo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mpathize with the audience’s situation if appropri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FC5-7F09-46ED-8CE7-DF3D737501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EDAE7-A284-40C1-8B84-5CE784ADF1E5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What This Mean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a strong statement that summarizes how you feel or think about this top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key points you want your audience to re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569-954A-41F4-952D-50C9378A07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10517-D672-4621-9A23-7B05AF7E1A22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ext Step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any actions required of your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any follow up action items required of y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BDC-8E7B-42BF-B39B-D10F5D85CC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F420C-D5A8-4951-B118-DB82C72C5ACB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kri husin</cp:lastModifiedBy>
  <dcterms:modified xsi:type="dcterms:W3CDTF">2003-03-30T00:31:0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