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FC9-5049-47EC-9C0A-2A73495B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520-3468-4F9C-B1DC-A40C74AB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115-5FC9-4F6D-A91E-F17CDDAD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519-9CD8-4FC2-B60C-C70ABEC9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2C4-AFA5-4085-8ACD-FC912A85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D57-1CD5-4E7C-9A99-92D5ABF6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E24-CB94-4729-B6FB-40E4453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E21-FF37-4BE6-95DD-95FCADD9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ED2-8B3B-488E-89E2-7C84EEE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B80-2DA8-4B0E-8FDC-7CF7A39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581-4D1F-48D2-AC25-98A1D22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D7A-5478-4A8B-82ED-68DA3D4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95C-A275-42B9-AB49-3FDD67B5F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60020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3S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352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me is 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4586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resenter: Vanessa D’So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9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6858000" cy="509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1187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193840"/>
            <a:ext cx="5181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SL Creative, Inc. (“3SL”) is currently a leading full service creative studio and print solutions provider based in New York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ed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1911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 http://www.3slcreative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-685800" y="-50760"/>
            <a:ext cx="10515600" cy="699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304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144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the global leading provider of ‘Creative Process Outsourcing’ and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5909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trength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352680"/>
            <a:ext cx="4876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ong team of 3 Visual Designers, 2 Creative Directors (1 Print, 1 Interactive Media)  based in the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ilding a strong India team of Visual  and Interface Des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" descr=""/>
          <p:cNvPicPr/>
          <p:nvPr/>
        </p:nvPicPr>
        <p:blipFill>
          <a:blip r:embed="rId1"/>
          <a:stretch/>
        </p:blipFill>
        <p:spPr>
          <a:xfrm>
            <a:off x="-76320" y="-334800"/>
            <a:ext cx="9448920" cy="729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72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xperti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19320"/>
            <a:ext cx="419112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nd identity an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and Strategy * Brand Application * Brand Architecture * Corporate Color &amp; Font Fami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eb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site Design and development * Application development (focus on in software usability and interaction design * Accessibility &amp; web standards (Web 2.0) * Flash animations &amp; applications * Email Marketing &amp; News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talogs * Annual Reports * Ad Campaigns * Direct Mail  * Posters  * Broch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nner Animations  * Multimedia Presentations * CD/DVD-r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0" descr=""/>
          <p:cNvPicPr/>
          <p:nvPr/>
        </p:nvPicPr>
        <p:blipFill>
          <a:blip r:embed="rId1"/>
          <a:stretch/>
        </p:blipFill>
        <p:spPr>
          <a:xfrm>
            <a:off x="-304920" y="-108000"/>
            <a:ext cx="10058400" cy="718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577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isk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295280"/>
            <a:ext cx="259056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turn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nomic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ume of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w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4159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ppone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4873680"/>
            <a:ext cx="3048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ining Uni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 and Kesha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man Factors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7" descr=""/>
          <p:cNvPicPr/>
          <p:nvPr/>
        </p:nvPicPr>
        <p:blipFill>
          <a:blip r:embed="rId1"/>
          <a:stretch/>
        </p:blipFill>
        <p:spPr>
          <a:xfrm>
            <a:off x="-762120" y="-109440"/>
            <a:ext cx="10363320" cy="7075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42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19320"/>
            <a:ext cx="51055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ong existing clientele /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e up with VC fi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zz about 3SL on blog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de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ustry Organizations and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4" descr=""/>
          <p:cNvPicPr/>
          <p:nvPr/>
        </p:nvPicPr>
        <p:blipFill>
          <a:blip r:embed="rId1"/>
          <a:stretch/>
        </p:blipFill>
        <p:spPr>
          <a:xfrm>
            <a:off x="-990720" y="-195120"/>
            <a:ext cx="11125440" cy="7248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2362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oney Matt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170160"/>
            <a:ext cx="4419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 Investment: US $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nnual run rate: $5,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ed: $2m-$4m within 24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5" descr=""/>
          <p:cNvPicPr/>
          <p:nvPr/>
        </p:nvPicPr>
        <p:blipFill>
          <a:blip r:embed="rId1"/>
          <a:stretch/>
        </p:blipFill>
        <p:spPr>
          <a:xfrm>
            <a:off x="-762120" y="-79200"/>
            <a:ext cx="10591920" cy="7067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3625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3:33:50Z</dcterms:created>
  <dc:creator>user</dc:creator>
  <dc:description/>
  <dc:language>en-US</dc:language>
  <cp:lastModifiedBy>user</cp:lastModifiedBy>
  <dcterms:modified xsi:type="dcterms:W3CDTF">2007-05-26T14:23:22Z</dcterms:modified>
  <cp:revision>15</cp:revision>
  <dc:subject/>
  <dc:title>PowerPoint Presentation</dc:title>
</cp:coreProperties>
</file>