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8B6-ABFA-4033-94AD-32394D1D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1AB-C5E7-414A-B792-E895960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0ED-B8A4-4856-88CD-AFDE28C1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DA5-593A-41CC-BED8-2224BDDB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2F5-CDA0-4D9F-9541-B7518134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72E4-BC61-49FB-8288-AD71598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DF72-39CE-432A-850D-AB8EF3D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F78C-4A5F-4422-B9A9-C5DF57A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56F-32C9-4634-9DA1-AC1750B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E72D-C7EF-4F93-A4ED-DA12BE7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FB12-8BF5-4661-9171-CF89FF30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55C-1443-46F5-92C0-B95322C4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212-FB1E-4DE4-8E77-DD0D6C1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7AE-53F9-49BF-89DE-496EC38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9D0D-F4FF-40F3-BACA-B47572C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913D-921D-4EE5-B342-4DCB3115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70B-360A-4585-9B46-5E83B0E9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92F-A3CA-4A4A-AC2A-F8B8F7A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FA6-0344-47E4-8408-6798920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B12-A4B3-49A1-9098-DDC576C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218-DE33-4B5B-AE2B-E867AA1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C24-4870-4F9F-87B4-D5F2A59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562-983F-476A-9182-6DA7EA85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108-858E-4E2C-90A0-226EE3D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CD7-7AFF-403B-B3DE-EB2E19175F9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030-3B26-441D-8679-1C674C6DF80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INSTALLATION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LINUX RUNS ON A VARIETY OF  COMPUTING PLATFORMS UNMATCHED BY ANY OTHER OPERATING SYSTEM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T HAS VERY MINIMAL SYSTEM REQUIREMENTS COMPARED TO OTHER OPERATING SYSTEM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N INTEL PLATFORM LINUX CAN BE BOOTED FROM FLOPPY AND  RUN  ON A MACHINE WITH A MINIMAL REQUIREMENT OF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 i ) 386 SERIES CPU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ii ) 4MB OF R.A.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iii) FLOPPY DRIV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iv) VGA VIDE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DER INTEL PLATFORM LINUX CAN SUPPORT UPTO   2GB OF R.A.M.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tuxtricks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158904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03:36:14Z</dcterms:created>
  <dc:creator>Ashwin</dc:creator>
  <dc:description/>
  <dc:language>en-US</dc:language>
  <cp:lastModifiedBy>ANIL KUMAR</cp:lastModifiedBy>
  <dcterms:modified xsi:type="dcterms:W3CDTF">2000-08-20T20:29:26Z</dcterms:modified>
  <cp:revision>14</cp:revision>
  <dc:subject/>
  <dc:title>INSTALLATION REQUIREMENTS</dc:title>
</cp:coreProperties>
</file>