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2B2-30B0-42DA-9F71-537E3D34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AA2-954E-4737-B289-A53CBB50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18B-3CD0-4B22-9F0C-3BB90DD2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5DD-B7D8-4EAD-BCD9-C65AC426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7F3-FC04-457D-991C-D60E5281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88A-3AC2-40C2-AE8C-E073DFCB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80C-B1E2-4CF1-8DC7-75AB8600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60D-95F7-43C3-9574-2784DB6E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B6E-B1F2-4E5F-A88C-52B309D9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DB3-4B32-4873-94C9-14C761EB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D97-91EA-4ED6-975D-D7680858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185-89B5-4C6A-97B0-59D3D3E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4BCA-4DED-4C9E-AA8B-D8482F359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INUX DISTRIBU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e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0000"/>
                </a:solidFill>
                <a:latin typeface="Times New Roman"/>
              </a:rPr>
              <a:t>THE LINUX KERNEL IS PACKAGED INTO DISTRIBUTIONS,WITH ADDED APPLICATIONS AND UT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e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0000"/>
                </a:solidFill>
                <a:latin typeface="Times New Roman"/>
              </a:rPr>
              <a:t>THESE DISTRIBUTIONS ARE MANTAINED BY BOTH COMMERCIAL AND VOLUNTE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2e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0000"/>
                </a:solidFill>
                <a:latin typeface="Times New Roman"/>
              </a:rPr>
              <a:t>THE MAIN ADVANTAGE OF BUYING FROM A RETAILER IS THAT YOU WILL GET TECHNICAL SUPPORT,A MANUAL AND ADDITIONAL SOFTWARE PACKAGES.</a:t>
            </a:r>
            <a:r>
              <a:rPr b="0" lang="en-US" sz="3200" spc="-1" strike="noStrike">
                <a:solidFill>
                  <a:srgbClr val="2e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e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0000"/>
                </a:solidFill>
                <a:latin typeface="Times New Roman"/>
              </a:rPr>
              <a:t>SOME OF THE POPULAR DISTRIBUTI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0000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2e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2e0000"/>
                </a:solidFill>
                <a:latin typeface="Times New Roman"/>
              </a:rPr>
              <a:t>ED </a:t>
            </a:r>
            <a:r>
              <a:rPr b="1" lang="en-US" sz="2800" spc="-1" strike="noStrike">
                <a:solidFill>
                  <a:srgbClr val="2e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2e0000"/>
                </a:solidFill>
                <a:latin typeface="Times New Roman"/>
              </a:rPr>
              <a:t>AT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0000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2e0000"/>
                </a:solidFill>
                <a:latin typeface="Times New Roman"/>
              </a:rPr>
              <a:t>CALDERA</a:t>
            </a:r>
            <a:r>
              <a:rPr b="1" lang="en-US" sz="2400" spc="-1" strike="noStrike">
                <a:solidFill>
                  <a:srgbClr val="2e0000"/>
                </a:solidFill>
                <a:latin typeface="Times New Roman"/>
              </a:rPr>
              <a:t> OPE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0000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2e0000"/>
                </a:solidFill>
                <a:latin typeface="Times New Roman"/>
              </a:rPr>
              <a:t>SuSE </a:t>
            </a:r>
            <a:r>
              <a:rPr b="1" lang="en-US" sz="2400" spc="-1" strike="noStrike">
                <a:solidFill>
                  <a:srgbClr val="2e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use2" descr=""/>
          <p:cNvPicPr/>
          <p:nvPr/>
        </p:nvPicPr>
        <p:blipFill>
          <a:blip r:embed="rId2"/>
          <a:stretch/>
        </p:blipFill>
        <p:spPr>
          <a:xfrm>
            <a:off x="1447920" y="5943600"/>
            <a:ext cx="990360" cy="452520"/>
          </a:xfrm>
          <a:prstGeom prst="rect">
            <a:avLst/>
          </a:prstGeom>
          <a:ln w="0">
            <a:noFill/>
          </a:ln>
        </p:spPr>
      </p:pic>
      <p:pic>
        <p:nvPicPr>
          <p:cNvPr id="44" name="redhat-292" descr=""/>
          <p:cNvPicPr/>
          <p:nvPr/>
        </p:nvPicPr>
        <p:blipFill>
          <a:blip r:embed="rId3"/>
          <a:stretch/>
        </p:blipFill>
        <p:spPr>
          <a:xfrm>
            <a:off x="1447920" y="4876920"/>
            <a:ext cx="990360" cy="466560"/>
          </a:xfrm>
          <a:prstGeom prst="rect">
            <a:avLst/>
          </a:prstGeom>
          <a:ln w="0">
            <a:noFill/>
          </a:ln>
        </p:spPr>
      </p:pic>
      <p:pic>
        <p:nvPicPr>
          <p:cNvPr id="45" name="Caldera" descr=""/>
          <p:cNvPicPr/>
          <p:nvPr/>
        </p:nvPicPr>
        <p:blipFill>
          <a:blip r:embed="rId4"/>
          <a:stretch/>
        </p:blipFill>
        <p:spPr>
          <a:xfrm>
            <a:off x="1447920" y="5410080"/>
            <a:ext cx="99036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D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T LINUX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THE MOST POPULAR OF ALL LINUX DISTRIB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1995,RED HAT HAS QUICK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KNOWN FOR ITS QUALITY AND EASE OF INSTAL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HAT IS ONE OF THE FIRST AND  MOST HIGH QUALITY DISTRIBUTION FOR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RED HAT’S MOST IMPORTANT CONTRIBUTION WAS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P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 HAT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AGE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GER.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P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TOOL TO MAKE INSTALLING AND REMOVING IN LINUX EAS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hadowman-200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ALDERA OPEN LINUX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PRIMARILY A DISTRIBUTION AIMED AT BUSINESS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DERA OPEN LINUX CAN BE INSTALLED FROM MICROSOFT 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NCLUDES A SPECIAL EDITION OF PARTITION MAGIC,A TOOL TO MAKE ROOM FOR LINUX ON AN EXISTING  WINDOWS INSTAL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aldera" descr=""/>
          <p:cNvPicPr/>
          <p:nvPr/>
        </p:nvPicPr>
        <p:blipFill>
          <a:blip r:embed="rId2"/>
          <a:stretch/>
        </p:blipFill>
        <p:spPr>
          <a:xfrm>
            <a:off x="0" y="533520"/>
            <a:ext cx="1676520" cy="83808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SuSE LINUX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E IS RAPIDLY GROWING AS ONE OF THE LARGEST SELLING LINUX DISTRIB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E INCLUDES A LARGE NUMBER OF SOFTWARES BOTH FREE AND COM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E COMES IN 5 CD-ROMS ALL TOTALLING NEARLY 1,000 APPLICATIONS AND UT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use1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066680" cy="71928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endshow"/>
          </p:cNvPr>
          <p:cNvSpPr/>
          <p:nvPr/>
        </p:nvSpPr>
        <p:spPr>
          <a:xfrm>
            <a:off x="822960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05:05:55Z</dcterms:created>
  <dc:creator>Ashwin</dc:creator>
  <dc:description/>
  <dc:language>en-US</dc:language>
  <cp:lastModifiedBy>ANIL KUMAR</cp:lastModifiedBy>
  <dcterms:modified xsi:type="dcterms:W3CDTF">2000-08-20T21:34:25Z</dcterms:modified>
  <cp:revision>33</cp:revision>
  <dc:subject/>
  <dc:title>LINUX DISTRIBUTIONS</dc:title>
</cp:coreProperties>
</file>