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D31-52B5-4DED-8FDD-08D0B776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50E-A262-49BC-980C-B88B93D9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B0F-F2E2-4F9E-9C0A-0B107EB2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414-99A7-408D-8FD2-0116AE46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F83-E79A-4E33-B076-BA957DC2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2E3-6934-41D7-BC71-5E86BD36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5C6-528D-4186-B09E-F80DD475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FB6-E6B9-4A44-A581-BAFF66AA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603-F206-4771-BBA3-F25DBC93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A14-B2FF-4C5E-AD84-5C944609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94F-A6C0-4B0E-B5F6-91F7914A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BB7-FA68-4E63-AB25-C41FCF4E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9582-3BD0-4ED9-A855-56EEAE506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228600"/>
            <a:ext cx="1295280" cy="1066680"/>
            <a:chOff x="304920" y="228600"/>
            <a:chExt cx="1295280" cy="1066680"/>
          </a:xfrm>
        </p:grpSpPr>
        <p:sp>
          <p:nvSpPr>
            <p:cNvPr id="42" name="Gear"/>
            <p:cNvSpPr/>
            <p:nvPr/>
          </p:nvSpPr>
          <p:spPr>
            <a:xfrm>
              <a:off x="1023120" y="228600"/>
              <a:ext cx="577080" cy="488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430200"/>
              <a:ext cx="690120" cy="5846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52400" y="645840"/>
              <a:ext cx="766800" cy="649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>
            <a:hlinkClick r:id="" action="ppaction://hlinkshowjump?jump=endshow"/>
          </p:cNvPr>
          <p:cNvSpPr/>
          <p:nvPr/>
        </p:nvSpPr>
        <p:spPr>
          <a:xfrm>
            <a:off x="79246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530280"/>
          <a:ext cx="7658280" cy="5337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30280"/>
                    <a:ext cx="765828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5T20:03:16Z</dcterms:created>
  <dc:creator>ANIL KUMAR</dc:creator>
  <dc:description/>
  <dc:language>en-US</dc:language>
  <cp:lastModifiedBy>ANIL KUMAR</cp:lastModifiedBy>
  <dcterms:modified xsi:type="dcterms:W3CDTF">2000-08-20T21:35:36Z</dcterms:modified>
  <cp:revision>31</cp:revision>
  <dc:subject/>
  <dc:title>WHAT IS LINUX</dc:title>
</cp:coreProperties>
</file>