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79F-A22B-44BA-AA7F-C51256D1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A7A-B5DA-4F52-BDD9-270A963F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02C-C268-4E35-938A-E7CFA480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C37-6833-4A49-9DB5-C84D2B9D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5F8-E753-4850-A653-D0F6E676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173-51F7-46E4-8859-A65634D6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677-40F0-4E23-9AAC-CBC03F0F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A54-5A7B-49BC-9E62-0DFBE61E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E82-F7A0-4A6A-B2B8-FAC8D95F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52D-72FF-472F-BFFD-29D3172B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083-6595-4BDC-8EB6-2AB252BD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32F-51D1-4052-808D-1E50280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2F0E-05C2-40A9-BAF9-79C0E5A5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GN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’s 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 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GNU  PROJECT WAS FOUND B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ICHARD STALLMAN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 IN 1984 TO DEVELOP A COMPLETELY FREE UNIX LIKE 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THIS PROJECT IS FUNDED BY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RE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OFTWAR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OUNDATION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SF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THE COMMON SET OF TOOLS CONTAINED WITHIN ALL THE LINUX DISTRIBUTIONS ARE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NU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 UTILITIES.</a:t>
            </a: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ng-BLINK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23660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5T23:39:33Z</dcterms:created>
  <dc:creator>ashwin</dc:creator>
  <dc:description/>
  <dc:language>en-US</dc:language>
  <cp:lastModifiedBy>ANIL KUMAR</cp:lastModifiedBy>
  <dcterms:modified xsi:type="dcterms:W3CDTF">2000-08-20T21:35:02Z</dcterms:modified>
  <cp:revision>17</cp:revision>
  <dc:subject/>
  <dc:title>GNU-Gnu’s Not Unix</dc:title>
</cp:coreProperties>
</file>