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C6E-CBDA-46F6-ADAA-75F09092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83A-23BB-443C-A54D-6FBCB65F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FE6-0703-485D-BE8C-5F25267B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DD2-41F8-4956-933E-76ED2691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65F-178C-4645-BE87-AF202E27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83E5-020B-4908-9C8C-72CBBEB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6E2-9981-4CF1-825E-08D718D1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E685-DCAC-4FBC-92E4-5ADE148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531-69F0-46C5-B0E8-494816D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447E-CC1C-4871-8171-66AC46E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4A68-D7E8-4B97-90AA-0354DA6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8DE-A320-459C-9CBD-6FECF6A0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3845-AD56-4F45-BF03-F34B8F7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52B8-C79C-4CEE-9677-5939FFE1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FF23-0B46-48E3-B094-465E46A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F6BC-B184-48B8-91CB-1C82A054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90B7-62A4-4DDD-B53D-BEB7ACA2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643-40E9-4D61-B762-A5795354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058-752E-4C72-BF78-2D35E3A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73C-9359-4110-90A3-7AABDFA5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B56-2E68-4A4E-A0C6-39B18FB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445-788B-4D89-95F8-C4ED07F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CEC-E9BE-4B59-814F-D7A6B5C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76C-BB3E-4E6E-A6E1-5173153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5CF-E6BF-4825-85B6-73B7DE374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224B-5A4C-403D-8E1E-209C8B52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HOME.pp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782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Lucida Sans"/>
              </a:rPr>
              <a:t>BEGINNING OF LINUX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MANY GREAT IDEAS OR INVEN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BORN OF HUMBLE BEGIN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1 </a:t>
            </a:r>
            <a:r>
              <a:rPr b="1" i="1" lang="en-US" sz="2800" spc="-1" strike="noStrike">
                <a:solidFill>
                  <a:srgbClr val="3694b6"/>
                </a:solidFill>
                <a:latin typeface="Times New Roman"/>
              </a:rPr>
              <a:t>LINUS TORVALD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UDENT OF UNIVERSITY OF FINLAND BEGAN WORKING ON A OPERATING SYSTEM OF HIS 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IRST PROTOTYPE VERSION  O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BORN IN AUGUST 199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3716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NUS TORVAL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w-03-torvalds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Lucida Sans"/>
              </a:rPr>
              <a:t>EVOLUTION OF LINUX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S TORVALDS POSTED HIS RESULTS ON THE INTERNET NEWSGROUP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COMP.OS.MI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AVE OTHER DEVELOPERS THE ABILITY TO SCRUTINIZE HIS WORK AND CONTRIBUTE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LINUX HAS EVOLVED INTO A FULL BLOWN OPERATING SYSTEM THAT,IN MANY WAYS,RIVALS  COMMERCIAL OPERATING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luster_logo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914400" cy="9824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endshow"/>
          </p:cNvPr>
          <p:cNvSpPr/>
          <p:nvPr/>
        </p:nvSpPr>
        <p:spPr>
          <a:xfrm>
            <a:off x="82296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09:35:06Z</dcterms:created>
  <dc:creator>ANIL KUMAR</dc:creator>
  <dc:description/>
  <dc:language>en-US</dc:language>
  <cp:lastModifiedBy>ANIL KUMAR</cp:lastModifiedBy>
  <dcterms:modified xsi:type="dcterms:W3CDTF">2000-08-20T19:24:56Z</dcterms:modified>
  <cp:revision>19</cp:revision>
  <dc:subject/>
  <dc:title>BEGINNING OF LINUX</dc:title>
</cp:coreProperties>
</file>