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5B3-89BC-4363-89A6-C35ECEB9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518-E746-42F7-8944-A546EC1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5B4-A670-4D0E-9728-BC7A189E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227-BFF5-4B54-A2B4-5C16C32F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F22-4B1E-4C53-9805-A116372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18B-122E-442E-A322-B7A4476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05B-A3D8-4434-9B88-90E16E2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95D-7074-4510-B776-CC050CA3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BB0-D99F-4D6C-8BFA-8326F0C9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CF6-F7BD-4E1A-B964-348189F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5B0-0479-4958-9270-C906DAC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2F2-4298-403C-9B40-BEE7270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CEBE-E5F6-4526-833E-EFA67E132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Lucida Sans"/>
              </a:rPr>
              <a:t>WHAT IS  </a:t>
            </a:r>
            <a:r>
              <a:rPr b="1" i="1" lang="en-US" sz="4800" spc="-1" strike="noStrike">
                <a:solidFill>
                  <a:srgbClr val="a50021"/>
                </a:solidFill>
                <a:latin typeface="Lucida Sans"/>
              </a:rPr>
              <a:t>LINUX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NUX IS AN OPERATING SYSTEM WHICH IS BEING APPLIED TO EVERYTHING FROM HAND HELD DEVICES TO CLU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RS OF LARGE COMPUTERS HANDLING MILLIONS OF TRNSACTION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, WITH THE IMPROVEMENT THAT HAVE  BEEN MADE TO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GUI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FACE, LINUX IS MAKING  ITS MOVE TO THE DESKT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UXCOMP1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152388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5T21:28:25Z</dcterms:created>
  <dc:creator>ashwin</dc:creator>
  <dc:description/>
  <dc:language>en-US</dc:language>
  <cp:lastModifiedBy>ANIL KUMAR</cp:lastModifiedBy>
  <dcterms:modified xsi:type="dcterms:W3CDTF">2000-08-20T21:35:22Z</dcterms:modified>
  <cp:revision>28</cp:revision>
  <dc:subject/>
  <dc:title>INTRODUCTION TO LINUX</dc:title>
</cp:coreProperties>
</file>