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EFB5-7C85-4070-BA10-311DB53D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D4E0-F016-41F0-9E12-E2131259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2A1B-CC2E-456C-AE57-BCA22F29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FDA3-4372-4BAC-BB08-7707CA81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8BF6-D2D1-4B5C-87D1-6114F2E8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D6D9-562F-48ED-BC09-3844A016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781E-EC8A-46E2-A606-06BD2B2A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1750-16F6-4D00-8984-9052885C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3FA3-D839-4944-ACEA-991AC3A8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C95D-202F-4EFA-B98B-002DD0FF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5493-1502-43CE-8E86-DDEB7C0F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AF50-2F8E-47DB-8D32-32934547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4F20-4634-45C5-93E5-1B5C54FF8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INTRODUCTION.ppt" TargetMode="External"/><Relationship Id="rId4" Type="http://schemas.openxmlformats.org/officeDocument/2006/relationships/hyperlink" Target="file:///BEG_EVL.ppt" TargetMode="External"/><Relationship Id="rId5" Type="http://schemas.openxmlformats.org/officeDocument/2006/relationships/hyperlink" Target="file:///WHAT.ppt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tuxsit-confused" descr=""/>
          <p:cNvPicPr/>
          <p:nvPr/>
        </p:nvPicPr>
        <p:blipFill>
          <a:blip r:embed="rId2"/>
          <a:stretch/>
        </p:blipFill>
        <p:spPr>
          <a:xfrm>
            <a:off x="5486400" y="304920"/>
            <a:ext cx="4113360" cy="441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480" y="152280"/>
            <a:ext cx="7010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Times New Roman"/>
              </a:rPr>
              <a:t>LINU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BEGINNING &amp;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WHAT IS KERN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Y USE LINU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-WINDOW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STALLATION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 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NUX DIS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endshow"/>
          </p:cNvPr>
          <p:cNvSpPr/>
          <p:nvPr/>
        </p:nvSpPr>
        <p:spPr>
          <a:xfrm>
            <a:off x="8077320" y="60958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6986" y="10800"/>
                </a:moveTo>
                <a:lnTo>
                  <a:pt x="6481" y="17806"/>
                </a:lnTo>
                <a:lnTo>
                  <a:pt x="6481" y="3794"/>
                </a:lnTo>
                <a:close/>
              </a:path>
              <a:path fill="darken" w="26975" h="21600">
                <a:moveTo>
                  <a:pt x="18831" y="3794"/>
                </a:moveTo>
                <a:lnTo>
                  <a:pt x="18831" y="17806"/>
                </a:lnTo>
                <a:lnTo>
                  <a:pt x="20494" y="17806"/>
                </a:lnTo>
                <a:lnTo>
                  <a:pt x="20494" y="3794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01000" y="6400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5T09:21:45Z</dcterms:created>
  <dc:creator>ANIL KUMAR</dc:creator>
  <dc:description/>
  <dc:language>en-US</dc:language>
  <cp:lastModifiedBy>ANIL KUMAR</cp:lastModifiedBy>
  <dcterms:modified xsi:type="dcterms:W3CDTF">2000-12-22T18:03:34Z</dcterms:modified>
  <cp:revision>42</cp:revision>
  <dc:subject/>
  <dc:title>LINUX</dc:title>
</cp:coreProperties>
</file>