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E29-ACB0-4E8E-A12E-A4D21D4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8AE-652F-4DDA-976E-48673A6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134-CB20-49CD-850F-AD00DC69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048-261C-4F82-87F2-0833F1CB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718E-7128-4F04-980C-6E761654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811-C71C-4951-9462-749F1ED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DDA3-75C5-4C89-BD23-4B82EF8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EE5-AA78-4C5D-B569-958BC03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1AC8-B71C-420E-8156-5570CAE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77F-CCAE-4095-9CAA-5E7D5F5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773-A06C-4C26-87C6-FC39DF4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8EC-5DE0-4E84-8BF0-44C0C01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ACDA-CDE7-42D0-A153-1ABEAAF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451-3B70-4E22-B7DF-0CD7B43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8B6-D108-40B3-B44F-7AC7D69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ADC8-2AFC-46C3-8447-5AEF7C2D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D35-5B2E-4F90-8A98-35215FF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70F-EBA3-45B7-A778-D6D70525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1B9-41F9-4D99-814A-1371F56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288-C62E-4000-A3DB-8948F60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77E-99B3-49E1-87DF-FCB29F20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5B4-6C99-4B5E-80A5-B8DAC3B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0CE-A19B-4BF8-9292-D48C346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1F6-8099-4643-9AC5-3353709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A177-EC8B-42E3-A648-6FD9E8639C7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FE5E-A74A-47D6-9C02-4367AD1077D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</a:t>
            </a: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-WINDOW SYSTEM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WINDOW SYSTEM IS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U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INTERFACE FOR LINUX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T WAS ORIGINALLY MADE TO PROVIDE MOUSE AND WINDOWING CAPABILITIES TO UNIX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VERY ATTEMPT WAS MADE TO MAKE THE SYSTEM AS PORTABLE AS POSSIBLE WITH A HOPE OF SINGLE STANDARD INTERFAC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 MOST POPULAR DESKTOP SYSTEMS IN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N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work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jec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ul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vironmen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i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kt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gnome-logo-large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kde_K" descr=""/>
          <p:cNvPicPr/>
          <p:nvPr/>
        </p:nvPicPr>
        <p:blipFill>
          <a:blip r:embed="rId3"/>
          <a:stretch/>
        </p:blipFill>
        <p:spPr>
          <a:xfrm>
            <a:off x="228600" y="548640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04:53:25Z</dcterms:created>
  <dc:creator>Ashwin</dc:creator>
  <dc:description/>
  <dc:language>en-US</dc:language>
  <cp:lastModifiedBy>ANIL KUMAR</cp:lastModifiedBy>
  <dcterms:modified xsi:type="dcterms:W3CDTF">2000-08-20T20:28:46Z</dcterms:modified>
  <cp:revision>14</cp:revision>
  <dc:subject/>
  <dc:title>THE X-WINDOW SYSTEM</dc:title>
</cp:coreProperties>
</file>