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568-7B0D-4A25-83E0-FC44E3F1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9D6-47A5-4269-AFB0-EB740EA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75F-1678-45D4-8BDB-FE605552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EF3-9C24-42CF-A448-85EC2C93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6A2-6310-480F-8DE1-5B562F3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8B8-8500-426B-BADD-F2DE3DF8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394-20C4-43E6-8BA2-E3123C34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BF0-0035-4E87-814D-243EA036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19C-42D6-4E46-9C17-8576604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B2E-CD90-4E36-9FB7-E8097A0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CEB-F7B5-4AEE-8B29-165251E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CB7-F32A-41E0-B701-587B48F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FD3F-216E-4951-BCD4-B13C9F57C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00000"/>
                </a:solidFill>
                <a:latin typeface="Times New Roman"/>
              </a:rPr>
              <a:t>FU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T IS THE ROCK-HARD STABILITY,SECURITY AND RELIABILITY THAT IS LIKED BY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INUX IS THE BEST NETWORK OPERATING SYSTEM. HENCE MOST OF THE COMPANIES ARE USING LINUX 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A USER,THE PURPOSE OF COMPUTER IS RUNNING AN APPLICATION &amp; LINUX HAS LOTS OF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LMOST ALL COMPANIES DAY BY DAY ARE ANNOUNCING THEIR SUPPORT FOR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6663_" descr=""/>
          <p:cNvPicPr/>
          <p:nvPr/>
        </p:nvPicPr>
        <p:blipFill>
          <a:blip r:embed="rId2"/>
          <a:stretch/>
        </p:blipFill>
        <p:spPr>
          <a:xfrm>
            <a:off x="1066680" y="15552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03:22:35Z</dcterms:created>
  <dc:creator>Ashwin</dc:creator>
  <dc:description/>
  <dc:language>en-US</dc:language>
  <cp:lastModifiedBy>ANIL KUMAR</cp:lastModifiedBy>
  <dcterms:modified xsi:type="dcterms:W3CDTF">2000-08-20T21:34:49Z</dcterms:modified>
  <cp:revision>13</cp:revision>
  <dc:subject/>
  <dc:title>FUTURE</dc:title>
</cp:coreProperties>
</file>