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10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45F-85E0-407C-BB92-6AFD845E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A3E-442D-4515-9352-9191624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602-3CD5-4B09-BC87-4FE09B7C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F65-9AAB-4577-A6D1-05E3A0CD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34F-EE07-4416-A50C-9E57F98B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8B7-62A4-40EC-AE4C-6AC8863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B91-D246-48FC-8B51-76EC8757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1BB-33B0-43A4-9562-77FE77D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05A-B2C1-4ECD-98AF-F80BB989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2C6-AB5A-4218-AEEE-665D9FD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070-114D-4E78-BD07-4E918C7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7AA-C9C8-44EF-886B-50FE8D3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F812-21FD-498D-9F05-0F93A161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OW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INUX HAS THE ABILITY TO TRANSFORM THE HARDWARE INTO A POWERFUL, WELL TUNED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INUX  HAS ROCK-HARD STABILITY AND RELI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INUX HAS AWESOME MULTITASKING, IT CAN HANDLE MANY APPLICATIONS AT ONCE VERY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S IS BECAUSE LINUX IS ONE OF THE TIGHT,VERY EFFICIENT CODE BASED ON THE  UNIX MODEL OF COMPUTING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OWER1" descr=""/>
          <p:cNvPicPr/>
          <p:nvPr/>
        </p:nvPicPr>
        <p:blipFill>
          <a:blip r:embed="rId1"/>
          <a:stretch/>
        </p:blipFill>
        <p:spPr>
          <a:xfrm>
            <a:off x="1066680" y="0"/>
            <a:ext cx="1828800" cy="1598760"/>
          </a:xfrm>
          <a:prstGeom prst="rect">
            <a:avLst/>
          </a:prstGeom>
          <a:ln w="0">
            <a:noFill/>
          </a:ln>
        </p:spPr>
      </p:pic>
      <p:pic>
        <p:nvPicPr>
          <p:cNvPr id="44" name="POWER1" descr=""/>
          <p:cNvPicPr/>
          <p:nvPr/>
        </p:nvPicPr>
        <p:blipFill>
          <a:blip r:embed="rId2"/>
          <a:stretch/>
        </p:blipFill>
        <p:spPr>
          <a:xfrm>
            <a:off x="5791320" y="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NET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OUR WORLD IS CONSTANTLY BECOMING SMALL DUE TO PROLIFERATION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OST OF THE COMPANIES ARE SWITCHING TO LINUX BASED SERVERS &amp; WORK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INUX OFFRS SOME OF THE MOST POWERFUL ADVANTAGES IN THE AREA OF NET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INUX WAS DESIGNED FOR THE NETWORK,ON THE NETWORK AND BY THE NET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mp" descr=""/>
          <p:cNvPicPr/>
          <p:nvPr/>
        </p:nvPicPr>
        <p:blipFill>
          <a:blip r:embed="rId1"/>
          <a:stretch/>
        </p:blipFill>
        <p:spPr>
          <a:xfrm>
            <a:off x="533520" y="498600"/>
            <a:ext cx="137160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comp" descr=""/>
          <p:cNvPicPr/>
          <p:nvPr/>
        </p:nvPicPr>
        <p:blipFill>
          <a:blip r:embed="rId2"/>
          <a:stretch/>
        </p:blipFill>
        <p:spPr>
          <a:xfrm>
            <a:off x="7238880" y="422280"/>
            <a:ext cx="1371600" cy="94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1143000"/>
            <a:ext cx="6477120" cy="393840"/>
          </a:xfrm>
          <a:custGeom>
            <a:avLst/>
            <a:gdLst/>
            <a:ahLst/>
            <a:rect l="l" t="t" r="r" b="b"/>
            <a:pathLst>
              <a:path w="4080" h="248">
                <a:moveTo>
                  <a:pt x="0" y="0"/>
                </a:moveTo>
                <a:cubicBezTo>
                  <a:pt x="48" y="32"/>
                  <a:pt x="96" y="64"/>
                  <a:pt x="144" y="96"/>
                </a:cubicBezTo>
                <a:cubicBezTo>
                  <a:pt x="192" y="128"/>
                  <a:pt x="200" y="168"/>
                  <a:pt x="288" y="192"/>
                </a:cubicBezTo>
                <a:cubicBezTo>
                  <a:pt x="376" y="216"/>
                  <a:pt x="496" y="232"/>
                  <a:pt x="672" y="240"/>
                </a:cubicBezTo>
                <a:cubicBezTo>
                  <a:pt x="848" y="248"/>
                  <a:pt x="1120" y="240"/>
                  <a:pt x="1344" y="240"/>
                </a:cubicBezTo>
                <a:cubicBezTo>
                  <a:pt x="1568" y="240"/>
                  <a:pt x="1688" y="240"/>
                  <a:pt x="2016" y="240"/>
                </a:cubicBezTo>
                <a:cubicBezTo>
                  <a:pt x="2344" y="240"/>
                  <a:pt x="3056" y="240"/>
                  <a:pt x="3312" y="240"/>
                </a:cubicBezTo>
                <a:cubicBezTo>
                  <a:pt x="3568" y="240"/>
                  <a:pt x="3480" y="248"/>
                  <a:pt x="3552" y="240"/>
                </a:cubicBezTo>
                <a:cubicBezTo>
                  <a:pt x="3624" y="232"/>
                  <a:pt x="3656" y="232"/>
                  <a:pt x="3744" y="192"/>
                </a:cubicBezTo>
                <a:cubicBezTo>
                  <a:pt x="3832" y="152"/>
                  <a:pt x="3956" y="76"/>
                  <a:pt x="4080" y="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E SOURC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LINUX COMES WITH THE SOURCE CODE.IF YOU DON’T LIKE THE WAY THE SYSTEM WORKS,CHANGE IT YOURSELF AND RECOMPILE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COMMERCIAL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OPERATING SYSTEM CAN OFFER THIS ADVAN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ER ARE MANY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-WINDOW MANAGERS AVAILABLE FOR LINUX WHICH OFFER QUITE NEW USER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574560"/>
            <a:ext cx="2102040" cy="1025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UX  IS DEVELOPED BY VOLUNTEERS FOR FREE AND MAINTAINED BY VOLUNTEERS FOR F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UX CAN BE DOWNLOADED FROM INTERNET JUST FOR THE PRICE OF DOWNL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 PRICE-TO-PERFORMANCE  ADVANTAGE LINUX GIVES YOU IS IMMEASU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3276720"/>
          <a:ext cx="914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767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bs00508_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795240" cy="838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905120"/>
            <a:ext cx="762120" cy="838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4560" y="1905120"/>
            <a:ext cx="609480" cy="9144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ORE THAN ANY OPERATING SYSTEM LINUX RUNS ON  DIFFERENT ARCHITECTURES.SOME OF THEM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I386-INTEL x86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PPC-THE POWER PC CPU,USED IN APPLE’S MACINTOSH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M68K-THE MOTOROLA 68000 SERIES CPU,USED IN OLDER MACINTOSH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PARC-THE SPARC CPU,USED IN SUN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WORKSTATIONS AND SER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NTEL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38080" cy="780840"/>
          </a:xfrm>
          <a:prstGeom prst="rect">
            <a:avLst/>
          </a:prstGeom>
          <a:ln w="0">
            <a:noFill/>
          </a:ln>
        </p:spPr>
      </p:pic>
      <p:pic>
        <p:nvPicPr>
          <p:cNvPr id="71" name="M68K" descr=""/>
          <p:cNvPicPr/>
          <p:nvPr/>
        </p:nvPicPr>
        <p:blipFill>
          <a:blip r:embed="rId2"/>
          <a:stretch/>
        </p:blipFill>
        <p:spPr>
          <a:xfrm>
            <a:off x="255600" y="4343400"/>
            <a:ext cx="81108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PPC" descr=""/>
          <p:cNvPicPr/>
          <p:nvPr/>
        </p:nvPicPr>
        <p:blipFill>
          <a:blip r:embed="rId3"/>
          <a:stretch/>
        </p:blipFill>
        <p:spPr>
          <a:xfrm>
            <a:off x="304920" y="335268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SPARC" descr=""/>
          <p:cNvPicPr/>
          <p:nvPr/>
        </p:nvPicPr>
        <p:blipFill>
          <a:blip r:embed="rId4"/>
          <a:stretch/>
        </p:blipFill>
        <p:spPr>
          <a:xfrm>
            <a:off x="304920" y="5334120"/>
            <a:ext cx="838080" cy="76176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VELOP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LINUX OFFERS SOME OF THE MOST MATURE   WELL RESPECTED DEVELOPMENT TOOLS ONE CAN FIND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LONG WITH GNU DEVELOPMENT SUITE,THERE ARE MANY OTHER ENVIRONMENTS AVAILABLE FOR FREEFROM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LINUX IS VIRTUALLY DEVELOPER’S DREAM WITH WHICH TO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AM35" descr=""/>
          <p:cNvPicPr/>
          <p:nvPr/>
        </p:nvPicPr>
        <p:blipFill>
          <a:blip r:embed="rId1"/>
          <a:stretch/>
        </p:blipFill>
        <p:spPr>
          <a:xfrm>
            <a:off x="380880" y="0"/>
            <a:ext cx="88272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LL USAGE OF  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LINUX IS VERY EFFICIENT. IT USES THE HARDWARE TO THE FULLEST EX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WINDOWS98 IS ABLE TO USE ONLY 75 % OF THE AGP CARD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LINUX IS CAPABLE OF USING MORE THAN 95% OF THE AGP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6040" y="2895480"/>
            <a:ext cx="6910560" cy="37735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82296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L KUMAR</cp:lastModifiedBy>
  <dcterms:modified xsi:type="dcterms:W3CDTF">2000-08-20T21:38:36Z</dcterms:modified>
  <cp:revision>62</cp:revision>
  <dc:subject/>
  <dc:title>PowerPoint Presentation</dc:title>
</cp:coreProperties>
</file>