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FC0-6B92-44EF-B02B-C76CE85F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349-8B01-4CEE-80C0-ABFC18F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AE6-C5A7-4727-B960-F238AEC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E6B-6443-4731-A206-F709F2A8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7FA4-198B-40D9-AED6-3B363FB1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C038-796E-4F22-B4D2-E4EA8B3B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17A4-3A67-475B-B08F-FDE8163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EF84-ECF4-49A6-B02E-A2C48741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08FF-5DC6-4195-9B19-ECDACCDA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8F2C-98BE-4E2E-8D00-D516F824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A50E-10DA-44AE-BE39-668D9F6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550-8D33-4180-84DE-2A292031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A35B-B7E5-450D-BA61-35641042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F531-C75C-49C5-A6EA-94C0813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13B1-DC76-4FD0-83E7-5595F35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7C7F-2187-4286-AA95-86B206C2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B1E7-DAD8-44A6-ADF7-38F18D0E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9FF-D199-4292-ABB4-5914A386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84D-A9A4-49DE-957B-99DDA491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25D-6D79-4E0A-918B-6290156A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D3-DAFB-4F12-A365-BA8A6F28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DB6-FF74-4478-8328-46BB22A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A43-F3EA-4BAA-A039-FBBF1AE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396-E47B-4101-A83E-0400967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DDD1-9319-4B3F-94E9-C657011E223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FB9-90EC-4561-965A-6D7C7B89E21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79440" y="879480"/>
            <a:ext cx="7943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 TESTE A SEGUIR CONSISTE DE  QUATRO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SIMPLES PERGUNTAS, DE MANEIRA A DEFINIR SE VOCÊ PODE SER QUALIFICADO COMO UM “PROFISSIONAL EXPERIENTE”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AS PERGUNTAS NÃO SÃO TÃO DIFÍCEIS ASSIM, PORTANTO SEJA HONESTO E NÃO PROCURE VER AS RESPOSTAS ANTES DO TEMPO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CLIQUE PARA INICIAR O SEU TESTE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1371600"/>
            <a:ext cx="69343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Resposta correta:  VOCÊ ATRAVESSA NADANDO TRANQUILAMENTE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Como???  Todos os jacarés estão na Conferência dos Animai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Esta pergunta testou sua habilidade de aprender com os seus próprios erro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3880" y="914400"/>
            <a:ext cx="70866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De acordo com a Andersen Consulting, 90% dos profissionais testados erraram todas as perguntas. Por outro lado, uma grande maioria de crianças em idade pré-escolar acertaram um bom número de pergunta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A Andersen Consulting, com estes resultados, pôde rebater a tese de que profissionais têm a capacidade mental equivalente a uma criança de 4 anos. 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38280" y="2362320"/>
            <a:ext cx="563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Envie este teste a outros, para deixá-los tão frustrados como você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133720"/>
            <a:ext cx="5639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PERGUNTA 1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COMO VOCÊ COLOCARIA UMA GIRAFA NUMA GELADEIRA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1066680"/>
            <a:ext cx="71629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A resposta correta seria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Abra a porta da geladeira, coloque a girafa, e feche a porta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Esta pergunta testou sua tendência de  achar soluções complicadas para coisas simple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28800" y="2362320"/>
            <a:ext cx="6400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PERGUNTA 2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COMO VOCÊ COLOCARIA UM ELEFANTE NUMA GELADEIRA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914400"/>
            <a:ext cx="693432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Se você respondeu: “Abra a porta da geladeira, coloque o elefante, e feche a porta.”    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RESPOSTA ERRADA !!!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A resposta correta seria: “Abra a porta da geladeira,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Tahoma"/>
              </a:rPr>
              <a:t>retire a girafa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, coloque o elefante, e feche a porta.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Esta pergunta testou sua capacidade de pensar nas consequências de suas ações anteriores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1447920"/>
            <a:ext cx="6705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PERGUNTA 3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 REI LEÃO ESTÁ ORGANIZANDO UMA CONFERÊNCIA ANIMAL NA FLORESTA. TODOS OS ANIMAIS COMPARECERAM, EXCETO UM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QUAL ANIMAL NÃO COMPARECEU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1143000"/>
            <a:ext cx="67816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Resposta correta:  O ELEFANTE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 elefante está na geladeira, lembrou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Esta pergunta testou sua memória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1523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Muito bem, mesmo que você não tenha se saído muito bem nas 3 perguntas anteriores, você ainda tem uma chance de se qualificar como um “profissional”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1981080"/>
            <a:ext cx="6172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PERGUNTA 4 E CHANCE FINAL: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VOCÊ PRECISA ATRAVESSAR UM RIO PROFUNDO, INFESTADO DE JACARÉS.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COMO PROCEDER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8:59:00Z</dcterms:created>
  <dc:creator>Daunn Wilsnach</dc:creator>
  <dc:description/>
  <dc:language>en-US</dc:language>
  <cp:lastModifiedBy>Roberto Silva</cp:lastModifiedBy>
  <dcterms:modified xsi:type="dcterms:W3CDTF">2000-08-03T14:03:27Z</dcterms:modified>
  <cp:revision>4</cp:revision>
  <dc:subject/>
  <dc:title>No Slide Title</dc:title>
</cp:coreProperties>
</file>