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BDA720-B210-40BB-B988-7A986AD28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AD716-3BB7-49FD-A7CF-B9032CA20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9ABD20-88E2-40BC-B01F-9CA0D13DE8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92FFA1-9EC2-42CB-9249-61A64E3D25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497D4A-ED86-43AB-A10B-AC1FC41F4F8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9CD42-A156-40F2-9CAD-BB1436513D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BE1E6-C85F-4AFF-8732-1D7254E12A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BDC14-1685-4361-8A1F-8D117DFF36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8C599E-A434-4A01-AF72-6C4C77C9BC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315DD-881D-4DD9-B386-E450CA1C5B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5BD8F-FF7F-4D42-8F42-D28697028F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B6900-3F1E-463D-92F4-B21F7B3DA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48B02-D6EF-4970-8F99-DA31979F3F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EB0DB-1F42-4EF8-A59A-D53CDDE01F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A0CC0-688E-4B89-AD97-28091125BB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48360-7281-45AC-9F68-2299565EDEE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19B6B-56B9-48EF-AAC7-1B0703AB51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2DD64A-0309-44D5-9428-F1C8FA005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8379B-952E-4F85-8CF0-A58D83C61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7DA734-2F56-40EC-9B5C-1BB5D4817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350DF0-7F93-48C5-8BCB-E2CBE50EB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28667-CF60-4DD3-8CD1-3F97772BE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A47A34-CDFB-42F7-B733-D02ADA24F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A072F-5976-47B4-AAB2-3A17768435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9F393D43-4FEC-436E-8F31-4595661948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AAA8074E-FE8B-45DA-B34A-FA7568E88F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F6B08148-CF1B-4FAC-B6A0-BCC313300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File Organization</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cords created, key field used to compute a disk address where record is writ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andomly access rec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enters key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address computed from key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hen accessed direct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dex need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2AC72D-D96B-41EE-8723-C5F816EE4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Disks, Disk Drive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 media for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ccessed at very high sp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metal oxide coating that stores data as magnetized 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s may be floppy disk, hard disk or disk pac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1936E-17C7-408C-9C53-34240678DC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Disks, Disk Drive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ored in concentric circles on disk called </a:t>
            </a:r>
            <a:r>
              <a:rPr b="0" lang="en-US" sz="3200" spc="-1" strike="noStrike" u="sng">
                <a:solidFill>
                  <a:srgbClr val="000000"/>
                </a:solidFill>
                <a:uFillTx/>
                <a:latin typeface="Arial"/>
              </a:rPr>
              <a:t>tra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drives have access arm with read/write head for accessing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arm can be positioned over any track on d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random access possi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1CC962-0CDB-4274-A746-5C8C101DC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Disk Records</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individual records on disks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number - top or bottom side of d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or (floppy disks) or cylinder (larger units) numb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or or cylinder is wedge-shaped section of track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211D2F-DB6E-4BC7-A5F5-7091280805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 Indexed File</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written in sequence by key field as for sequential disk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index file created, records can be accessed random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0B6BC9-EFC0-4C55-AFE3-7A44810086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Statement</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ELECT</a:t>
            </a:r>
            <a:r>
              <a:rPr b="0" lang="en-US" sz="3200" spc="-1" strike="noStrike">
                <a:solidFill>
                  <a:srgbClr val="000000"/>
                </a:solidFill>
                <a:latin typeface="Arial"/>
              </a:rPr>
              <a:t> file-name-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SSIGN</a:t>
            </a:r>
            <a:r>
              <a:rPr b="0" lang="en-US" sz="3200" spc="-1" strike="noStrike">
                <a:solidFill>
                  <a:srgbClr val="000000"/>
                </a:solidFill>
                <a:latin typeface="Arial"/>
              </a:rPr>
              <a:t> TO implementor-name-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ORGANIZATION</a:t>
            </a:r>
            <a:r>
              <a:rPr b="0" lang="en-US" sz="3200" spc="-1" strike="noStrike">
                <a:solidFill>
                  <a:srgbClr val="000000"/>
                </a:solidFill>
                <a:latin typeface="Arial"/>
              </a:rPr>
              <a:t> IS] </a:t>
            </a:r>
            <a:r>
              <a:rPr b="0" lang="en-US" sz="3200" spc="-1" strike="noStrike" u="sng">
                <a:solidFill>
                  <a:srgbClr val="000000"/>
                </a:solidFill>
                <a:uFillTx/>
                <a:latin typeface="Arial"/>
              </a:rPr>
              <a:t>INDEXE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ACCESS</a:t>
            </a:r>
            <a:r>
              <a:rPr b="0" lang="en-US" sz="3200" spc="-1" strike="noStrike">
                <a:solidFill>
                  <a:srgbClr val="000000"/>
                </a:solidFill>
                <a:latin typeface="Arial"/>
              </a:rPr>
              <a:t> MODE IS </a:t>
            </a:r>
            <a:r>
              <a:rPr b="0" lang="en-US" sz="3200" spc="-1" strike="noStrike" u="sng">
                <a:solidFill>
                  <a:srgbClr val="000000"/>
                </a:solidFill>
                <a:uFillTx/>
                <a:latin typeface="Arial"/>
              </a:rPr>
              <a:t>SEQUENTIAL</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CORD</a:t>
            </a:r>
            <a:r>
              <a:rPr b="0" lang="en-US" sz="3200" spc="-1" strike="noStrike">
                <a:solidFill>
                  <a:srgbClr val="000000"/>
                </a:solidFill>
                <a:latin typeface="Arial"/>
              </a:rPr>
              <a:t> KEY IS data-name-1</a:t>
            </a:r>
            <a:endParaRPr b="0" lang="en-US" sz="32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o create indexed file</a:t>
            </a:r>
            <a:endParaRPr b="0" lang="en-US" sz="3200" spc="-1" strike="noStrike">
              <a:solidFill>
                <a:srgbClr val="000000"/>
              </a:solidFill>
              <a:latin typeface="Arial"/>
            </a:endParaRPr>
          </a:p>
        </p:txBody>
      </p:sp>
      <p:sp>
        <p:nvSpPr>
          <p:cNvPr id="15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5525C3-2A58-4780-AAAA-F54E60B4F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Statement</a:t>
            </a:r>
            <a:endParaRPr b="0" lang="en-US" sz="4400" spc="-1" strike="noStrike">
              <a:solidFill>
                <a:srgbClr val="000000"/>
              </a:solidFill>
              <a:latin typeface="Arial"/>
            </a:endParaRPr>
          </a:p>
        </p:txBody>
      </p:sp>
      <p:sp>
        <p:nvSpPr>
          <p:cNvPr id="1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INDEXED</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index file to be created along with data fil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file must be established to be able to randomly access file later</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MODE SEQUENTIAL</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written in sequence by key field</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since SEQUENTIAL is default mo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9DE00F-3092-4068-80A9-F563B2E2B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Statement</a:t>
            </a:r>
            <a:endParaRPr b="0" lang="en-US" sz="4400" spc="-1" strike="noStrike">
              <a:solidFill>
                <a:srgbClr val="000000"/>
              </a:solidFill>
              <a:latin typeface="Arial"/>
            </a:endParaRPr>
          </a:p>
        </p:txBody>
      </p:sp>
      <p:sp>
        <p:nvSpPr>
          <p:cNvPr id="16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KE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key field within disk record used to form 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 same physical location in each record (usually first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must be unique for each rec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to use numeric field as ke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9F71EB-7344-4A91-AD92-5AF22B8BCB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 INVALID KEY</a:t>
            </a:r>
            <a:endParaRPr b="0" lang="en-US" sz="4400" spc="-1" strike="noStrike">
              <a:solidFill>
                <a:srgbClr val="000000"/>
              </a:solidFill>
              <a:latin typeface="Arial"/>
            </a:endParaRPr>
          </a:p>
        </p:txBody>
      </p:sp>
      <p:sp>
        <p:nvSpPr>
          <p:cNvPr id="1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KEY clause required when writing indexed records to handle I/O error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ield not in sequenc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ield same as one already in fil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rror detected with WRIT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not writte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following INVALID KEY execu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54A96B-0DC4-4A70-A465-F932572AE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 INVALID KEY</a:t>
            </a:r>
            <a:endParaRPr b="0" lang="en-US" sz="4400" spc="-1" strike="noStrike">
              <a:solidFill>
                <a:srgbClr val="000000"/>
              </a:solidFill>
              <a:latin typeface="Arial"/>
            </a:endParaRPr>
          </a:p>
        </p:txBody>
      </p:sp>
      <p:sp>
        <p:nvSpPr>
          <p:cNvPr id="1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ITE</a:t>
            </a:r>
            <a:r>
              <a:rPr b="0" lang="en-US" sz="2800" spc="-1" strike="noStrike">
                <a:solidFill>
                  <a:srgbClr val="000000"/>
                </a:solidFill>
                <a:latin typeface="Arial"/>
              </a:rPr>
              <a:t> record-name-1 [</a:t>
            </a:r>
            <a:r>
              <a:rPr b="0" lang="en-US" sz="2800" spc="-1" strike="noStrike" u="sng">
                <a:solidFill>
                  <a:srgbClr val="000000"/>
                </a:solidFill>
                <a:uFillTx/>
                <a:latin typeface="Arial"/>
              </a:rPr>
              <a:t>FROM</a:t>
            </a:r>
            <a:r>
              <a:rPr b="0" lang="en-US" sz="2800" spc="-1" strike="noStrike">
                <a:solidFill>
                  <a:srgbClr val="000000"/>
                </a:solidFill>
                <a:latin typeface="Arial"/>
              </a:rPr>
              <a:t> identifier-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NOT</a:t>
            </a:r>
            <a:r>
              <a:rPr b="0" lang="en-US" sz="2800" spc="-1" strike="noStrike">
                <a:solidFill>
                  <a:srgbClr val="000000"/>
                </a:solidFill>
                <a:latin typeface="Arial"/>
              </a:rPr>
              <a:t> </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END-WR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following NOT INVALID KEY executed if WRITE is successful</a:t>
            </a:r>
            <a:endParaRPr b="0" lang="en-US" sz="2800" spc="-1" strike="noStrike">
              <a:solidFill>
                <a:srgbClr val="000000"/>
              </a:solidFill>
              <a:latin typeface="Arial"/>
            </a:endParaRPr>
          </a:p>
        </p:txBody>
      </p:sp>
      <p:sp>
        <p:nvSpPr>
          <p:cNvPr id="167"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301AD4-D940-4659-BBF5-A9D21BF6B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662328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dexed and Relative File Process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100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5</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7A03972-A04D-4819-B6DB-18AF42E4A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Index File Randomly</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records can be updated directly without creating a new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dex file, changes can be made in any sequ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399F5-7D89-4E7A-B818-D204029AED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Index File Randomly</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ransaction record (or get update data intera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key field value to RECORD KEY of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master record into storage (READ … INVALID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eeded changes to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E record to master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264272-7E7F-4607-99DA-2871139C5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Index File Randomly</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ELECT statement specify ACCESS MODE IS RAN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dexed file for 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Input) to read in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Output) to rewrite or update recor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A76994-C526-4DE0-A518-E819EB0EC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 INVALID KEY</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record with key field equal to value stored in record key</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Trans-No To Master-No</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Indexed-File</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alid Key</a:t>
            </a:r>
            <a:r>
              <a:rPr b="0" lang="en-US" sz="3200" spc="-1" strike="noStrike">
                <a:solidFill>
                  <a:srgbClr val="000000"/>
                </a:solidFill>
                <a:latin typeface="Arial"/>
              </a:rPr>
              <a:t>	</a:t>
            </a:r>
            <a:r>
              <a:rPr b="0" lang="en-US" sz="3200" spc="-1" strike="noStrike">
                <a:solidFill>
                  <a:srgbClr val="000000"/>
                </a:solidFill>
                <a:latin typeface="Arial"/>
              </a:rPr>
              <a:t> Perform 600-Err-Rtn</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 Invalid Key</a:t>
            </a:r>
            <a:r>
              <a:rPr b="0" lang="en-US" sz="3200" spc="-1" strike="noStrike">
                <a:solidFill>
                  <a:srgbClr val="000000"/>
                </a:solidFill>
                <a:latin typeface="Arial"/>
              </a:rPr>
              <a:t>	</a:t>
            </a:r>
            <a:r>
              <a:rPr b="0" lang="en-US" sz="3200" spc="-1" strike="noStrike">
                <a:solidFill>
                  <a:srgbClr val="000000"/>
                </a:solidFill>
                <a:latin typeface="Arial"/>
              </a:rPr>
              <a:t> Perform 500-OK-Rtn</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755390-55AB-42C7-A6F3-691D3E8137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RITE … INVALID KEY</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WRITE</a:t>
            </a:r>
            <a:r>
              <a:rPr b="0" lang="en-US" sz="2800" spc="-1" strike="noStrike">
                <a:solidFill>
                  <a:srgbClr val="000000"/>
                </a:solidFill>
                <a:latin typeface="Arial"/>
              </a:rPr>
              <a:t> record-name-1 [</a:t>
            </a:r>
            <a:r>
              <a:rPr b="0" lang="en-US" sz="2800" spc="-1" strike="noStrike" u="sng">
                <a:solidFill>
                  <a:srgbClr val="000000"/>
                </a:solidFill>
                <a:uFillTx/>
                <a:latin typeface="Arial"/>
              </a:rPr>
              <a:t>FROM</a:t>
            </a:r>
            <a:r>
              <a:rPr b="0" lang="en-US" sz="2800" spc="-1" strike="noStrike">
                <a:solidFill>
                  <a:srgbClr val="000000"/>
                </a:solidFill>
                <a:latin typeface="Arial"/>
              </a:rPr>
              <a:t> identifier-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NOT</a:t>
            </a:r>
            <a:r>
              <a:rPr b="0" lang="en-US" sz="2800" spc="-1" strike="noStrike">
                <a:solidFill>
                  <a:srgbClr val="000000"/>
                </a:solidFill>
                <a:latin typeface="Arial"/>
              </a:rPr>
              <a:t> </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2]</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END-REWRITE</a:t>
            </a:r>
            <a:r>
              <a:rPr b="0" lang="en-US" sz="2800" spc="-1" strike="noStrike">
                <a:solidFill>
                  <a:srgbClr val="000000"/>
                </a:solidFill>
                <a:latin typeface="Arial"/>
              </a:rPr>
              <a:t>]</a:t>
            </a:r>
            <a:br>
              <a:rPr sz="2800"/>
            </a:b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pdate existing indexed recor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KEY occurs if programmer has changed key field of record</a:t>
            </a:r>
            <a:endParaRPr b="0" lang="en-US" sz="3200" spc="-1" strike="noStrike">
              <a:solidFill>
                <a:srgbClr val="000000"/>
              </a:solidFill>
              <a:latin typeface="Arial"/>
            </a:endParaRPr>
          </a:p>
        </p:txBody>
      </p:sp>
      <p:sp>
        <p:nvSpPr>
          <p:cNvPr id="17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42CCE4-406E-4CCB-8B07-AA8E393D3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New Record</a:t>
            </a:r>
            <a:endParaRPr b="0" lang="en-US" sz="4400" spc="-1" strike="noStrike">
              <a:solidFill>
                <a:srgbClr val="000000"/>
              </a:solidFill>
              <a:latin typeface="Arial"/>
            </a:endParaRPr>
          </a:p>
        </p:txBody>
      </p:sp>
      <p:sp>
        <p:nvSpPr>
          <p:cNvPr id="18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d new record to indexed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data to master record fie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RITE … INVALID KEY to create new recor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5F6338-2CA9-49E8-B8CA-556930B2F7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te Existing Record</a:t>
            </a:r>
            <a:endParaRPr b="0" lang="en-US" sz="4400" spc="-1" strike="noStrike">
              <a:solidFill>
                <a:srgbClr val="000000"/>
              </a:solidFill>
              <a:latin typeface="Arial"/>
            </a:endParaRPr>
          </a:p>
        </p:txBody>
      </p:sp>
      <p:sp>
        <p:nvSpPr>
          <p:cNvPr id="18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LETE</a:t>
            </a:r>
            <a:r>
              <a:rPr b="0" lang="en-US" sz="2800" spc="-1" strike="noStrike">
                <a:solidFill>
                  <a:srgbClr val="000000"/>
                </a:solidFill>
                <a:latin typeface="Arial"/>
              </a:rPr>
              <a:t> index-file-name-1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NOT</a:t>
            </a:r>
            <a:r>
              <a:rPr b="0" lang="en-US" sz="2800" spc="-1" strike="noStrike">
                <a:solidFill>
                  <a:srgbClr val="000000"/>
                </a:solidFill>
                <a:latin typeface="Arial"/>
              </a:rPr>
              <a:t> </a:t>
            </a:r>
            <a:r>
              <a:rPr b="0" lang="en-US" sz="2800" spc="-1" strike="noStrike" u="sng">
                <a:solidFill>
                  <a:srgbClr val="000000"/>
                </a:solidFill>
                <a:uFillTx/>
                <a:latin typeface="Arial"/>
              </a:rPr>
              <a:t>INVALID</a:t>
            </a:r>
            <a:r>
              <a:rPr b="0" lang="en-US" sz="2800" spc="-1" strike="noStrike">
                <a:solidFill>
                  <a:srgbClr val="000000"/>
                </a:solidFill>
                <a:latin typeface="Arial"/>
              </a:rPr>
              <a:t> KEY imperative-statemen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END-DELETE</a:t>
            </a:r>
            <a:r>
              <a:rPr b="0" lang="en-US" sz="2800" spc="-1" strike="noStrike">
                <a:solidFill>
                  <a:srgbClr val="000000"/>
                </a:solidFill>
                <a:latin typeface="Arial"/>
              </a:rPr>
              <a:t>]</a:t>
            </a:r>
            <a:br>
              <a:rPr sz="2800"/>
            </a:b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lete record with key field equal to value stored in record key</a:t>
            </a:r>
            <a:endParaRPr b="0" lang="en-US" sz="3200" spc="-1" strike="noStrike">
              <a:solidFill>
                <a:srgbClr val="000000"/>
              </a:solidFill>
              <a:latin typeface="Arial"/>
            </a:endParaRPr>
          </a:p>
        </p:txBody>
      </p:sp>
      <p:sp>
        <p:nvSpPr>
          <p:cNvPr id="183"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9D0719-E582-41BB-AB6A-DAE1BEB15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ips</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un program to create indexed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be created using text edi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an update program, always run index file creation program fir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 able to DISPLAY or print indexed records on your system direct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data to standard sequential record fir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A20694-B5CF-4E0B-8588-6AD50209B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Indexed File Sequentially</a:t>
            </a:r>
            <a:endParaRPr b="0" lang="en-US" sz="40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file in same way as a sequential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ACCESS IS SEQUENT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file before printing if report is to be in sequence by field other than key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8934D-8970-4360-9A8A-310526FAD6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Indexed File Randomly</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to access only records about which inquiries have been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ACCESS IS RANDO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769EBA-7C74-4D91-B9D4-83092C516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of disk file organiz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processing of disk fil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reate, update, and access indexed disk fil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reate, update, and access relative fil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used for organizing relative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0BB34-FAF3-464D-BA97-D236B082E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Indexed File Randomly</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inquiry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inquiry key field value to RECORD KEY of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master record into storage (READ … INVALID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desired fields to output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utput record to prin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C6A1D-A334-4F64-9ED6-9DAF8082C5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Interactive Inquiries</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ies often made interactively with output displayed on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indexed accounts receivable file with customer's Acct-No as key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inquiries made about balance due for a custo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using random access for one inquiry follow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7C08C-817C-4992-A090-C088EFFDC2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Interactive Inquiries</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Enter account number'</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Acct-N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ccts-Receivabl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alid Key</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Account not on fil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Invalid Key</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Balance due = ', Bal-Du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Rea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B105E-98B7-4C01-A8E8-9D093092A3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 RECORD KEY</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use to enable file to be accessed randomly using more than one key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want to access accounts receivable records by account number or na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SELECT statement after RECORD KEY clause to establish multiple key fields for index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19987D-68D5-4778-B3B9-7546F870A9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 RECORD KEY</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ALTERNATE</a:t>
            </a:r>
            <a:r>
              <a:rPr b="0" lang="en-US" sz="3200" spc="-1" strike="noStrike">
                <a:solidFill>
                  <a:srgbClr val="000000"/>
                </a:solidFill>
                <a:latin typeface="Arial"/>
              </a:rPr>
              <a:t> </a:t>
            </a:r>
            <a:r>
              <a:rPr b="0" lang="en-US" sz="3200" spc="-1" strike="noStrike" u="sng">
                <a:solidFill>
                  <a:srgbClr val="000000"/>
                </a:solidFill>
                <a:uFillTx/>
                <a:latin typeface="Arial"/>
              </a:rPr>
              <a:t>RECORD</a:t>
            </a:r>
            <a:r>
              <a:rPr b="0" lang="en-US" sz="3200" spc="-1" strike="noStrike">
                <a:solidFill>
                  <a:srgbClr val="000000"/>
                </a:solidFill>
                <a:latin typeface="Arial"/>
              </a:rPr>
              <a:t> KEY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ta-name-2 [WITH </a:t>
            </a:r>
            <a:r>
              <a:rPr b="0" lang="en-US" sz="3200" spc="-1" strike="noStrike" u="sng">
                <a:solidFill>
                  <a:srgbClr val="000000"/>
                </a:solidFill>
                <a:uFillTx/>
                <a:latin typeface="Arial"/>
              </a:rPr>
              <a:t>DUPLICATE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ALTERNATE keys a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not be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records by RECORD KEY or any ALTERNATE RECORD KEYs</a:t>
            </a:r>
            <a:endParaRPr b="0" lang="en-US" sz="3200" spc="-1" strike="noStrike">
              <a:solidFill>
                <a:srgbClr val="000000"/>
              </a:solidFill>
              <a:latin typeface="Arial"/>
            </a:endParaRPr>
          </a:p>
        </p:txBody>
      </p:sp>
      <p:sp>
        <p:nvSpPr>
          <p:cNvPr id="200"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3878E1-9411-4DFF-9938-888B76F028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Example</a:t>
            </a:r>
            <a:endParaRPr b="0" lang="en-US" sz="4400" spc="-1" strike="noStrike">
              <a:solidFill>
                <a:srgbClr val="000000"/>
              </a:solidFill>
              <a:latin typeface="Arial"/>
            </a:endParaRPr>
          </a:p>
        </p:txBody>
      </p:sp>
      <p:sp>
        <p:nvSpPr>
          <p:cNvPr id="20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ccts-Receivabl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ign To 'C:\AcctRec.ndx'</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ganization Is Indexe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ss Is Sequential</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rd Key Is Acct-N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ternate Record Key</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Cst-Last-Name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Duplicat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D0FB3D-CB6A-417A-8FEB-129737F608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ndom Access by ALTERNATE </a:t>
            </a:r>
            <a:endParaRPr b="0" lang="en-US" sz="4000" spc="-1" strike="noStrike">
              <a:solidFill>
                <a:srgbClr val="000000"/>
              </a:solidFill>
              <a:latin typeface="Arial"/>
            </a:endParaRPr>
          </a:p>
        </p:txBody>
      </p:sp>
      <p:sp>
        <p:nvSpPr>
          <p:cNvPr id="20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file by Cst-Last-Name</a:t>
            </a: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play 'Enter last nam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 Cst-Last-Nam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 Accts-Receivabl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ey is Cst-Last-Nam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valid Key Display 'No record foun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t Invalid Key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play 'Balance due = ', Bal-Du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Read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AC2DCD-2143-42FA-8EE7-1D86A38E68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ndom Access by ALTERNATE</a:t>
            </a:r>
            <a:endParaRPr b="0" lang="en-US" sz="4000" spc="-1" strike="noStrike">
              <a:solidFill>
                <a:srgbClr val="000000"/>
              </a:solidFill>
              <a:latin typeface="Arial"/>
            </a:endParaRPr>
          </a:p>
        </p:txBody>
      </p:sp>
      <p:sp>
        <p:nvSpPr>
          <p:cNvPr id="20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lause used with READ to specify access by ALTERNATE RECORD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WITH DUPLICATES spec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more than one record with same last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retrieved is first one placed on dis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EY clause omitted, uses RECORD KEY field (Acct-No) to find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D50BC-E2F7-4F50-97C7-3543677F93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Statement</a:t>
            </a:r>
            <a:endParaRPr b="0" lang="en-US" sz="4400" spc="-1" strike="noStrike">
              <a:solidFill>
                <a:srgbClr val="000000"/>
              </a:solidFill>
              <a:latin typeface="Arial"/>
            </a:endParaRPr>
          </a:p>
        </p:txBody>
      </p:sp>
      <p:sp>
        <p:nvSpPr>
          <p:cNvPr id="20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gin processing indexed file </a:t>
            </a:r>
            <a:r>
              <a:rPr b="0" lang="en-US" sz="3200" spc="-1" strike="noStrike" u="sng">
                <a:solidFill>
                  <a:srgbClr val="000000"/>
                </a:solidFill>
                <a:uFillTx/>
                <a:latin typeface="Arial"/>
              </a:rPr>
              <a:t>sequentially</a:t>
            </a:r>
            <a:r>
              <a:rPr b="0" lang="en-US" sz="3200" spc="-1" strike="noStrike">
                <a:solidFill>
                  <a:srgbClr val="000000"/>
                </a:solidFill>
                <a:latin typeface="Arial"/>
              </a:rPr>
              <a:t> starting from any record lo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file beginning with customer record with Acct-No = 02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ll customers with Cst-Last-Name beginning with letter '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34055-CFB4-424D-9579-142AF35D0D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Statement</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RT</a:t>
            </a:r>
            <a:r>
              <a:rPr b="0" lang="en-US" sz="3200" spc="-1" strike="noStrike">
                <a:solidFill>
                  <a:srgbClr val="000000"/>
                </a:solidFill>
                <a:latin typeface="Arial"/>
              </a:rPr>
              <a:t> file-name-1  </a:t>
            </a:r>
            <a:endParaRPr b="0" lang="en-US" sz="3200" spc="-1" strike="noStrike">
              <a:solidFill>
                <a:srgbClr val="000000"/>
              </a:solidFill>
              <a:latin typeface="Arial"/>
            </a:endParaRPr>
          </a:p>
          <a:p>
            <a:pPr marL="3358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a:t>
            </a:r>
            <a:endParaRPr b="0" lang="en-US" sz="3200" spc="-1" strike="noStrike">
              <a:solidFill>
                <a:srgbClr val="000000"/>
              </a:solidFill>
              <a:latin typeface="Arial"/>
            </a:endParaRPr>
          </a:p>
          <a:p>
            <a:pPr marL="3358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KE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g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data-name-1</a:t>
            </a:r>
            <a:endParaRPr b="0" lang="en-US" sz="3200" spc="-1" strike="noStrike">
              <a:solidFill>
                <a:srgbClr val="000000"/>
              </a:solidFill>
              <a:latin typeface="Arial"/>
            </a:endParaRPr>
          </a:p>
          <a:p>
            <a:pPr marL="3358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a:t>
            </a:r>
            <a:r>
              <a:rPr b="0" lang="en-US" sz="3200" spc="-1" strike="noStrike" u="sng">
                <a:solidFill>
                  <a:srgbClr val="000000"/>
                </a:solidFill>
                <a:uFillTx/>
                <a:latin typeface="Arial"/>
              </a:rPr>
              <a:t>NOT</a:t>
            </a:r>
            <a:r>
              <a:rPr b="0" lang="en-US" sz="3200" spc="-1" strike="noStrike">
                <a:solidFill>
                  <a:srgbClr val="000000"/>
                </a:solidFill>
                <a:latin typeface="Arial"/>
              </a:rPr>
              <a:t> &lt;</a:t>
            </a:r>
            <a:endParaRPr b="0" lang="en-US" sz="3200" spc="-1" strike="noStrike">
              <a:solidFill>
                <a:srgbClr val="000000"/>
              </a:solidFill>
              <a:latin typeface="Arial"/>
            </a:endParaRPr>
          </a:p>
          <a:p>
            <a:pPr marL="3358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gt;=</a:t>
            </a:r>
            <a:endParaRPr b="0" lang="en-US" sz="3200" spc="-1" strike="noStrike">
              <a:solidFill>
                <a:srgbClr val="000000"/>
              </a:solidFill>
              <a:latin typeface="Arial"/>
            </a:endParaRPr>
          </a:p>
          <a:p>
            <a:pPr marL="3358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INVALID</a:t>
            </a:r>
            <a:r>
              <a:rPr b="0" lang="en-US" sz="3200" spc="-1" strike="noStrike">
                <a:solidFill>
                  <a:srgbClr val="000000"/>
                </a:solidFill>
                <a:latin typeface="Arial"/>
              </a:rPr>
              <a:t> KEY imperative-statement-1]</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NOT</a:t>
            </a:r>
            <a:r>
              <a:rPr b="0" lang="en-US" sz="3200" spc="-1" strike="noStrike">
                <a:solidFill>
                  <a:srgbClr val="000000"/>
                </a:solidFill>
                <a:latin typeface="Arial"/>
              </a:rPr>
              <a:t> </a:t>
            </a:r>
            <a:r>
              <a:rPr b="0" lang="en-US" sz="3200" spc="-1" strike="noStrike" u="sng">
                <a:solidFill>
                  <a:srgbClr val="000000"/>
                </a:solidFill>
                <a:uFillTx/>
                <a:latin typeface="Arial"/>
              </a:rPr>
              <a:t>INVALID</a:t>
            </a:r>
            <a:r>
              <a:rPr b="0" lang="en-US" sz="3200" spc="-1" strike="noStrike">
                <a:solidFill>
                  <a:srgbClr val="000000"/>
                </a:solidFill>
                <a:latin typeface="Arial"/>
              </a:rPr>
              <a:t> KEY </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statement-2]</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END-STAR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11"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212" name=""/>
          <p:cNvSpPr/>
          <p:nvPr/>
        </p:nvSpPr>
        <p:spPr>
          <a:xfrm>
            <a:off x="2590920" y="2590920"/>
            <a:ext cx="2286000" cy="16002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2666880"/>
            <a:ext cx="6324840" cy="1447920"/>
          </a:xfrm>
          <a:prstGeom prst="bracketPair">
            <a:avLst>
              <a:gd name="adj" fmla="val 17129"/>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5EF0D7-225E-40A1-8280-E498ECCD44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onsiderations for Organizing Disk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of Magnetic Disks and Disk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Indexed Disk Fi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updating, accessing for repor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52ADA5-46E7-4F54-865C-321765867B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Statement</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gin processing with record whose account number equals 025</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 025 To Acct-N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 Accts-Receiv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valid Ke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play 'Acct-No 025 not f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t Invalid Ke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300-Proc-R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Sta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AAF63E-4382-4F81-AF72-FBB631E3D8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Statement</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locates record with Acct-No = 025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KEY clause executed only if no such record fou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locates record but does not READ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Proc-Rec must include READ … AT END to bring record into storage for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DFD77F-041B-43C0-BDD2-CEDF78B4FF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Statement</a:t>
            </a:r>
            <a:endParaRPr b="0" lang="en-US" sz="4400" spc="-1" strike="noStrike">
              <a:solidFill>
                <a:srgbClr val="000000"/>
              </a:solidFill>
              <a:latin typeface="Arial"/>
            </a:endParaRPr>
          </a:p>
        </p:txBody>
      </p:sp>
      <p:sp>
        <p:nvSpPr>
          <p:cNvPr id="2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lause can be omitted only if checking for value </a:t>
            </a:r>
            <a:r>
              <a:rPr b="0" lang="en-US" sz="3200" spc="-1" strike="noStrike" u="sng">
                <a:solidFill>
                  <a:srgbClr val="000000"/>
                </a:solidFill>
                <a:uFillTx/>
                <a:latin typeface="Arial"/>
              </a:rPr>
              <a:t>equal</a:t>
            </a:r>
            <a:r>
              <a:rPr b="0" lang="en-US" sz="3200" spc="-1" strike="noStrike">
                <a:solidFill>
                  <a:srgbClr val="000000"/>
                </a:solidFill>
                <a:latin typeface="Arial"/>
              </a:rPr>
              <a:t> to RECORD KEY valu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record with Acct-No &gt; 100:</a:t>
            </a:r>
            <a:endParaRPr b="0" lang="en-US" sz="32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Move 100 To Acct-No</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rt Accts-Receivabl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ey &gt; Acct-No</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valid Key …</a:t>
            </a:r>
            <a:endParaRPr b="0" lang="en-US" sz="2800" spc="-1" strike="noStrike">
              <a:solidFill>
                <a:srgbClr val="000000"/>
              </a:solidFill>
              <a:latin typeface="Arial"/>
            </a:endParaRPr>
          </a:p>
          <a:p>
            <a:pPr marL="33264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55D332-9DFE-4A68-94B1-DE9BC55242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IS DYNAMIC</a:t>
            </a:r>
            <a:endParaRPr b="0" lang="en-US" sz="4400" spc="-1" strike="noStrike">
              <a:solidFill>
                <a:srgbClr val="000000"/>
              </a:solidFill>
              <a:latin typeface="Arial"/>
            </a:endParaRPr>
          </a:p>
        </p:txBody>
      </p:sp>
      <p:sp>
        <p:nvSpPr>
          <p:cNvPr id="22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 used to access indexed file </a:t>
            </a:r>
            <a:r>
              <a:rPr b="0" lang="en-US" sz="3200" spc="-1" strike="noStrike" u="sng">
                <a:solidFill>
                  <a:srgbClr val="000000"/>
                </a:solidFill>
                <a:uFillTx/>
                <a:latin typeface="Arial"/>
              </a:rPr>
              <a:t>both</a:t>
            </a:r>
            <a:r>
              <a:rPr b="0" lang="en-US" sz="3200" spc="-1" strike="noStrike">
                <a:solidFill>
                  <a:srgbClr val="000000"/>
                </a:solidFill>
                <a:latin typeface="Arial"/>
              </a:rPr>
              <a:t> randomly and sequentially in singl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update selected records, then print control listing of entire indexed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ccess used for upd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access used for printing repo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E3816D-CAEA-4433-BF49-43F2D3253C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IS DYNAMIC</a:t>
            </a:r>
            <a:endParaRPr b="0" lang="en-US" sz="4400" spc="-1" strike="noStrike">
              <a:solidFill>
                <a:srgbClr val="000000"/>
              </a:solidFill>
              <a:latin typeface="Arial"/>
            </a:endParaRPr>
          </a:p>
        </p:txBody>
      </p:sp>
      <p:sp>
        <p:nvSpPr>
          <p:cNvPr id="2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 required for reading records in sequence by ALTERNATE RECORD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required when records accessed by both RECORD KEY and ALTERNATE RECORD KE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68A545-C6D4-46A9-B5C5-0A2061EF42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 NEXT RECORD</a:t>
            </a:r>
            <a:endParaRPr b="0" lang="en-US" sz="4400" spc="-1" strike="noStrike">
              <a:solidFill>
                <a:srgbClr val="000000"/>
              </a:solidFill>
              <a:latin typeface="Arial"/>
            </a:endParaRPr>
          </a:p>
        </p:txBody>
      </p:sp>
      <p:sp>
        <p:nvSpPr>
          <p:cNvPr id="22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erform sequential read of indexed file when ACCESS MODE IS DYNAM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quentially read from file by its ALTERNATE RECORD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gin reading sequentially from some point other than beginning of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22F60-BF52-44DA-978B-456C6E1AF8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 NEXT RECORD</a:t>
            </a:r>
            <a:endParaRPr b="0" lang="en-US" sz="4400" spc="-1" strike="noStrike">
              <a:solidFill>
                <a:srgbClr val="000000"/>
              </a:solidFill>
              <a:latin typeface="Arial"/>
            </a:endParaRPr>
          </a:p>
        </p:txBody>
      </p:sp>
      <p:sp>
        <p:nvSpPr>
          <p:cNvPr id="22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first record with Acct-No &gt; 100 has been located using ST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AD … NEXT RECORD to read in records sequentially from this 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word NEXT requi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313BA-E0D6-48B0-8885-152D387ED6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 NEXT RECORD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Until More-Records = 'N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Accts-Receivable Next Recor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End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NO' To More-Records</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 At End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00-Proc-Rec</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Rea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17BF3E-2CC3-4694-8C3C-C1E542B04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STATUS Clause</a:t>
            </a:r>
            <a:endParaRPr b="0" lang="en-US" sz="4400" spc="-1" strike="noStrike">
              <a:solidFill>
                <a:srgbClr val="000000"/>
              </a:solidFill>
              <a:latin typeface="Arial"/>
            </a:endParaRPr>
          </a:p>
        </p:txBody>
      </p:sp>
      <p:sp>
        <p:nvSpPr>
          <p:cNvPr id="23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termine exact type of input or output error that occurred when accessing a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in SELECT statement for a file as last cla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ILE STATUS IS data-name] </a:t>
            </a:r>
            <a:endParaRPr b="0" lang="en-US" sz="3200" spc="-1" strike="noStrike">
              <a:solidFill>
                <a:srgbClr val="000000"/>
              </a:solidFill>
              <a:latin typeface="Arial"/>
            </a:endParaRPr>
          </a:p>
        </p:txBody>
      </p:sp>
      <p:sp>
        <p:nvSpPr>
          <p:cNvPr id="232" name=""/>
          <p:cNvSpPr/>
          <p:nvPr/>
        </p:nvSpPr>
        <p:spPr>
          <a:xfrm>
            <a:off x="1066680" y="43434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6000"/>
          </a:bodyPr>
          <a:p>
            <a:pPr marL="294840" indent="-294840" algn="ctr">
              <a:lnSpc>
                <a:spcPct val="9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F19A17-AC8D-4E19-B196-8ED203B82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STATUS Clause</a:t>
            </a:r>
            <a:endParaRPr b="0" lang="en-US" sz="4400" spc="-1" strike="noStrike">
              <a:solidFill>
                <a:srgbClr val="000000"/>
              </a:solidFill>
              <a:latin typeface="Arial"/>
            </a:endParaRPr>
          </a:p>
        </p:txBody>
      </p:sp>
      <p:sp>
        <p:nvSpPr>
          <p:cNvPr id="2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name must appear in WORKING-STORAGE as two-position alphanumeric field</a:t>
            </a:r>
            <a:endParaRPr b="0" lang="en-US" sz="32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Indexed-Pay-Fil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ile Status Is WS-Status.</a:t>
            </a:r>
            <a:endParaRPr b="0" lang="en-US" sz="3200" spc="-1" strike="noStrike">
              <a:solidFill>
                <a:srgbClr val="000000"/>
              </a:solidFill>
              <a:latin typeface="Arial"/>
            </a:endParaRPr>
          </a:p>
          <a:p>
            <a:pPr marL="33264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Storage Section.</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WS-Statu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2).</a:t>
            </a:r>
            <a:endParaRPr b="0" lang="en-US" sz="3200" spc="-1" strike="noStrike">
              <a:solidFill>
                <a:srgbClr val="000000"/>
              </a:solidFill>
              <a:latin typeface="Arial"/>
            </a:endParaRPr>
          </a:p>
        </p:txBody>
      </p:sp>
      <p:sp>
        <p:nvSpPr>
          <p:cNvPr id="235" name=""/>
          <p:cNvSpPr/>
          <p:nvPr/>
        </p:nvSpPr>
        <p:spPr>
          <a:xfrm>
            <a:off x="1066680" y="32767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3000"/>
          </a:bodyPr>
          <a:p>
            <a:pPr marL="284400" indent="-284400" algn="ctr">
              <a:lnSpc>
                <a:spcPct val="9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2924E6-0CF9-4A0B-BA73-A836F4D7B1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ptions for Indexed File 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RECORD K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Stat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A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TATUS Cl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Handl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71123C-B44D-4265-922B-F9FB67DEFB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STATUS Clause</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put or output operation performed on Indexed-Pay-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laced in WS-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ested by programmer in PROCEDURE DIVIS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FILE STATUS field values and their meaning follow</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9ECA5-DF81-4B07-9A6D-775543F5C5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STATUS Values</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tatus</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eld value</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Meaning</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0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error occurred</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quence error - keys no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correct order</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tempt to write record</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reating duplicate primary </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cord ke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C786EC-256B-4D3D-B7CE-57F67F8504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ILE STATUS</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dexed-Pay-Rec</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alid Key</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WS-Status = '21'</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Key not in sequence'</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a:p>
            <a:pPr marL="3052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Invalid Key</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600-OK-Rtn</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Wri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E101C-F089-462F-A8BB-4388A21F55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 Handling</a:t>
            </a:r>
            <a:endParaRPr b="0" lang="en-US" sz="44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prehensive method for handling input/output errors is to establish separate section(s) for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exception handling routines in DECLARATIVES seg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ppears first in PROCEDURE DIV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gin with section-nam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A2B6FF-15CC-4CA8-8C1B-221DBFD1A5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S Format</a:t>
            </a:r>
            <a:endParaRPr b="0" lang="en-US" sz="4400" spc="-1" strike="noStrike">
              <a:solidFill>
                <a:srgbClr val="000000"/>
              </a:solidFill>
              <a:latin typeface="Arial"/>
            </a:endParaRPr>
          </a:p>
        </p:txBody>
      </p:sp>
      <p:sp>
        <p:nvSpPr>
          <p:cNvPr id="2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CLARATIV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name </a:t>
            </a:r>
            <a:r>
              <a:rPr b="0" lang="en-US" sz="3200" spc="-1" strike="noStrike" u="sng">
                <a:solidFill>
                  <a:srgbClr val="000000"/>
                </a:solidFill>
                <a:uFillTx/>
                <a:latin typeface="Arial"/>
              </a:rPr>
              <a:t>SEC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USE</a:t>
            </a:r>
            <a:r>
              <a:rPr b="0" lang="en-US" sz="3200" spc="-1" strike="noStrike">
                <a:solidFill>
                  <a:srgbClr val="000000"/>
                </a:solidFill>
                <a:latin typeface="Arial"/>
              </a:rPr>
              <a:t> </a:t>
            </a:r>
            <a:r>
              <a:rPr b="0" lang="en-US" sz="3200" spc="-1" strike="noStrike" u="sng">
                <a:solidFill>
                  <a:srgbClr val="000000"/>
                </a:solidFill>
                <a:uFillTx/>
                <a:latin typeface="Arial"/>
              </a:rPr>
              <a:t>AFTER</a:t>
            </a:r>
            <a:r>
              <a:rPr b="0" lang="en-US" sz="3200" spc="-1" strike="noStrike">
                <a:solidFill>
                  <a:srgbClr val="000000"/>
                </a:solidFill>
                <a:latin typeface="Arial"/>
              </a:rPr>
              <a:t> STAND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XCEPTION</a:t>
            </a:r>
            <a:r>
              <a:rPr b="0" lang="en-US" sz="3200" spc="-1" strike="noStrike">
                <a:solidFill>
                  <a:srgbClr val="000000"/>
                </a:solidFill>
                <a:latin typeface="Arial"/>
              </a:rPr>
              <a:t>	</a:t>
            </a:r>
            <a:r>
              <a:rPr b="0" lang="en-US" sz="3200" spc="-1" strike="noStrike" u="sng">
                <a:solidFill>
                  <a:srgbClr val="000000"/>
                </a:solidFill>
                <a:uFillTx/>
                <a:latin typeface="Arial"/>
              </a:rPr>
              <a:t>PROCED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RR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file-name-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D</a:t>
            </a:r>
            <a:r>
              <a:rPr b="0" lang="en-US" sz="3200" spc="-1" strike="noStrike">
                <a:solidFill>
                  <a:srgbClr val="000000"/>
                </a:solidFill>
                <a:latin typeface="Arial"/>
              </a:rPr>
              <a:t> </a:t>
            </a:r>
            <a:r>
              <a:rPr b="0" lang="en-US" sz="3200" spc="-1" strike="noStrike" u="sng">
                <a:solidFill>
                  <a:srgbClr val="000000"/>
                </a:solidFill>
                <a:uFillTx/>
                <a:latin typeface="Arial"/>
              </a:rPr>
              <a:t>DECLARATIV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46" name=""/>
          <p:cNvSpPr/>
          <p:nvPr/>
        </p:nvSpPr>
        <p:spPr>
          <a:xfrm>
            <a:off x="2590920" y="3429000"/>
            <a:ext cx="2971800" cy="1143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3E5A8C-2C40-4855-801F-2010815D60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S Example</a:t>
            </a:r>
            <a:endParaRPr b="0" lang="en-US" sz="4400" spc="-1" strike="noStrike">
              <a:solidFill>
                <a:srgbClr val="000000"/>
              </a:solidFill>
              <a:latin typeface="Arial"/>
            </a:endParaRPr>
          </a:p>
        </p:txBody>
      </p:sp>
      <p:sp>
        <p:nvSpPr>
          <p:cNvPr id="2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ves.</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000-Exception-Handling Section.</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e After Error Procedure</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Indexed-Pay-File</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00-Check-It.</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WS-Status = '21'</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Key not in sequence'</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If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Declarativ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0F320-B8EA-49D8-9A5C-A417F60F03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S Example</a:t>
            </a:r>
            <a:endParaRPr b="0" lang="en-US" sz="4400" spc="-1" strike="noStrike">
              <a:solidFill>
                <a:srgbClr val="000000"/>
              </a:solidFill>
              <a:latin typeface="Arial"/>
            </a:endParaRPr>
          </a:p>
        </p:txBody>
      </p:sp>
      <p:sp>
        <p:nvSpPr>
          <p:cNvPr id="2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00-Regular-Processing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00-Main-Paragrap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Indexed-Pay-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Indexed-Pay-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D47DE-F4E4-4C68-AA66-215143D2F3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S Example</a:t>
            </a:r>
            <a:endParaRPr b="0" lang="en-US" sz="4400" spc="-1" strike="noStrike">
              <a:solidFill>
                <a:srgbClr val="000000"/>
              </a:solidFill>
              <a:latin typeface="Arial"/>
            </a:endParaRPr>
          </a:p>
        </p:txBody>
      </p:sp>
      <p:sp>
        <p:nvSpPr>
          <p:cNvPr id="252" name="PlaceHolder 2"/>
          <p:cNvSpPr>
            <a:spLocks noGrp="1"/>
          </p:cNvSpPr>
          <p:nvPr>
            <p:ph/>
          </p:nvPr>
        </p:nvSpPr>
        <p:spPr>
          <a:xfrm>
            <a:off x="990720" y="1676160"/>
            <a:ext cx="7772400" cy="44542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section header used, rest of PROCEDURE DIVISION must be divided into section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in paragraph A100-Check-It in DECLARATIVES test value of FILE STATUS field</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KEY not needed for READ or WRITE since errors handled in DECLARATIV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BE1369-5120-4F29-B099-3C39DDB089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Files</a:t>
            </a:r>
            <a:endParaRPr b="0" lang="en-US" sz="4400" spc="-1" strike="noStrike">
              <a:solidFill>
                <a:srgbClr val="000000"/>
              </a:solidFill>
              <a:latin typeface="Arial"/>
            </a:endParaRPr>
          </a:p>
        </p:txBody>
      </p:sp>
      <p:sp>
        <p:nvSpPr>
          <p:cNvPr id="2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organization that converts key field to actual disk address to find location of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ed to look up disk address in 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key to disk address and access record direct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may be accessed both sequentially and random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7955E-1C8F-436C-9B5C-8C6DD8E367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for Relative Files</a:t>
            </a:r>
            <a:endParaRPr b="0" lang="en-US" sz="4400" spc="-1" strike="noStrike">
              <a:solidFill>
                <a:srgbClr val="000000"/>
              </a:solidFill>
              <a:latin typeface="Arial"/>
            </a:endParaRPr>
          </a:p>
        </p:txBody>
      </p:sp>
      <p:sp>
        <p:nvSpPr>
          <p:cNvPr id="2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LECT</a:t>
            </a:r>
            <a:r>
              <a:rPr b="0" lang="en-US" sz="2800" spc="-1" strike="noStrike">
                <a:solidFill>
                  <a:srgbClr val="000000"/>
                </a:solidFill>
                <a:latin typeface="Arial"/>
              </a:rPr>
              <a:t> file-name-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GN to implementor-name-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ORGANIZATION</a:t>
            </a:r>
            <a:r>
              <a:rPr b="0" lang="en-US" sz="2800" spc="-1" strike="noStrike">
                <a:solidFill>
                  <a:srgbClr val="000000"/>
                </a:solidFill>
                <a:latin typeface="Arial"/>
              </a:rPr>
              <a:t> IS] </a:t>
            </a:r>
            <a:r>
              <a:rPr b="0" lang="en-US" sz="2800" spc="-1" strike="noStrike" u="sng">
                <a:solidFill>
                  <a:srgbClr val="000000"/>
                </a:solidFill>
                <a:uFillTx/>
                <a:latin typeface="Arial"/>
              </a:rPr>
              <a:t>RELATIV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ACCESS</a:t>
            </a:r>
            <a:r>
              <a:rPr b="0" lang="en-US" sz="2800" spc="-1" strike="noStrike">
                <a:solidFill>
                  <a:srgbClr val="000000"/>
                </a:solidFill>
                <a:latin typeface="Arial"/>
              </a:rPr>
              <a:t> I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SEQUENTIA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RELATIVE</a:t>
            </a:r>
            <a:r>
              <a:rPr b="0" lang="en-US" sz="2800" spc="-1" strike="noStrike">
                <a:solidFill>
                  <a:srgbClr val="000000"/>
                </a:solidFill>
                <a:latin typeface="Arial"/>
              </a:rPr>
              <a:t> KEY IS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name-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RAND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RELATIVE</a:t>
            </a:r>
            <a:r>
              <a:rPr b="0" lang="en-US" sz="2800" spc="-1" strike="noStrike">
                <a:solidFill>
                  <a:srgbClr val="000000"/>
                </a:solidFill>
                <a:latin typeface="Arial"/>
              </a:rPr>
              <a:t> KEY I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DYNAMI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ata-name-1</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E </a:t>
            </a:r>
            <a:r>
              <a:rPr b="0" lang="en-US" sz="2800" spc="-1" strike="noStrike" u="sng">
                <a:solidFill>
                  <a:srgbClr val="000000"/>
                </a:solidFill>
                <a:uFillTx/>
                <a:latin typeface="Arial"/>
              </a:rPr>
              <a:t>STATUS</a:t>
            </a:r>
            <a:r>
              <a:rPr b="0" lang="en-US" sz="2800" spc="-1" strike="noStrike">
                <a:solidFill>
                  <a:srgbClr val="000000"/>
                </a:solidFill>
                <a:latin typeface="Arial"/>
              </a:rPr>
              <a:t> IS data-name-2].</a:t>
            </a:r>
            <a:endParaRPr b="0" lang="en-US" sz="2800" spc="-1" strike="noStrike">
              <a:solidFill>
                <a:srgbClr val="000000"/>
              </a:solidFill>
              <a:latin typeface="Arial"/>
            </a:endParaRPr>
          </a:p>
        </p:txBody>
      </p:sp>
      <p:sp>
        <p:nvSpPr>
          <p:cNvPr id="257" name=""/>
          <p:cNvSpPr/>
          <p:nvPr/>
        </p:nvSpPr>
        <p:spPr>
          <a:xfrm>
            <a:off x="7924680" y="3657600"/>
            <a:ext cx="381240" cy="2286000"/>
          </a:xfrm>
          <a:custGeom>
            <a:avLst/>
            <a:gdLst>
              <a:gd name="textAreaLeft" fmla="*/ 0 w 381240"/>
              <a:gd name="textAreaRight" fmla="*/ 267480 w 381240"/>
              <a:gd name="textAreaTop" fmla="*/ 95040 h 2286000"/>
              <a:gd name="textAreaBottom" fmla="*/ 2190960 h 228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52480" y="4724280"/>
            <a:ext cx="2057400" cy="10670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447920" y="3733920"/>
            <a:ext cx="6629400" cy="2133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014A0D-8066-48E6-ADD6-4598C33290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dexed Disk File As External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Relative Disk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ing Key Field to RELATIVE KE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752B2A-C8A6-4167-870E-481884FF86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for Relative Files</a:t>
            </a:r>
            <a:endParaRPr b="0" lang="en-US" sz="4400" spc="-1" strike="noStrike">
              <a:solidFill>
                <a:srgbClr val="000000"/>
              </a:solidFill>
              <a:latin typeface="Arial"/>
            </a:endParaRPr>
          </a:p>
        </p:txBody>
      </p:sp>
      <p:sp>
        <p:nvSpPr>
          <p:cNvPr id="2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KEY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if ACCESS is SEQUENT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requi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IS DYNAMIC allows both sequential and random access in sam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TATUS field used same way as with indexed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3918DF-74DD-4877-AE29-180A2DEAC7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D for Relative Files</a:t>
            </a:r>
            <a:endParaRPr b="0" lang="en-US" sz="4400" spc="-1" strike="noStrike">
              <a:solidFill>
                <a:srgbClr val="000000"/>
              </a:solidFill>
              <a:latin typeface="Arial"/>
            </a:endParaRPr>
          </a:p>
        </p:txBody>
      </p:sp>
      <p:sp>
        <p:nvSpPr>
          <p:cNvPr id="2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KEY not part of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eparate WORKING-STORAGE en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ey is a three digit field and SELECT claus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lative Key is R-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 in WORKING-STORAG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R-Ke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3E6C2-2656-45E3-82B1-6D3E021138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Relative Files</a:t>
            </a:r>
            <a:endParaRPr b="0" lang="en-US" sz="44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reated sequentially, either computer or user can supply k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LATIVE KEY clause omitted, computer supplies k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record placed in relative record location 1 (RELATIVE KEY =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record  in relative record location 2 (RELATIVE KEY = 2),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10C20-38EC-4D8A-A9B0-65F510EB61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Relative Files</a:t>
            </a:r>
            <a:endParaRPr b="0" lang="en-US" sz="4400" spc="-1" strike="noStrike">
              <a:solidFill>
                <a:srgbClr val="000000"/>
              </a:solidFill>
              <a:latin typeface="Arial"/>
            </a:endParaRPr>
          </a:p>
        </p:txBody>
      </p:sp>
      <p:sp>
        <p:nvSpPr>
          <p:cNvPr id="2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 INVALID KEY to write record to relativ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 AT END to read sequenti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 INVALID KEY to read random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key value of record to locate to RELATIVE KEY before executing REA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51E1DA-C5C3-4A6D-8805-61BCB6829F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Relative Files</a:t>
            </a:r>
            <a:endParaRPr b="0" lang="en-US" sz="4400" spc="-1" strike="noStrike">
              <a:solidFill>
                <a:srgbClr val="000000"/>
              </a:solidFill>
              <a:latin typeface="Arial"/>
            </a:endParaRPr>
          </a:p>
        </p:txBody>
      </p:sp>
      <p:sp>
        <p:nvSpPr>
          <p:cNvPr id="2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E … INVALID KEY to up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TE … INVALID KEY to remove record from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85021C-2E16-4EFD-89EF-C4790DF575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Keys</a:t>
            </a:r>
            <a:endParaRPr b="0" lang="en-US" sz="4400" spc="-1" strike="noStrike">
              <a:solidFill>
                <a:srgbClr val="000000"/>
              </a:solidFill>
              <a:latin typeface="Arial"/>
            </a:endParaRPr>
          </a:p>
        </p:txBody>
      </p:sp>
      <p:sp>
        <p:nvSpPr>
          <p:cNvPr id="2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key field not feasible to use as relative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 five digit Trans-No with values from 00001 to 99999 with only 1000 actual records would be wastefu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 record locations would need to be allocated but only a small portion us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F28E6C-6420-451E-99D3-CD1069A3EA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ting to Relative Keys</a:t>
            </a:r>
            <a:endParaRPr b="0" lang="en-US" sz="4400" spc="-1" strike="noStrike">
              <a:solidFill>
                <a:srgbClr val="000000"/>
              </a:solidFill>
              <a:latin typeface="Arial"/>
            </a:endParaRPr>
          </a:p>
        </p:txBody>
      </p:sp>
      <p:sp>
        <p:nvSpPr>
          <p:cNvPr id="2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called </a:t>
            </a:r>
            <a:r>
              <a:rPr b="0" lang="en-US" sz="3200" spc="-1" strike="noStrike" u="sng">
                <a:solidFill>
                  <a:srgbClr val="000000"/>
                </a:solidFill>
                <a:uFillTx/>
                <a:latin typeface="Arial"/>
              </a:rPr>
              <a:t>hashing</a:t>
            </a:r>
            <a:r>
              <a:rPr b="0" lang="en-US" sz="3200" spc="-1" strike="noStrike">
                <a:solidFill>
                  <a:srgbClr val="000000"/>
                </a:solidFill>
                <a:latin typeface="Arial"/>
              </a:rPr>
              <a:t> used to convert key field into relative record number</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hashing method</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vide Trans-No by 1009 Giving Num</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mainder Rel-Ke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Key will be number from 0 to 1008</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1 to get relative record number from 1 to 1009, enough positions for 1000-record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0DAB01-5B4E-4F07-BDDD-9ED5AC23DF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Files</a:t>
            </a:r>
            <a:endParaRPr b="0" lang="en-US" sz="4400" spc="-1" strike="noStrike">
              <a:solidFill>
                <a:srgbClr val="000000"/>
              </a:solidFill>
              <a:latin typeface="Arial"/>
            </a:endParaRPr>
          </a:p>
        </p:txBody>
      </p:sp>
      <p:sp>
        <p:nvSpPr>
          <p:cNvPr id="2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hing algorithm used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relative file - each record's key field used to calculate RELATIVE KEY for positioning record in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file randomly - convert inquiry or transaction record's key to RELATIVE KEY before read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15D3BB-4082-44FA-99DD-043F13D588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d Files - SELECT cl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IS INDEX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S RANDO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onsequential updates, inquir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S SEQUENTI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reating, reporting, updating sequentiall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135BB6-3A27-44DA-945F-8427AD82A9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d Files - SELECT clau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KEY - Key field for establishing index, accessing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TATUS IS data-name for indicating success of input or output oper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302B59-BCED-4C25-98E9-CECBC49484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k File Organization</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is collection of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jor ways records stored or organized on dis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equential File Organiz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dexed File Organiz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Relative File Organ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AE518-B3EE-4E26-96A9-F6F912357A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d Files</a:t>
            </a:r>
            <a:r>
              <a:rPr b="0" lang="en-US" sz="2800" spc="-1" strike="noStrike">
                <a:solidFill>
                  <a:srgbClr val="000000"/>
                </a:solidFill>
                <a:latin typeface="Arial"/>
              </a:rPr>
              <a:t> - </a:t>
            </a:r>
            <a:r>
              <a:rPr b="0" lang="en-US" sz="3200" spc="-1" strike="noStrike">
                <a:solidFill>
                  <a:srgbClr val="000000"/>
                </a:solidFill>
                <a:latin typeface="Arial"/>
              </a:rPr>
              <a:t>PROCEDURE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indexed fi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IS SEQUENT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EAD … AT E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from indexed fi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quence - READ … AT E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ly - READ … INVALID KE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C8F823-C413-4290-8FF3-BDBA43B6AC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Fi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dex, record's key field converted to relative record number or RELATIVE 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for random access but may be slow for sequential acc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F107D6-B4BE-4534-951F-29C3120EE7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Files - SELECT cl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IS REL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KEY clause u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andomly accessing f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equential reads, writes if conversion necessary from record's key field to RELATIVE KE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name used as RELATIVE KEY defined in WORKING-STORA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7EF881-551C-47F9-9F15-4B74964238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Files - SELECT cl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f three ACCESS MODEs can be u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relative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S SEQUENT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or convert input record's key field to RELATIVE KEY in WORKING-STOR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RITE … INVALID KE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9C67F8-23EF-4071-A86D-7E2C7FED9B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a relative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S RAND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or convert transaction record's key field to RELATIVE KEY in WORKING-STOR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AD … INVALID KE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D5AC39-2F54-4214-9EAF-C3CEEC3552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a relative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S RAND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for 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AD, WRITE, REWRITE, or DELETE with INVALID KEY clau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EF8F7B-3204-411B-BF26-30F2B474A4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49A5BA-5077-46E4-9AF3-36CEC43B327E}"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File Organization</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stored in order they are written to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accessed in sequence - to access 50th record in file, must read past first 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sorted into sequence by a key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436A69-A9D8-40B1-83AD-EF99CEA4B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xed File Organization</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s of two fil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ile - records in sequen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file - contains value of</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key fiel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address of record with that corresponding key field</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andom access, look up key field in index file to find addres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ccess record in data file direct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D0D60-A275-48E7-A0B1-EC555D187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cp:lastPrinted>2002-07-29T19:52:46Z</cp:lastPrinted>
  <dcterms:modified xsi:type="dcterms:W3CDTF">2002-08-05T15:51:49Z</dcterms:modified>
  <cp:revision>79</cp:revision>
  <dc:subject/>
  <dc:title>PowerPoint Presentation</dc:title>
</cp:coreProperties>
</file>