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112A4C-38A2-4154-9DE5-BB831F9002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B5BE50-6F25-42C7-ACA8-ABAA32C68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671DA0-6A80-462F-A2E1-4CD6E7B503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08BA25-0EA3-4DF4-8721-7BF43B2813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296DA7-D7B1-4E87-8393-F50E0C0727B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77758-6459-4036-9993-F879B86815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5A7240-9887-4F62-9AA5-76F6EBBFEF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06FCBE-19F1-4774-8D91-39D38E6D9B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0DB384-9D28-438C-A2C8-B7F0232C71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A91BA8-AEC7-4224-827C-0DDB1934B3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3D94E-C373-4F1C-A64E-7B07601D43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8977A6-4F0D-428F-840F-CF1221559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DB0E7-3FAE-465B-87ED-1D1C209928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7F33F-6354-4AC2-9684-1899D9D7F1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236C75-DB17-4D86-9758-1B50C4D23E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7991A-D9F8-415F-814E-08413F6B2DE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1036EB-6C44-477D-A8F6-FDD543DE06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2042A3-0EB2-4EE0-B6F1-53867C7D5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F6DCB8-5385-4F27-A850-3665845C0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AA3A5A-63B6-48B9-93A8-8D162D74E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1484BA-2692-422D-9573-107AE26AB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9444C-98CF-4F0E-87D1-5150EACF9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85C0D5-E205-4C11-8EB9-357B57973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1B41F1-4263-4932-B8E1-1CD60A8333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fld id="{BD830394-E685-42DD-BE4B-A0EB719360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fld id="{FAAC169B-E812-4AFB-AD1A-AB5992413B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204213AD-29E8-4F0D-AD7E-C06B6D335C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a Master File</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key fields that uniquely identify record at beginning of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ossible, choose numeric key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fields after primary key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ing fields appear in order of import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4C48E8-762E-4472-AD26-23EA2B5A4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a Master File</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ield size large enough to accommodate data stored i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ded fields where possible to save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all date fields include four-digit yea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CCCF0A-78EB-4318-86E1-58DFE122BB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Master File</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master file data entered interactively, stored on disk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data integrity by using data validation techniques to minimize risk or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listing or audit trail produced to show data stored in new master file and control tot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63F117-52CE-47D3-A628-74BFCF94C4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Transaction File</a:t>
            </a:r>
            <a:endParaRPr b="0" lang="en-US" sz="4400" spc="-1" strike="noStrike">
              <a:solidFill>
                <a:srgbClr val="000000"/>
              </a:solidFill>
              <a:latin typeface="Arial"/>
            </a:endParaRPr>
          </a:p>
        </p:txBody>
      </p:sp>
      <p:sp>
        <p:nvSpPr>
          <p:cNvPr id="1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o master file made with separate proced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records stored in file called transaction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D3B7BE-8F7E-4AEF-A797-81D9D4ABA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a Master File</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ing is process of making master file cur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master file by incorporating changes from transaction recor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ACFC47-AA30-436C-AF79-0A8C4C7F56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ing from a Master File</a:t>
            </a:r>
            <a:endParaRPr b="0" lang="en-US" sz="4400" spc="-1" strike="noStrike">
              <a:solidFill>
                <a:srgbClr val="000000"/>
              </a:solidFill>
              <a:latin typeface="Arial"/>
            </a:endParaRPr>
          </a:p>
        </p:txBody>
      </p:sp>
      <p:sp>
        <p:nvSpPr>
          <p:cNvPr id="1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cheduled reports</a:t>
            </a:r>
            <a:r>
              <a:rPr b="0" lang="en-US" sz="3200" spc="-1" strike="noStrike">
                <a:solidFill>
                  <a:srgbClr val="000000"/>
                </a:solidFill>
                <a:latin typeface="Arial"/>
              </a:rPr>
              <a:t> prepared on regular basis from data stored in master fil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reports, customer bills, checks, etc.</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etail, exception and group printing techniques</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n demand reports</a:t>
            </a:r>
            <a:r>
              <a:rPr b="0" lang="en-US" sz="3200" spc="-1" strike="noStrike">
                <a:solidFill>
                  <a:srgbClr val="000000"/>
                </a:solidFill>
                <a:latin typeface="Arial"/>
              </a:rPr>
              <a:t> produced as need arise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in report form or displayed on scre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269754-B6AD-412C-85A1-E7BA03B881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Master, Transaction Files</a:t>
            </a:r>
            <a:endParaRPr b="0" lang="en-US" sz="40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y be read in from another file or entered interactively from key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ata entered is valid, move it to master or transaction record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new record to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F88001-A2B9-4FE3-BE52-059B2F5A45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File Updating</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wo input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Master File (Old-Mas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through previous updating peri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contain changes </a:t>
            </a:r>
            <a:r>
              <a:rPr b="0" lang="en-US" sz="2800" spc="-1" strike="noStrike" u="sng">
                <a:solidFill>
                  <a:srgbClr val="000000"/>
                </a:solidFill>
                <a:uFillTx/>
                <a:latin typeface="Arial"/>
              </a:rPr>
              <a:t>since</a:t>
            </a:r>
            <a:r>
              <a:rPr b="0" lang="en-US" sz="2800" spc="-1" strike="noStrike">
                <a:solidFill>
                  <a:srgbClr val="000000"/>
                </a:solidFill>
                <a:latin typeface="Arial"/>
              </a:rPr>
              <a:t> previous upd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Transaction File (Trans-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changes since previous update to be applied to Old-Mas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6063D9-3E64-4CAC-AEA9-461E443D54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File Updating</a:t>
            </a:r>
            <a:endParaRPr b="0" lang="en-US" sz="4400" spc="-1" strike="noStrike">
              <a:solidFill>
                <a:srgbClr val="000000"/>
              </a:solidFill>
              <a:latin typeface="Arial"/>
            </a:endParaRPr>
          </a:p>
        </p:txBody>
      </p:sp>
      <p:sp>
        <p:nvSpPr>
          <p:cNvPr id="1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wo output fil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Master File (New-Master)</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data from Old-Master with all of changes from Trans-File</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come Old-Master for next update</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Listing or Audit Trail</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file showing changes made to master file, errors during processing and control tota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145763-07FE-4AA2-826A-FEA50F6171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ering of Records</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in Old-Master and Trans-File must be in order by same key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key fields to determine if given master record is to be upda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84E99B-6FA0-4306-8878-0CF3567995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quential File Processing</a:t>
            </a:r>
            <a:endParaRPr b="0" lang="en-US" sz="48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3</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ACDF8ED-D4F1-419F-A196-A32875BF7C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Update Example</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ccounts receivable file, account number may be selected as key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in both input files in sequence by account nu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Master key field is M-Acct-N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ile key field is T-Acct-N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Master file also created in account number sequence (Acct-No-O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1E83D5-F2E4-4BD3-83BC-197C0D82FA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Update Procedure</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ransaction record for each master record to be updated</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total amount to be added to amount field in corresponding master record</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 record read from both Old-Master and Trans-Fil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M-Acct-No and T-Acct-No determines next ste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FCD832-0F3A-4E7E-A822-237DBC8D80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T-Acct-No = M-Acct-No</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s transaction record exists with same account number as master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regular update, adding Trans-File amount to Old-Master amount, storing result in New-Master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record to New-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next record from both Old-Master and Trans-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8E9282-F5F8-4B24-A954-0FE6B8E855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Acct-No &gt; M-Acct-No</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s master record exists for which there is no corresponding transaction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record from Old-Master to New-Master as is, since no changes need to be made t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next record from Old-Mas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4CF154-D452-43A2-9522-38E6C9B4C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T-Acct-No &lt; M-Acct-No</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s transaction record exists for which there is no corresponding master recor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ways to process this transac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cord in New-Master file for this transactio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ssume that T-Acct-No is invalid since no match found in Old-Master file and treat as error condi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2754A9-3A8E-499F-BC3A-6748668597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HIGH-VALUES</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largest value in computer's collating sequ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so all records from both Old-Master and Trans-File are proc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reach end of Old-Master file before reaching end of Trans-File or vice vers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B086A9-E368-4491-9EA6-576E6EEA3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HIGH-VALUES</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last record read from Old-Master, M-Acct-No set to HIGH-VAL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remaining transaction records        T-Acct-No &lt; M-Acct-No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d as new accounts and added to New-Mas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2BE926-292D-4264-AC79-0B324895E0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HIGH-VALUES</a:t>
            </a:r>
            <a:endParaRPr b="0" lang="en-US" sz="4400" spc="-1" strike="noStrike">
              <a:solidFill>
                <a:srgbClr val="000000"/>
              </a:solidFill>
              <a:latin typeface="Arial"/>
            </a:endParaRPr>
          </a:p>
        </p:txBody>
      </p:sp>
      <p:sp>
        <p:nvSpPr>
          <p:cNvPr id="1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last record read from Trans-File, T-Acct-No set to HIGH-VAL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remaining Old-Master records        T-Acct-No &gt; M-Acct-No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Master records added to New-Master without chan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44D311-F50A-4AF2-8D4D-A387ECC702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HIGH-VALUES</a:t>
            </a:r>
            <a:endParaRPr b="0" lang="en-US" sz="4400" spc="-1" strike="noStrike">
              <a:solidFill>
                <a:srgbClr val="000000"/>
              </a:solidFill>
              <a:latin typeface="Arial"/>
            </a:endParaRPr>
          </a:p>
        </p:txBody>
      </p:sp>
      <p:sp>
        <p:nvSpPr>
          <p:cNvPr id="1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to process records ends only when both account numbers equal HIGH-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only with fields defined as alphanumer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ccount number fields with PIC of Xs even though fields contain numb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2D10B1-FEA1-40F9-888B-085539C72E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ity Checking in Updating</a:t>
            </a:r>
            <a:endParaRPr b="0" lang="en-US" sz="4400" spc="-1" strike="noStrike">
              <a:solidFill>
                <a:srgbClr val="000000"/>
              </a:solidFill>
              <a:latin typeface="Arial"/>
            </a:endParaRPr>
          </a:p>
        </p:txBody>
      </p:sp>
      <p:sp>
        <p:nvSpPr>
          <p:cNvPr id="18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field may be added to each transaction record to indicate whether transaction i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ccount to be added</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to existing accoun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ion of existing account</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keys and transaction code type enable program to detect other update err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504B85-5F00-461C-82FB-CBB3F0AF4D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file processing concep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tial update procedures using disk as a 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equential disk files may be updated in place with REWRITE stat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673A88-7EC1-4B3A-BA5E-5AFB51E522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Transaction Records</a:t>
            </a:r>
            <a:endParaRPr b="0" lang="en-US" sz="4400" spc="-1" strike="noStrike">
              <a:solidFill>
                <a:srgbClr val="000000"/>
              </a:solidFill>
              <a:latin typeface="Arial"/>
            </a:endParaRPr>
          </a:p>
        </p:txBody>
      </p:sp>
      <p:sp>
        <p:nvSpPr>
          <p:cNvPr id="1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ess more than one change for each master record requires different update procedur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ccounts receivable file example, transaction record may be created for each purchase or credit by customer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s in all transaction records for one customer need to be added to amount in Old-Master file reco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08DE55-1C82-4E29-A4F0-2F713C3558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Transaction Records</a:t>
            </a:r>
            <a:endParaRPr b="0" lang="en-US" sz="4400" spc="-1" strike="noStrike">
              <a:solidFill>
                <a:srgbClr val="000000"/>
              </a:solidFill>
              <a:latin typeface="Arial"/>
            </a:endParaRPr>
          </a:p>
        </p:txBody>
      </p:sp>
      <p:sp>
        <p:nvSpPr>
          <p:cNvPr id="1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loop to regular update routine to read and process multiple transaction records for same Old-Master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read records from Trans-File until T-Acct-No Not = M-Acct-N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943E7F-8F2E-4FB2-BD88-EF9B5E6DD5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d Line Algorithm</a:t>
            </a:r>
            <a:endParaRPr b="0" lang="en-US" sz="44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 to update master fil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ny number of transa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checks for error condi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ed as most efficient and effective sequential file updating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new fields used to control upda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S-Control-K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S-Allocated-Switc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5CF67F-3780-442D-A3C6-03C0A6156E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S-Control-Key</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type of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control or active key fie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to smaller of M-Acct-No or             T-Acct-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mparison of M-Acct-No or       T-Acct-No to WS-Control-Key used to control further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2DCBB4-2F05-4B39-A714-D504851603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S-Allocated-Switch</a:t>
            </a:r>
            <a:endParaRPr b="0" lang="en-US" sz="4400" spc="-1" strike="noStrike">
              <a:solidFill>
                <a:srgbClr val="000000"/>
              </a:solidFill>
              <a:latin typeface="Arial"/>
            </a:endParaRPr>
          </a:p>
        </p:txBody>
      </p:sp>
      <p:sp>
        <p:nvSpPr>
          <p:cNvPr id="1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error contro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records processed cor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ct erroneous codes in transac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to 'YES' when record should be written to New-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to 'NO' if record should not be written to New-Master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ADAA85-E618-4E46-AE29-A97AD3C69C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M-Acct-No &lt; T-Acct-No</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Control-Key set to M-Acct-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Allocated-Switch set to 'YES' because WS-Control-Key and M-Acct-No ar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M-Acct-No and T-Acct-No not equal, Old-Master has no trans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Master record written to New-Master record as 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A8BD7E-2B13-4F7B-B093-D4BACBF123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Acct-No = T-Acct-No</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Control-Key set to M-Acct-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Allocated-Switch set to 'YES' because WS-Control-Key and             M-Acct-No ar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with T-Acct-No =            M-Acct-No proces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B24E04-2EDC-4921-B782-9A3C25910D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Acct-No = T-Acct-No</a:t>
            </a:r>
            <a:endParaRPr b="0" lang="en-US" sz="4400" spc="-1" strike="noStrike">
              <a:solidFill>
                <a:srgbClr val="000000"/>
              </a:solidFill>
              <a:latin typeface="Arial"/>
            </a:endParaRPr>
          </a:p>
        </p:txBody>
      </p:sp>
      <p:sp>
        <p:nvSpPr>
          <p:cNvPr id="2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transactions with T-Acct-No = M-Acct-N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posted to New-Ma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s displayed as errors because WS-Allocated-Switch set to 'YES' (master record with this M-Acct-No already ex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ions move 'NO' to WS-Allocated-Switch to ensure this Old-Master record is not written to New-Master fi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7B698D-B06C-428D-9DFD-3DBCCE4711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Acct-No &gt; T-Acct-No</a:t>
            </a:r>
            <a:endParaRPr b="0" lang="en-US" sz="4400" spc="-1" strike="noStrike">
              <a:solidFill>
                <a:srgbClr val="000000"/>
              </a:solidFill>
              <a:latin typeface="Arial"/>
            </a:endParaRPr>
          </a:p>
        </p:txBody>
      </p:sp>
      <p:sp>
        <p:nvSpPr>
          <p:cNvPr id="20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Control-Key set to T-Acct-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Allocated-Switch set to 'NO' because WS-Control-Key </a:t>
            </a:r>
            <a:r>
              <a:rPr b="0" lang="en-US" sz="3200" spc="-1" strike="noStrike" u="sng">
                <a:solidFill>
                  <a:srgbClr val="000000"/>
                </a:solidFill>
                <a:uFillTx/>
                <a:latin typeface="Arial"/>
              </a:rPr>
              <a:t>not equal</a:t>
            </a:r>
            <a:r>
              <a:rPr b="0" lang="en-US" sz="3200" spc="-1" strike="noStrike">
                <a:solidFill>
                  <a:srgbClr val="000000"/>
                </a:solidFill>
                <a:latin typeface="Arial"/>
              </a:rPr>
              <a:t> to M-Acct-N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ster record exists for this transa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373B6A-F22B-44E5-ACF3-DB95B43C6F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Acct-No &gt; T-Acct-No</a:t>
            </a:r>
            <a:endParaRPr b="0" lang="en-US" sz="4400" spc="-1" strike="noStrike">
              <a:solidFill>
                <a:srgbClr val="000000"/>
              </a:solidFill>
              <a:latin typeface="Arial"/>
            </a:endParaRPr>
          </a:p>
        </p:txBody>
      </p:sp>
      <p:sp>
        <p:nvSpPr>
          <p:cNvPr id="20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dditions accept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t WS-ALLOCATED-SWITCH to 'Y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Master record created from transaction recor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or deletion transaction treated as erro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B1C851-8031-4FCC-A9C1-E5D6B8CB30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equential File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tial File Updating - Creating a New 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ity Checking in Update Proced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Procedures with Multiple Transaction Recor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DBED1C-AFC0-4DA9-BDC5-C6004510FE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Master Disk in Place</a:t>
            </a:r>
            <a:endParaRPr b="0" lang="en-US" sz="44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read a master disk record, make changes directly to same record, and rewrite it or update it in plac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wo files needed</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Fi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PEN as I-O</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i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PEN as INPUT</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WRITE statement to replace master disk record, currently in storage, that was accessed by preceding REA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FAF9E9-2C5D-44E9-9FD0-B19CDB45D2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Master Disk in Place</a:t>
            </a:r>
            <a:endParaRPr b="0" lang="en-US" sz="4400" spc="-1" strike="noStrike">
              <a:solidFill>
                <a:srgbClr val="000000"/>
              </a:solidFill>
              <a:latin typeface="Arial"/>
            </a:endParaRPr>
          </a:p>
        </p:txBody>
      </p:sp>
      <p:sp>
        <p:nvSpPr>
          <p:cNvPr id="20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lete a record, establish each record with an activity code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Code-X = 1 if record is active, or 2 if record is inacti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aster records initially active (1 in Co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record deactivated by changing activity code to 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5F00D9-CDF3-4FE5-B6BD-CA2754A35B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Master Disk in Place</a:t>
            </a:r>
            <a:endParaRPr b="0" lang="en-US" sz="4400" spc="-1" strike="noStrike">
              <a:solidFill>
                <a:srgbClr val="000000"/>
              </a:solidFill>
              <a:latin typeface="Arial"/>
            </a:endParaRPr>
          </a:p>
        </p:txBody>
      </p:sp>
      <p:sp>
        <p:nvSpPr>
          <p:cNvPr id="21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ecords cannot be added in sequence when file open for 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dd records at end of file by opening file in EXTEND mo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OPEN</a:t>
            </a:r>
            <a:r>
              <a:rPr b="0" lang="en-US" sz="3200" spc="-1" strike="noStrike">
                <a:solidFill>
                  <a:srgbClr val="000000"/>
                </a:solidFill>
                <a:latin typeface="Arial"/>
              </a:rPr>
              <a:t> </a:t>
            </a:r>
            <a:r>
              <a:rPr b="0" lang="en-US" sz="3200" spc="-1" strike="noStrike" u="sng">
                <a:solidFill>
                  <a:srgbClr val="000000"/>
                </a:solidFill>
                <a:uFillTx/>
                <a:latin typeface="Arial"/>
              </a:rPr>
              <a:t>EXTEND</a:t>
            </a:r>
            <a:r>
              <a:rPr b="0" lang="en-US" sz="3200" spc="-1" strike="noStrike">
                <a:solidFill>
                  <a:srgbClr val="000000"/>
                </a:solidFill>
                <a:latin typeface="Arial"/>
              </a:rPr>
              <a:t> file-n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 automatically positioned at end of file, immediately after last rec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file after records added to arrange them in seque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6E61F-3569-4BDD-8957-3BDE78C9FF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1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tial updating by creating new master uses three fi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ing master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file with change rec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output master file that will incorporate all chan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3CF819-DCB2-40F4-99DB-C59E345BF1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1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tial updating techni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ree files must be in sequence by same key fie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read from each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performed depends on whether key fields matc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9E58DE-69AF-4D1C-90F5-CB2DBADC72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1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tial updating techniq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record may include coded field to designate update, deletion, add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HIGH-VALUES to ensure all records in both old master and transaction files are proces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line algorithm used for sequential updat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F41AA4-EBB7-4AE9-B750-E67AD37180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1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pdate records in  sequential file by rewriting them in pl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open file as I-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can be added to end of sequential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 EXTEND mo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B9C276-78F2-4DE6-80F3-9E699D91D3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101191E-F473-4C6D-A75F-6650C8F169E5}"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Line Algorithm for Sequential File Upd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tial File Updating - Rewriting Records on D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ing Files for Checking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Updating of Sequential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8B0982-EB97-491D-BCC9-CB88B94FB2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 Files</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of files used to store companies data in areas like payroll, inven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processed by batch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stored on magnetic d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s can store billions of charac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drives read, write data quick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records can be any siz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88EE18-5A98-4AFF-A7BB-079848C9FE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Files</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always read in seq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irst record, process it, then read second record, process it and so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roll records in order by employee number may be processed in sequence for updating or printing repo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675B85-8E96-4235-8BEE-C4BAF37B9C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Files</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sorted into any sequence using any field in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tribute checks more easily, records may be sorted by departmen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tial processing then used to print checks, reading first record, then second, et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B9FD22-D3FA-467C-B86D-0789ECE196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 File Procedures</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procedures for sequential processing in batch mode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 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Transaction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ing Master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from Master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12CDDF-6097-4BC0-83CE-29287F6BB7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dcterms:modified xsi:type="dcterms:W3CDTF">2002-08-05T16:00:33Z</dcterms:modified>
  <cp:revision>45</cp:revision>
  <dc:subject/>
  <dc:title>PowerPoint Presentation</dc:title>
</cp:coreProperties>
</file>