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A3F-F60D-4553-B6A9-D4F88D48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F85-8F8A-48DC-BF67-9985E01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9F7-5B4C-4ECA-A499-D506D29F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1AC-633A-417F-906B-E6F907D8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B0A-E604-4672-8FC8-55426AA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1FB-5F59-41FB-8D51-8599578B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534-EAD8-48F3-97A7-891ABD8E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A62-A12B-4B3B-A083-A3F5FDC2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268-476D-406B-8BF5-800E8A86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13E-F842-4234-AF91-AC9B6F06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206-5006-43E9-B0EF-1265C1D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B67-088B-4465-975E-55C4FE1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BD3-6725-43F7-A65D-C7C6C610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Integer Programming to Solve Spatial Problem in Forest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: Yu W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55960" y="476568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480" y="43434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8107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63244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geocities.com/weix0026/whatiwilldo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URM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209680"/>
            <a:ext cx="27432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209680"/>
            <a:ext cx="11430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800600" y="2209680"/>
          <a:ext cx="2438280" cy="1519200"/>
        </p:xfrm>
        <a:graphic>
          <a:graphicData uri="http://schemas.openxmlformats.org/drawingml/2006/table">
            <a:tbl>
              <a:tblPr/>
              <a:tblGrid>
                <a:gridCol w="486720"/>
                <a:gridCol w="488880"/>
                <a:gridCol w="486720"/>
                <a:gridCol w="488880"/>
                <a:gridCol w="487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752480" y="4419720"/>
            <a:ext cx="5410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rs of stands that can not be harvest in same time period: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1, 2}; {1, 4}; {2, 3}; {2, 4}; {3, 4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h Description of U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104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19520" y="1981080"/>
                <a:ext cx="27032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281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657600" y="3048120"/>
                <a:ext cx="144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348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42900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3341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665520" y="4495680"/>
                <a:ext cx="2049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t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6705720" y="3123000"/>
            <a:ext cx="678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381720" y="4572000"/>
                <a:ext cx="100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m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3657600" y="5715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j=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3200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434340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 of pairs of adjacent 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00800" y="533412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Solution of URM for a forest with 1234 number of stands in period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map1_UA_1234_p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289548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Description of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olution for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1000" y="685800"/>
            <a:ext cx="615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ARM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09680"/>
            <a:ext cx="27432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590920"/>
            <a:ext cx="53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4382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(2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438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 (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(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209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4197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we set the maximum contiguous harvesting area to 40 acre, then the groups of stands that can not be harvest in same time period will be:     {1, 2, 3}; {1, 2, 4}; {2, 3, 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209680"/>
            <a:ext cx="3430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29480" y="2209680"/>
            <a:ext cx="34272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2209680"/>
            <a:ext cx="3430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72480" y="2209680"/>
            <a:ext cx="34272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514600"/>
            <a:ext cx="571320" cy="990720"/>
          </a:xfrm>
          <a:custGeom>
            <a:avLst/>
            <a:gdLst/>
            <a:ahLst/>
            <a:rect l="l" t="t" r="r" b="b"/>
            <a:pathLst>
              <a:path w="1260" h="900">
                <a:moveTo>
                  <a:pt x="0" y="0"/>
                </a:moveTo>
                <a:cubicBezTo>
                  <a:pt x="255" y="450"/>
                  <a:pt x="510" y="900"/>
                  <a:pt x="720" y="900"/>
                </a:cubicBezTo>
                <a:cubicBezTo>
                  <a:pt x="930" y="900"/>
                  <a:pt x="1095" y="450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514600"/>
            <a:ext cx="1676520" cy="914400"/>
          </a:xfrm>
          <a:custGeom>
            <a:avLst/>
            <a:gdLst/>
            <a:ahLst/>
            <a:rect l="l" t="t" r="r" b="b"/>
            <a:pathLst>
              <a:path w="1260" h="900">
                <a:moveTo>
                  <a:pt x="0" y="0"/>
                </a:moveTo>
                <a:cubicBezTo>
                  <a:pt x="255" y="450"/>
                  <a:pt x="510" y="900"/>
                  <a:pt x="720" y="900"/>
                </a:cubicBezTo>
                <a:cubicBezTo>
                  <a:pt x="930" y="900"/>
                  <a:pt x="1095" y="450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2514600"/>
            <a:ext cx="571680" cy="990720"/>
          </a:xfrm>
          <a:custGeom>
            <a:avLst/>
            <a:gdLst/>
            <a:ahLst/>
            <a:rect l="l" t="t" r="r" b="b"/>
            <a:pathLst>
              <a:path w="1260" h="900">
                <a:moveTo>
                  <a:pt x="0" y="0"/>
                </a:moveTo>
                <a:cubicBezTo>
                  <a:pt x="255" y="450"/>
                  <a:pt x="510" y="900"/>
                  <a:pt x="720" y="900"/>
                </a:cubicBezTo>
                <a:cubicBezTo>
                  <a:pt x="930" y="900"/>
                  <a:pt x="1095" y="450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2590920"/>
            <a:ext cx="571680" cy="914400"/>
          </a:xfrm>
          <a:custGeom>
            <a:avLst/>
            <a:gdLst/>
            <a:ahLst/>
            <a:rect l="l" t="t" r="r" b="b"/>
            <a:pathLst>
              <a:path w="1260" h="900">
                <a:moveTo>
                  <a:pt x="0" y="0"/>
                </a:moveTo>
                <a:cubicBezTo>
                  <a:pt x="255" y="450"/>
                  <a:pt x="510" y="900"/>
                  <a:pt x="720" y="900"/>
                </a:cubicBezTo>
                <a:cubicBezTo>
                  <a:pt x="930" y="900"/>
                  <a:pt x="1095" y="450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2514600"/>
            <a:ext cx="1066680" cy="990720"/>
          </a:xfrm>
          <a:custGeom>
            <a:avLst/>
            <a:gdLst/>
            <a:ahLst/>
            <a:rect l="l" t="t" r="r" b="b"/>
            <a:pathLst>
              <a:path w="1260" h="900">
                <a:moveTo>
                  <a:pt x="0" y="0"/>
                </a:moveTo>
                <a:cubicBezTo>
                  <a:pt x="255" y="450"/>
                  <a:pt x="510" y="900"/>
                  <a:pt x="720" y="900"/>
                </a:cubicBezTo>
                <a:cubicBezTo>
                  <a:pt x="930" y="900"/>
                  <a:pt x="1095" y="450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h Description of A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572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16000" y="1752480"/>
                <a:ext cx="252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281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666880" y="2666880"/>
                <a:ext cx="2057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9862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54360" y="3747960"/>
                <a:ext cx="24922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t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348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867280" y="2895480"/>
                <a:ext cx="129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3196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867280" y="3809880"/>
                <a:ext cx="12956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348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867280" y="4267080"/>
                <a:ext cx="1219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14600" y="4572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j= 0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5334120"/>
            <a:ext cx="7445520" cy="125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of stand groups that are contiguous and the total area is equal or bigger than 40 Acre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umber of stands in the 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ample Solution of ARM for a forest with 1234 number of stands in peri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map1_AA_1234_p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or w/o even flow constraint for 1234 stands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2057400"/>
          <a:ext cx="6400440" cy="3852720"/>
        </p:xfrm>
        <a:graphic>
          <a:graphicData uri="http://schemas.openxmlformats.org/drawingml/2006/table">
            <a:tbl>
              <a:tblPr/>
              <a:tblGrid>
                <a:gridCol w="3143520"/>
                <a:gridCol w="1549800"/>
                <a:gridCol w="1707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  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ber N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ning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patial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6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M without Even Flow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00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M with Even Flow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91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M without Even Flow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0 acre upper bou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14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M with Even Flow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0 acre upper bou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5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map1_1947_UA_p1"/>
          <p:cNvGraphicFramePr/>
          <p:nvPr/>
        </p:nvGraphicFramePr>
        <p:xfrm>
          <a:off x="0" y="60948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map1_1947_UA_p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2120" y="15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AM 1947 Stands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28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 (40 acre) 1947 Stands 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724280" y="609480"/>
          <a:ext cx="441972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609480"/>
                    <a:ext cx="4419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286000" y="3352680"/>
          <a:ext cx="5029200" cy="350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352680"/>
                    <a:ext cx="50292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of Interior Spa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nteri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Description of Interior Spa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olution of Interior Spa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ally Thanks for: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ard  M. Hoga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1240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200400"/>
            <a:ext cx="498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Thanks for The Help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sh Bix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c Hend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fluence Zone and Interior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2057400"/>
            <a:ext cx="49528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057400"/>
            <a:ext cx="2438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3809880"/>
            <a:ext cx="243828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2057400"/>
            <a:ext cx="2514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51460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514600"/>
            <a:ext cx="10670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43434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343400"/>
            <a:ext cx="10670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2514600"/>
            <a:ext cx="13716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3429000"/>
            <a:ext cx="11430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429000"/>
            <a:ext cx="106704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343400"/>
            <a:ext cx="13716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3429000"/>
            <a:ext cx="13716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Description of Interior Spa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432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420920" y="1828800"/>
                <a:ext cx="4779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Z</m:t>
                                </m:r>
                              </m:sub>
                              <m:sup/>
                              <m:e/>
                            </m:nary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T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t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281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004840" y="2666880"/>
                <a:ext cx="21625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93876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981080" y="3962520"/>
                <a:ext cx="3048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t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348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57800" y="3048120"/>
                <a:ext cx="1066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4120" y="3733920"/>
                <a:ext cx="1752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905120" y="5105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or 1, y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or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Solution of Interior Space Model for a Forest with 800 Number of Stands in Peri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map1_IN_P1_newVersion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Price to Harv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nclusion and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Management Have Cost Both in Timber NPV and Computer Runn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Spatial Model Give Different Type of Spatia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ne is better depending on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t Level Constraints Might Make Huge Different for Running Time but May of May not Cause Big NPV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Software Have Lim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ition is necessary to Deal With Big and Complicate Planning Proble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er Programming (I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Linear Programming (L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ecision Variables Are Inte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 Meth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eed Spati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aw (40 Ac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d Life 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Regene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of Thi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st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81952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434340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743200"/>
            <a:ext cx="16761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092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49568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191120"/>
            <a:ext cx="1676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209680"/>
            <a:ext cx="220968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209680"/>
            <a:ext cx="198108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666880"/>
            <a:ext cx="13716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 with Forest level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191120"/>
            <a:ext cx="1143000" cy="8240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 without Forest level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43240" y="47242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72200" y="32767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505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For Thi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8954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4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3962520"/>
            <a:ext cx="35816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48769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able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514600"/>
            <a:ext cx="28958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800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3341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971800" y="3657600"/>
            <a:ext cx="28195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438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result    and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Kinds of Spatial Model 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512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Restriction Model (U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Restriction Model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 Space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 and Cond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360" y="2362320"/>
            <a:ext cx="56386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I Format Pr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A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ly Built St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guous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Unit Restriction 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743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URM Look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Description of U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olution of U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3:45:13Z</dcterms:created>
  <dc:creator>Howard M. Hoganson</dc:creator>
  <dc:description/>
  <dc:language>en-US</dc:language>
  <cp:lastModifiedBy>Wei</cp:lastModifiedBy>
  <dcterms:modified xsi:type="dcterms:W3CDTF">2001-11-06T05:35:54Z</dcterms:modified>
  <cp:revision>50</cp:revision>
  <dc:subject/>
  <dc:title> Using Integer Programming Method to Solve Two Kinds of Forest Spatial Planning Problem</dc:title>
</cp:coreProperties>
</file>