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4E2D-14C4-4627-9743-27CB937D33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CBCF-5F55-447D-97FA-4ED9B563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AB7F-F64E-4611-95CD-197B26E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3D34F-2F68-4C35-A86B-3047F0C5A7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95F28-5B47-44A9-B91B-538C4891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F2018-9092-46F4-93D0-D48C7938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E2500-05D9-4474-A060-44C4B4C3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984FD-9903-436B-B3CC-4B8B34C2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0204F-E50B-4CFF-A198-7DDB9F21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A97BC-959D-4309-B7D6-6DF76317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28277-C174-4726-8D84-9604E2ED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41FC-AE28-43F4-8593-5E895DE6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6E5BC-193F-457F-A821-9AEDA024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85988-FFB7-4AE1-8D7D-A263FDF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A2B93-63A0-4170-95EF-D3609C39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E93DE-7475-468D-845E-4A312271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44995-6459-46AB-94D5-324B920A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759B-5BDC-4B0B-ACFA-F108AA1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967B-A595-4F80-B578-745F4BE9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A32E-56D4-426E-9C9A-A07CB10A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2968-09DA-402E-A3CC-2CEB2F4B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F132-436B-4E6B-A2EB-61F55831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9D7D-73EE-4FCA-89BD-360C13D7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9B43-7941-48FB-A040-039FB48E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ffordshire University E-Commerce (Group 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70D6-8DF2-4889-B25D-456C5F9BB4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289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8608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521480" y="0"/>
            <a:ext cx="16225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3E2E-F7E9-4BE7-801B-D814E66EC0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igboxx.com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igboxx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kprocure.com/" TargetMode="External"/><Relationship Id="rId3" Type="http://schemas.openxmlformats.org/officeDocument/2006/relationships/hyperlink" Target="http://www.ios-ios.com/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isign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ffordshire University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-Commerce Pres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site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bigboxx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ed by Group 8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ng Man (070124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Ling, Mark (070122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ng Fai Kin, Sam (070124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ng Tang Fung, Wyatt (070124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895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1859B-5D8D-4411-8451-C534D0CED4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924680" cy="55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23F4-5818-4181-9FFB-EC18622547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enue St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-intermediation of supply ch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d transaction and customer search costs and increased profit marg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ble Pric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 pricing for orders made by Internet, Phone or F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39DD-95AB-48EE-A1AB-92A249F16D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enue Stream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 Offerings for selected i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.g. Buy 1 Get 1 F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customers to buy more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62320" y="3124080"/>
            <a:ext cx="187956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3124080"/>
            <a:ext cx="189216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825D-268B-4E60-84A4-E00DB8CBEB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enue Stream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WL is a large corporation doing business with numerous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ed a huge customer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push technology to provide Hotspot news to custo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1917720" cy="157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309B-37EC-4072-B139-B75F1FAB0B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gistical St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-intermediation of supply ch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tomers select items and place orders with simple mouse clicks, no third party is involv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mediation of supply ch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and well organized catalogue of over 6,000 produ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ED9A3-7F60-43D8-A15F-4F37858FA4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eng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ers numerous products from lots of supplier (&gt; 6000 products, &gt; 100 suppli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bargaining powers over suppl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ts not depends on one or few of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EF8D7-F915-4F72-9651-A7EA3024ED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ength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solution that linked the backend and front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lly integrated enterprise solution (financial, logistics, sales, inventory, warehouse management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lines a number of business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er cost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management and utilize valued information automatically, accurately, and instant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6DA0-0B6F-40FD-A6E5-2F0B323DF2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ength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time procedure, online tracking and monitoring of order status, pricing information, inventory control and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no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mover in the 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ngs out differentiation among its competitors and customer lock-in eff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ed C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age overall direction not just basic customer relation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C05C-4072-460F-A5EF-2564569479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ength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confidence to customer that right people to be trus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y to form virtual organization (alliance) with other providers in a different market segment to serve a wider base of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DA13-F8C1-43F8-BB91-21C91EF120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k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b storefronts only automate one side of tr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adequate for B2B e-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tomers have to manually update their internal ordering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ract more competitors to enter the market because of high market reven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n competition implies stringent cost control and lower profit mar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AF35-748D-4E48-9F3C-83E5205F4F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cation of business model of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bigboxx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 model building blo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lue 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nue 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stical 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evaluation of strength and weak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veness &amp; business val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B8FD9-510A-43A4-8D14-FAB7A17A30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kness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gaining power against customers and suppliers will be limi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n on investment may not be as good as originally anticip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nsive setup cost (SAP) and operation cost (own delivery team/warehouse) with low profit marg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47978-C134-40A0-ADB9-EA5A43A440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kness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er delivery time for computers, printers, furniture (around 10-14 days) as compared with other orders (around 1-2 day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ld not identify user accounts as real business custo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ld not provide enforcement policies that fits for all compa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mitted orders cannot be cance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2AD4-0EC4-4088-B111-1AA1AA919F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etitive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ed e-procuremen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ior custome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liquidity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lable knowledge manage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icient supply chain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B6AA-69F2-4631-9C32-DC8B650225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etitiveness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stainable competitive advant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stop solution on office suppl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goes on-line in mark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st and accurate delivery (own delivery team) which is not achieved by its compet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79E1-0677-4162-BD6A-3AC87B0B25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siness Val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market is big (HK$5 billion/year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procurement market is fragmen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p 5 players control 25% of sh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m for new entrants to the mar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 other companies or SME to setup their own procurement poli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ve time and co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ED51-3D85-4B34-B790-7F3F4917BE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nchmark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Kprocure (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hkprocure.c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tional Office Supplies (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ios-ios.co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re market ma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Kprocure mainly targeted to S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OS – a place for buyers and sellers m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521D-9048-4263-9E85-90433ADC6C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nk You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BEF7-148C-41D4-803D-4017ECAC7C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boxx.com specialize in office supplies and services to corporations across H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holly owned subsidiary of Hutchison Whampoa Limited (HW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AD6E-EDAA-4415-A8E7-65D8432F12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siness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/Service Provi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ice Furniture &amp; Equipment Suppli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-procu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2B Electronic Comme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ote from bigboxx.co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boXX.com is a first of its kind B2B e-commerce portal specifically dedicated to serving office administrators and finance mana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82896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45E4-26B5-4CCB-93E0-7B2D9B578C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924680" cy="55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4808-9DF5-4A24-9EA2-1CAA7E8201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siness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a Portal (under business tools ta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information for auto rental, accommodation, travel servic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links to various government department f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A5E0-4A28-4B45-BB1A-90F77F84CA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7924680" cy="55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9D6C-1153-4785-B22F-D46B62FE02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lue Stre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eamlined procurement work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able order fulfillment and logistic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electronic catalogue which reduce search costs for buyers and sell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reputation which won several a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Award for Technology Deplo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5 November 200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zed at IT Excellence Awards 2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4 December 20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9F6D-075E-45D7-B981-B079803761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lue Stream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ine tutorial provide value to both buyer and suppl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ship with leading vendors in the industry which offer extra confidence to cust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SBC provide secure internet pa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iSign Secure Site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verisign.co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ent company (HWL) ensure financial 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urity and trust create a value pro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nt service centre differentiates from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A8E4-6E90-4730-B5F4-12289858E2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2:35:00Z</dcterms:created>
  <dc:creator>Wyatt Wong</dc:creator>
  <dc:description/>
  <dc:language>en-US</dc:language>
  <cp:lastModifiedBy>Wyatt Wong</cp:lastModifiedBy>
  <dcterms:modified xsi:type="dcterms:W3CDTF">2002-01-13T06:35:42Z</dcterms:modified>
  <cp:revision>93</cp:revision>
  <dc:subject/>
  <dc:title>E-Commerce Presentation (Group 8)</dc:title>
</cp:coreProperties>
</file>