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wmf" ContentType="image/x-wmf"/>
  <Override PartName="/ppt/media/image28.jpeg" ContentType="image/jpeg"/>
  <Override PartName="/ppt/media/image22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6.wmf" ContentType="image/x-wmf"/>
  <Override PartName="/ppt/media/image11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33.wmf" ContentType="image/x-wmf"/>
  <Override PartName="/ppt/media/image12.wmf" ContentType="image/x-wmf"/>
  <Override PartName="/ppt/media/image30.wmf" ContentType="image/x-wmf"/>
  <Override PartName="/ppt/media/image5.wmf" ContentType="image/x-wmf"/>
  <Override PartName="/ppt/media/image27.jpeg" ContentType="image/jpeg"/>
  <Override PartName="/ppt/media/image13.jpeg" ContentType="image/jpeg"/>
  <Override PartName="/ppt/media/image32.wmf" ContentType="image/x-wmf"/>
  <Override PartName="/ppt/media/image31.wmf" ContentType="image/x-wmf"/>
  <Override PartName="/ppt/media/image7.jpeg" ContentType="image/jpeg"/>
  <Override PartName="/ppt/media/image4.wmf" ContentType="image/x-wmf"/>
  <Override PartName="/ppt/media/image3.jpeg" ContentType="image/jpeg"/>
  <Override PartName="/ppt/media/image1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jpeg" ContentType="image/jpeg"/>
  <Override PartName="/ppt/media/image16.png" ContentType="image/png"/>
  <Override PartName="/ppt/media/image18.wmf" ContentType="image/x-wmf"/>
  <Override PartName="/ppt/media/image21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220-EB5B-4000-AFCF-329FFB90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625-9F4F-4956-BE3F-E47F5F6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84B-C4F3-404B-9107-5C773824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EA2-AF12-4459-BD03-1E498C47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FC38-374E-4B6B-AA0A-7D949972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BB73-B7E4-46AB-A2CC-CF42328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76DA-CF76-403F-9DF2-B3BB3F7E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31ED-B07B-4937-A746-FD347CA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8CE4-58A7-420C-9641-E422C9B0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9B44-98EC-4482-80E9-3F731DF9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37D9-A4F6-4249-BE2D-EBBC88F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7B4-06A8-404D-BCBC-1D8CA109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CCA4-9570-4621-ACCF-8B9A00E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CDF8-CCD5-4890-A0EB-3715A71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5101-56B5-450A-A0CE-3F041485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A29F-51F1-4BFF-A94E-576F1D41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44A4-B36E-4E89-9909-2B4AECD9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7BC-D375-43B5-A02E-37C3D692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701-F744-4DCA-85B4-C91E5DE4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E73-F43E-4277-B9DC-23D6067F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807-3C11-41D4-99E1-FF7248C8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230-868E-42A9-921B-D23D18C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BE0-259B-4F92-A00D-78CD608F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BDB-AF76-41DE-BA1A-884161E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9416-48CA-49B8-BC7F-971249A8C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3A73-22DB-42FF-985B-23D3C06BC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Berpikir Sebagai Ketrampilan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&amp;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Perangkat Lunak NeckTop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81280" y="30481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persiapkan oleh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abriel S.T. - HRD Consultan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agi mereka yang ingin maj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7" name="CODCO007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MAN4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1752480" cy="3504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76520" y="1600200"/>
            <a:ext cx="761760" cy="2209680"/>
          </a:xfrm>
          <a:custGeom>
            <a:avLst/>
            <a:gdLst>
              <a:gd name="textAreaLeft" fmla="*/ 101880 w 761760"/>
              <a:gd name="textAreaRight" fmla="*/ 659880 w 76176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5562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Escape  untuk  Stop &amp; Keluar; Enter untuk Lanju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med" advTm="15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 Narrow"/>
              </a:rPr>
              <a:t>Menginstalasi TOS  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 Narrow"/>
              </a:rPr>
              <a:t>“PSTS-</a:t>
            </a:r>
            <a:r>
              <a:rPr b="1" lang="en-US" sz="3600" spc="-1" strike="noStrike">
                <a:solidFill>
                  <a:srgbClr val="6600ff"/>
                </a:solidFill>
                <a:latin typeface="Arial Narrow"/>
              </a:rPr>
              <a:t>ke</a:t>
            </a:r>
            <a:r>
              <a:rPr b="1" lang="en-US" sz="3600" spc="-1" strike="noStrike">
                <a:solidFill>
                  <a:srgbClr val="003300"/>
                </a:solidFill>
                <a:latin typeface="Arial Narrow"/>
              </a:rPr>
              <a:t>-PLBTS”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90920" y="1142640"/>
            <a:ext cx="6324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S = Thinking Operating System (bandingkan dgn. DOS/ OS2 PC anda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PSTS = Pandangan Sekarang Terhadap Situas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PLBTS=Pandangan Lebih Baik Terhadap Situas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ke = menuju.  Buat loop PSTS-ke-PLB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leh ke kiri dan ke kanan = PSTS x 1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unakan Search Engine MLP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7" name="DOCTORB1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1457280" cy="3076560"/>
          </a:xfrm>
          <a:prstGeom prst="rect">
            <a:avLst/>
          </a:prstGeom>
          <a:ln w="0">
            <a:noFill/>
          </a:ln>
        </p:spPr>
      </p:pic>
      <p:pic>
        <p:nvPicPr>
          <p:cNvPr id="138" name="HEAD_ARROWS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2181240" cy="2276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 Narrow"/>
              </a:rPr>
              <a:t>Kekuatan 10 dan 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Arial Narrow"/>
              </a:rPr>
              <a:t>Lompatan Quant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ndangan ke sekeliling (360%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ari ini saya melihat 1, besok 10 atau hari ini 10 langkah, 10 hari lagi 100 langka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uliskan 10 hal yang INGIN anda lakukan.( A1 s/d A10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uliskan 10 hal yang DAPAT anda lakukan terhadap hal A1, A2, A3, A4, A5 dsb. di at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400" y="380880"/>
            <a:ext cx="1417680" cy="175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1752840" cy="1877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S dan Logik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anti TOS bervirus dengan TOS bebas Virus &amp; Logika mengikuti nant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Yang Penting “Open-Ended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OS = kebiasa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Kebiasaan adalah gabungan  3 T = Tahu, Trampil, Teka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rampil melalui praktek dan pengulangan serta latiha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6" name="6IAC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286000" cy="2210040"/>
          </a:xfrm>
          <a:prstGeom prst="rect">
            <a:avLst/>
          </a:prstGeom>
          <a:ln w="0">
            <a:noFill/>
          </a:ln>
        </p:spPr>
      </p:pic>
      <p:pic>
        <p:nvPicPr>
          <p:cNvPr id="147" name="CODCO014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2361960" cy="1828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 Narrow"/>
              </a:rPr>
              <a:t>Per-Lu KAH - Software Gay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Arial Narrow"/>
              </a:rPr>
              <a:t>Kualitas - Akui - Humo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1523520"/>
            <a:ext cx="6172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KAH Perangkat lunak “Gaya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LPP --&gt; Hasil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ngelola Proses, tinggalkan mengelola Hasil, karena  Proseslah  yang memproduksi Hasil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Kualitas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= Nilai Tambah. Adakan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Akui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: Diri Sendiri; Diri Orang Lain; Diri Sisti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Humor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: Sisi lain kecerdasan. Perhatikan paradoks dan keterkejut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0" name="6AGREE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1752480" cy="1638360"/>
          </a:xfrm>
          <a:prstGeom prst="rect">
            <a:avLst/>
          </a:prstGeom>
          <a:ln w="0">
            <a:noFill/>
          </a:ln>
        </p:spPr>
      </p:pic>
      <p:pic>
        <p:nvPicPr>
          <p:cNvPr id="151" name="LITEBULB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1981440" cy="2438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924680" y="5105520"/>
            <a:ext cx="990720" cy="1143000"/>
          </a:xfrm>
          <a:prstGeom prst="smileyFace">
            <a:avLst>
              <a:gd name="adj" fmla="val 928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035760"/>
            <a:ext cx="281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PerLu = Perangk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Luna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med" advTm="15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19760" cy="1143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Narrow"/>
              </a:rPr>
              <a:t>Perangkat-Lunak PUG - 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 Narrow"/>
              </a:rPr>
              <a:t>Praktek - Ulang - Glad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09320" y="1980720"/>
            <a:ext cx="6705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etrampilan berasal dari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ktek.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raktekkan, Praktekkan, Praktekka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ng: Ulangi praktek --&gt; Trampil/ Mahi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di: Praktek pengulangan terakhir sebelum produksi Hasil Akhir (Renungkan terjun payung beba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UG- PUG-PUG- PUG-PU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60020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SPGPE003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057400" cy="2819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engingat pen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hu =/= (tidak sama) Melakuk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lai” Dapat Memakan Waktu 20 tahun. Mulailah sekarang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onansi Kognitif : Konsekwensi Wajar Perubah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a Depan Di Tangan Anda Sendir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lajar dengan Metoda Segitig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0" name="WIGRUN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904760" cy="3124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ingkasan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ulai melakuka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canning, bersihkan VKP, dan instal Perangkat lunak otak Yang Asli, bebas dari Virus Kebenaran Plato (VKP).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ebas VKP = mendukung kita masuk masa depan yang penuh perubahan global akseleratif. Ini bukan tawaran tetapi keharusan jama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ingkasan 2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5640" y="17524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ecktop Anda adalah PC Pribadi Kapasitas “Dahsyat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ilihan Perangkat Lunak Necktop sesuaikan dengan masa depan yaitu Yang Bebas VK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stalasi MLPP dulu - Perangkat lunak pencarian (Search Engine) = “Yahoo” Neckto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6" name="hpmag" descr=""/>
          <p:cNvPicPr/>
          <p:nvPr/>
        </p:nvPicPr>
        <p:blipFill>
          <a:blip r:embed="rId1"/>
          <a:stretch/>
        </p:blipFill>
        <p:spPr>
          <a:xfrm>
            <a:off x="533520" y="358128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ingkasan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stal TOS - Thinking Operating System  fokus pad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STS-ke-PLB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tihlah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kuatan 1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rang yang mengaku ia ‘benar’ adalah ia yang tidak tahu “kebenaran”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590920" cy="2019240"/>
          </a:xfrm>
          <a:prstGeom prst="rect">
            <a:avLst/>
          </a:prstGeom>
          <a:ln w="0">
            <a:noFill/>
          </a:ln>
        </p:spPr>
      </p:pic>
      <p:pic>
        <p:nvPicPr>
          <p:cNvPr id="170" name="WOODMNB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1904760" cy="2514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81080" y="1066680"/>
            <a:ext cx="976320" cy="2057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med" advTm="15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 Narrow"/>
              </a:rPr>
              <a:t>Ringkasan 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8280" y="12949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akailah Program Aplikasi Gaya  “KAH”: Kualitas - Akui - Hum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LPP-kan kapan saja, di mana saja, bagaimana pun juga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KAH Pendukung semua Perangkat Lunak Ota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LPP + TOS + KAH mempercepat peningkatan ketrampilan lain yang anda miliki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365120"/>
            <a:ext cx="2514600" cy="4129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TAKECIL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1218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666880" y="1676520"/>
            <a:ext cx="6096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eningkatkan Ketrampilan Berpikir yang bebas dari Virus Virulent VKP (Virus Kebenaran Plato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enjadikan Indonesia Negara Cerdas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enjadi partisipan CAP (Change Acceleration Process/ Proses Akselerasi Perubahan) Perusa-ha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eran saya : Konsultan &amp; Fasilitator MSD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362320" cy="2658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erangkat Lunak Necktop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838080" y="1294920"/>
            <a:ext cx="1447920" cy="2210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609120" y="1371600"/>
            <a:ext cx="685800" cy="31240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56840" y="1371600"/>
            <a:ext cx="304920" cy="3733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62120" y="1371240"/>
            <a:ext cx="914400" cy="38098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838080" y="1371600"/>
            <a:ext cx="1447920" cy="3733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med" advTm="15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ingkasan 5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stal Perangkat Lunak “Pelatih Pribadi PUG”:  Praktek - Ulangi - Glad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gat Gladi untuk terjun payung bebas. Ingat perasaan anda dengan Gladi &amp; tanpa Glad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ndingkan  pengalaman anda sendiri yang sejen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2971800" cy="1211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362320" cy="4190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ingkasan 6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ngguna-otak Cerdas (Clever BrainUser) : 1999 = 50 ju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merika Serikat dan Australia memasuki SOT (School of Thinking) dalam kurikulum pokok sekolah th. 80;a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apkan diri jadi Bangsa Indonesia Cerdas + Umat TYM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mbiasaan memerlukan 3 T - Tahu, Trampil, Teka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105520"/>
            <a:ext cx="2890800" cy="761760"/>
          </a:xfrm>
          <a:custGeom>
            <a:avLst/>
            <a:gdLst>
              <a:gd name="textAreaLeft" fmla="*/ 505800 w 2890800"/>
              <a:gd name="textAreaRight" fmla="*/ 2095920 w 28908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2590920" cy="4267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ingkasan 7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MLPP  MLPP  MLPP  MLPP  MLPP  MLPP- MLP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STS-ke-PLBTS PSTS-ke-PLBTS PSTS-ke-PLBTS PSTS-ke-PLBTS PSTS-ke-PLBTS PSTS-ke-PLBTS PSTS-ke-PLB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AH KAH  KAH  KAH  KAH  KAH KAH  KA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UG  PUG  PUG  PUG  PUG  PUG  PU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1905120"/>
            <a:ext cx="976320" cy="866520"/>
          </a:xfrm>
          <a:prstGeom prst="rightArrow">
            <a:avLst>
              <a:gd name="adj1" fmla="val 50000"/>
              <a:gd name="adj2" fmla="val 28168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3048120"/>
            <a:ext cx="976320" cy="866520"/>
          </a:xfrm>
          <a:prstGeom prst="rightArrow">
            <a:avLst>
              <a:gd name="adj1" fmla="val 50000"/>
              <a:gd name="adj2" fmla="val 28168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648320"/>
            <a:ext cx="990720" cy="866520"/>
          </a:xfrm>
          <a:prstGeom prst="rightArrow">
            <a:avLst>
              <a:gd name="adj1" fmla="val 50000"/>
              <a:gd name="adj2" fmla="val 28583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5486400"/>
            <a:ext cx="97632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80880" y="837720"/>
            <a:ext cx="6782040" cy="4800600"/>
          </a:xfrm>
          <a:prstGeom prst="line">
            <a:avLst/>
          </a:prstGeom>
          <a:ln w="1522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med" advTm="15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676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 Narrow"/>
              </a:rPr>
              <a:t>Selamat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Menjadi Perintis Pengguna-Otak Cerdas Indonesia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00 x PSTS-ke-PLBTS tiap hari. Hanya 1 1/2 Menit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ink the Unthinkable  ( Pikirkan Yang Tidak Pernah Terpikirkan 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otice the Unnoticable ( Perhatikan Yang Tidak Terperhatikan 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ink Rich and Grow Rich ( Berpikirlah Yang Kaya dan Kembangkan Yang Kaya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2590920"/>
            <a:ext cx="2274840" cy="3200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rot="21145800">
            <a:off x="1204920" y="37746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PPOC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219320" y="4343040"/>
            <a:ext cx="121896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066680" y="3581280"/>
            <a:ext cx="1219320" cy="152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80880" y="5486400"/>
            <a:ext cx="2057400" cy="922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pa &amp; Mengapa PerLu Necktop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720" y="19807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eskTop - LapTop -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eckTop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tau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C-di-atas-Leher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- PalmTo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eckTop dimiliki semua orang sebagai anugerah TYME kepada Manusia kekurangan Softwar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erangkat Lunak NeckTop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sangat dibutuhkan sekarang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OT (School of Thinking) membuatnya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ink Global Act Local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1295640" cy="3933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Ketrampilan Berpiki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266652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endekatan baru: Berpikir Analog dengan Mengemud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erpikir = Ketrampilan yang dapat dilatihk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asaran : Ketrampilan berpikir kreatif yang  “mendarah-daging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4343400" cy="868320"/>
          </a:xfrm>
          <a:prstGeom prst="rect">
            <a:avLst/>
          </a:prstGeom>
          <a:ln w="0">
            <a:noFill/>
          </a:ln>
        </p:spPr>
      </p:pic>
      <p:pic>
        <p:nvPicPr>
          <p:cNvPr id="106" name="BRAIN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2210040" cy="2438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2120" y="30492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523880" y="1904760"/>
            <a:ext cx="6705720" cy="60948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124080"/>
            <a:ext cx="2209680" cy="228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590920"/>
            <a:ext cx="57150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med" advTm="15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 Narrow"/>
              </a:rPr>
              <a:t>Otak Kita PC Pribadi Dahsy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apasitas Necktpp PC Pribadi Anda &gt; seluruh PC di dunia bahkan gabungan Cray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ilihan perangkat lunak untuk Necktop suatu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keputusan strategis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ilih Sistim Operasi dan program aplikasi yang memberi KEDAULATAN AND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2286000" cy="2349360"/>
          </a:xfrm>
          <a:prstGeom prst="rect">
            <a:avLst/>
          </a:prstGeom>
          <a:ln w="0">
            <a:noFill/>
          </a:ln>
        </p:spPr>
      </p:pic>
      <p:pic>
        <p:nvPicPr>
          <p:cNvPr id="114" name="brain2" descr=""/>
          <p:cNvPicPr/>
          <p:nvPr/>
        </p:nvPicPr>
        <p:blipFill>
          <a:blip r:embed="rId2"/>
          <a:stretch/>
        </p:blipFill>
        <p:spPr>
          <a:xfrm>
            <a:off x="380880" y="1733400"/>
            <a:ext cx="2590920" cy="22384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 Narrow"/>
              </a:rPr>
              <a:t>Virus Kebenaran Plato (VKP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Di luar “kebenaran ini?”. Salah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ikotomi Salah/Benar saja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ikotomi Salah/Benar = Sumber Konflik, Kekerdilan, Hambatan Kemaju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enyebaran ke seluruh dunia dari abad-abad pertengaha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Telah ditemukan Anti-Virusny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440080" cy="4413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rogram Anti Virus untuk VKP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1800" y="1219320"/>
            <a:ext cx="5867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ybernetic :  aplikasi dalam peluru kendali Exorse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Kognetik = Cybernetik + Cognitive Scie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mus 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(salah)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hukum!) = Close-ended, harus diganti dengan ….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mus baru 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(salah)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MULAI)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LS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(teruskan) +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(benar)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N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(teruskan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496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880" y="3581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28600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419720"/>
            <a:ext cx="2570040" cy="1557000"/>
          </a:xfrm>
          <a:prstGeom prst="rect">
            <a:avLst/>
          </a:prstGeom>
          <a:noFill/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IF       = Kala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THEN= Mak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ELSE = Kala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tida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med" advTm="15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 Narrow"/>
              </a:rPr>
              <a:t>SOT - School of Thinking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5640" y="23619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T - nama dagang sekolah di Australia dan Amerik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T - sudah masuk kurikulum sekolah di A.S. dan Austral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OT sudah menyebar via Internet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et = Revolusi Informasi Keterbukaa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. 2000 ada 50 juta “Clever Brainusers”  di dun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2438280" cy="2247840"/>
          </a:xfrm>
          <a:prstGeom prst="rect">
            <a:avLst/>
          </a:prstGeom>
          <a:ln w="0">
            <a:noFill/>
          </a:ln>
        </p:spPr>
      </p:pic>
      <p:pic>
        <p:nvPicPr>
          <p:cNvPr id="128" name="COMPOTAK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096400" cy="1143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7240" y="60912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urfing dengan PerLu MLPP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- Mulai : Mulai memulai - dapat makan waktu 1 detik s/d 20 th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-  Lakukan : Gerakan; membawa konsekwensi; Konsekwensi = umpan balik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-  Perhatikan : Perhatikan hal “the unnoticeable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 Pikirkan: Pikirkan umpan balik untu ke ke MLPP lagi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1" name="ALIEN1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1828800" cy="295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3962520"/>
            <a:ext cx="1981440" cy="2895480"/>
          </a:xfrm>
          <a:prstGeom prst="lightningBol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05120" y="608400"/>
            <a:ext cx="1371600" cy="1295640"/>
          </a:xfrm>
          <a:prstGeom prst="lightningBol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5257800"/>
            <a:ext cx="153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PerLu =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Perangk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Luna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med" advTm="1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0:15:06Z</dcterms:created>
  <dc:creator>Gabriel S. Trisunjata</dc:creator>
  <dc:description/>
  <dc:language>en-US</dc:language>
  <cp:lastModifiedBy>Gabriel S.T.</cp:lastModifiedBy>
  <dcterms:modified xsi:type="dcterms:W3CDTF">2003-12-10T22:27:08Z</dcterms:modified>
  <cp:revision>27</cp:revision>
  <dc:subject/>
  <dc:title>Ketrampilan Berpikir</dc:title>
</cp:coreProperties>
</file>