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64B4-6C5B-4475-9DA1-973BC71A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4017-C63A-413B-807B-39FF7D77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F22A-B3FA-4347-94D7-379B0C1F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634-7F35-4645-9431-65B0C661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8788-7F2B-43BF-AF37-9DC4885D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AC94-3E19-41CB-8BE8-F35B1D3D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73B9-C44A-413D-BDE2-490DCABE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097A-D913-4B55-B1CB-892B2B60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4FBE-B4E9-4A6C-9C59-2C1E8040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5334-6514-4A59-A964-E011ADF4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C7AC-62C8-4422-820C-9BF4C9C3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0707-AA6E-4CBB-81E8-0A4863D1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3BAE-5268-437C-8B8F-E6BD50A39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urement of Biodiesel by oil companies 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1143000"/>
          <a:ext cx="8381880" cy="3219480"/>
        </p:xfrm>
        <a:graphic>
          <a:graphicData uri="http://schemas.openxmlformats.org/drawingml/2006/table">
            <a:tbl>
              <a:tblPr/>
              <a:tblGrid>
                <a:gridCol w="457200"/>
                <a:gridCol w="1143000"/>
                <a:gridCol w="1371600"/>
                <a:gridCol w="838080"/>
                <a:gridCol w="1219320"/>
                <a:gridCol w="990360"/>
                <a:gridCol w="685800"/>
                <a:gridCol w="685800"/>
                <a:gridCol w="99072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3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S.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Organizatio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3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Quantity(KL) workorder placed for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9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Rate (Rs/l)</a:t>
                      </a:r>
                      <a:r>
                        <a:rPr b="0" lang="en-US" sz="13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1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Year</a:t>
                      </a:r>
                      <a:r>
                        <a:rPr b="0" lang="en-US" sz="13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3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Party from which it is purchase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3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Blend use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3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Qty. used (KL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3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Tested i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OCL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jarat Oleo Chem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5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wari Buses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PCL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,2004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tizol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5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jarat, all vehic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PCL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n200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p. 2004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L,Mumba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re energy,USA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5,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10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mbai, BEST Buses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509080" y="530208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his points t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04920"/>
            <a:ext cx="39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Biodiesel per li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946080" y="1219320"/>
            <a:ext cx="8197560" cy="4190760"/>
            <a:chOff x="946080" y="1219320"/>
            <a:chExt cx="8197560" cy="4190760"/>
          </a:xfrm>
        </p:grpSpPr>
        <p:grpSp>
          <p:nvGrpSpPr>
            <p:cNvPr id="47" name=""/>
            <p:cNvGrpSpPr/>
            <p:nvPr/>
          </p:nvGrpSpPr>
          <p:grpSpPr>
            <a:xfrm>
              <a:off x="953280" y="1222560"/>
              <a:ext cx="8182080" cy="4183920"/>
              <a:chOff x="953280" y="1222560"/>
              <a:chExt cx="8182080" cy="418392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953280" y="1222560"/>
                <a:ext cx="3733920" cy="570240"/>
                <a:chOff x="953280" y="1222560"/>
                <a:chExt cx="3733920" cy="57024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1058400" y="1222560"/>
                  <a:ext cx="3523320" cy="57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6600"/>
                      </a:solidFill>
                      <a:latin typeface="Arial"/>
                      <a:ea typeface="Arial"/>
                    </a:rPr>
                    <a:t>Activiti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953280" y="1222560"/>
                  <a:ext cx="3733920" cy="57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4687560" y="1222560"/>
                <a:ext cx="1383840" cy="570240"/>
                <a:chOff x="4687560" y="1222560"/>
                <a:chExt cx="1383840" cy="5702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792320" y="1222560"/>
                  <a:ext cx="1173600" cy="57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6600"/>
                      </a:solidFill>
                      <a:latin typeface="Arial"/>
                      <a:ea typeface="Arial"/>
                    </a:rPr>
                    <a:t>Ra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6600"/>
                      </a:solidFill>
                      <a:latin typeface="Arial"/>
                      <a:ea typeface="Arial"/>
                    </a:rPr>
                    <a:t>(Rs. / Kg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687560" y="1222560"/>
                  <a:ext cx="1383840" cy="57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6072120" y="1222560"/>
                <a:ext cx="1285560" cy="570240"/>
                <a:chOff x="6072120" y="1222560"/>
                <a:chExt cx="1285560" cy="57024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6176880" y="1222560"/>
                  <a:ext cx="1075320" cy="57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6600"/>
                      </a:solidFill>
                      <a:latin typeface="Arial"/>
                      <a:ea typeface="Arial"/>
                    </a:rPr>
                    <a:t>Quantit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6600"/>
                      </a:solidFill>
                      <a:latin typeface="Arial"/>
                      <a:ea typeface="Arial"/>
                    </a:rPr>
                    <a:t>(Kg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072120" y="1222560"/>
                  <a:ext cx="1285560" cy="57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7358040" y="1222560"/>
                <a:ext cx="1777320" cy="570240"/>
                <a:chOff x="7358040" y="1222560"/>
                <a:chExt cx="1777320" cy="5702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7463160" y="1222560"/>
                  <a:ext cx="1566720" cy="57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6600"/>
                      </a:solidFill>
                      <a:latin typeface="Arial"/>
                      <a:ea typeface="Arial"/>
                    </a:rPr>
                    <a:t>Cos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6600"/>
                      </a:solidFill>
                      <a:latin typeface="Arial"/>
                      <a:ea typeface="Arial"/>
                    </a:rPr>
                    <a:t>(Rs.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7358040" y="1222560"/>
                  <a:ext cx="1777320" cy="57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953280" y="1792800"/>
                <a:ext cx="3733920" cy="443520"/>
                <a:chOff x="953280" y="1792800"/>
                <a:chExt cx="3733920" cy="443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058400" y="1792800"/>
                  <a:ext cx="352332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e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953280" y="1792800"/>
                  <a:ext cx="37339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4687560" y="1792800"/>
                <a:ext cx="1383840" cy="443520"/>
                <a:chOff x="4687560" y="1792800"/>
                <a:chExt cx="1383840" cy="44352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4792320" y="1792800"/>
                  <a:ext cx="117360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.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687560" y="1792800"/>
                  <a:ext cx="138384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6072120" y="1792800"/>
                <a:ext cx="1285560" cy="443520"/>
                <a:chOff x="6072120" y="1792800"/>
                <a:chExt cx="1285560" cy="44352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6176880" y="1792800"/>
                  <a:ext cx="107532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.2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072120" y="1792800"/>
                  <a:ext cx="128556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7358040" y="1792800"/>
                <a:ext cx="1777320" cy="443520"/>
                <a:chOff x="7358040" y="1792800"/>
                <a:chExt cx="1777320" cy="44352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7463160" y="1792800"/>
                  <a:ext cx="156672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6.4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358040" y="1792800"/>
                  <a:ext cx="17773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953280" y="2236680"/>
                <a:ext cx="3733920" cy="570600"/>
                <a:chOff x="953280" y="2236680"/>
                <a:chExt cx="3733920" cy="5706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1058400" y="2236680"/>
                  <a:ext cx="35233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st of collection &amp; oil extracti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953280" y="2236680"/>
                  <a:ext cx="373392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4687560" y="2236680"/>
                <a:ext cx="1383840" cy="570600"/>
                <a:chOff x="4687560" y="2236680"/>
                <a:chExt cx="1383840" cy="5706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4792320" y="2236680"/>
                  <a:ext cx="117360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3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687560" y="2236680"/>
                  <a:ext cx="138384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6072120" y="2236680"/>
                <a:ext cx="1285560" cy="570600"/>
                <a:chOff x="6072120" y="2236680"/>
                <a:chExt cx="1285560" cy="5706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6176880" y="2236680"/>
                  <a:ext cx="10753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072120" y="2236680"/>
                  <a:ext cx="128556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7358040" y="2236680"/>
                <a:ext cx="1777320" cy="570600"/>
                <a:chOff x="7358040" y="2236680"/>
                <a:chExt cx="1777320" cy="57060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7463160" y="2236680"/>
                  <a:ext cx="15667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4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358040" y="2236680"/>
                  <a:ext cx="177732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953280" y="2807280"/>
                <a:ext cx="3733920" cy="443520"/>
                <a:chOff x="953280" y="2807280"/>
                <a:chExt cx="3733920" cy="4435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058400" y="2807280"/>
                  <a:ext cx="352332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ess cake produce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953280" y="2807280"/>
                  <a:ext cx="37339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4687560" y="2807280"/>
                <a:ext cx="1383840" cy="443520"/>
                <a:chOff x="4687560" y="2807280"/>
                <a:chExt cx="1383840" cy="4435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792320" y="2807280"/>
                  <a:ext cx="117360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687560" y="2807280"/>
                  <a:ext cx="138384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6072120" y="2807280"/>
                <a:ext cx="1285560" cy="443520"/>
                <a:chOff x="6072120" y="2807280"/>
                <a:chExt cx="1285560" cy="4435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6176880" y="2807280"/>
                  <a:ext cx="107532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2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072120" y="2807280"/>
                  <a:ext cx="128556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7358040" y="2807280"/>
                <a:ext cx="1777320" cy="443520"/>
                <a:chOff x="7358040" y="2807280"/>
                <a:chExt cx="1777320" cy="4435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7463160" y="2807280"/>
                  <a:ext cx="156672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-) 2.2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358040" y="2807280"/>
                  <a:ext cx="17773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953280" y="3251160"/>
                <a:ext cx="3733920" cy="443520"/>
                <a:chOff x="953280" y="3251160"/>
                <a:chExt cx="3733920" cy="4435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1058400" y="3251160"/>
                  <a:ext cx="352332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rans-esterificati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953280" y="3251160"/>
                  <a:ext cx="37339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4687560" y="3251160"/>
                <a:ext cx="1383840" cy="443520"/>
                <a:chOff x="4687560" y="3251160"/>
                <a:chExt cx="1383840" cy="4435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792320" y="3251160"/>
                  <a:ext cx="117360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.6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687560" y="3251160"/>
                  <a:ext cx="138384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6072120" y="3251160"/>
                <a:ext cx="1285560" cy="443520"/>
                <a:chOff x="6072120" y="3251160"/>
                <a:chExt cx="1285560" cy="4435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6176880" y="3251160"/>
                  <a:ext cx="107532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072120" y="3251160"/>
                  <a:ext cx="128556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7358040" y="3251160"/>
                <a:ext cx="1777320" cy="443520"/>
                <a:chOff x="7358040" y="3251160"/>
                <a:chExt cx="1777320" cy="4435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7463160" y="3251160"/>
                  <a:ext cx="156672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.6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358040" y="3251160"/>
                  <a:ext cx="17773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953280" y="3695040"/>
                <a:ext cx="3733920" cy="570240"/>
                <a:chOff x="953280" y="3695040"/>
                <a:chExt cx="3733920" cy="5702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058400" y="3695040"/>
                  <a:ext cx="3523320" cy="57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ess cost of glycerin produce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953280" y="3695040"/>
                  <a:ext cx="3733920" cy="57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687560" y="3695040"/>
                <a:ext cx="1383840" cy="570240"/>
                <a:chOff x="4687560" y="3695040"/>
                <a:chExt cx="1383840" cy="5702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4792320" y="3695040"/>
                  <a:ext cx="1173600" cy="57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0 to 6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687560" y="3695040"/>
                  <a:ext cx="1383840" cy="57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6072120" y="3695040"/>
                <a:ext cx="1285560" cy="570240"/>
                <a:chOff x="6072120" y="3695040"/>
                <a:chExt cx="1285560" cy="5702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176880" y="3695040"/>
                  <a:ext cx="1075320" cy="57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.09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072120" y="3695040"/>
                  <a:ext cx="1285560" cy="57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7358040" y="3695040"/>
                <a:ext cx="1777320" cy="570240"/>
                <a:chOff x="7358040" y="3695040"/>
                <a:chExt cx="1777320" cy="5702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463160" y="3695040"/>
                  <a:ext cx="1566720" cy="57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-) 3.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358040" y="3695040"/>
                  <a:ext cx="1777320" cy="57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953280" y="4265640"/>
                <a:ext cx="3733920" cy="570240"/>
                <a:chOff x="953280" y="4265640"/>
                <a:chExt cx="3733920" cy="5702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1058400" y="4265640"/>
                  <a:ext cx="3523320" cy="57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st of Biodiesel per k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953280" y="4265640"/>
                  <a:ext cx="3733920" cy="57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687560" y="4265640"/>
                <a:ext cx="1383840" cy="570240"/>
                <a:chOff x="4687560" y="4265640"/>
                <a:chExt cx="1383840" cy="5702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4792320" y="4265640"/>
                  <a:ext cx="1173600" cy="57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687560" y="4265640"/>
                  <a:ext cx="1383840" cy="57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6072120" y="4265640"/>
                <a:ext cx="1285560" cy="570240"/>
                <a:chOff x="6072120" y="4265640"/>
                <a:chExt cx="1285560" cy="5702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6176880" y="4265640"/>
                  <a:ext cx="1075320" cy="57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072120" y="4265640"/>
                  <a:ext cx="1285560" cy="57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7358040" y="4265640"/>
                <a:ext cx="1777320" cy="570240"/>
                <a:chOff x="7358040" y="4265640"/>
                <a:chExt cx="1777320" cy="5702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7463160" y="4265640"/>
                  <a:ext cx="1566720" cy="57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.5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358040" y="4265640"/>
                  <a:ext cx="1777320" cy="57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953280" y="4835880"/>
                <a:ext cx="3733920" cy="570600"/>
                <a:chOff x="953280" y="4835880"/>
                <a:chExt cx="3733920" cy="5706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058400" y="4835880"/>
                  <a:ext cx="35233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st of Biodiesel per litr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Sp. Gravity 0.85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953280" y="4835880"/>
                  <a:ext cx="373392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687560" y="4835880"/>
                <a:ext cx="1383840" cy="570600"/>
                <a:chOff x="4687560" y="4835880"/>
                <a:chExt cx="1383840" cy="5706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792320" y="4835880"/>
                  <a:ext cx="117360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687560" y="4835880"/>
                  <a:ext cx="138384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6072120" y="4835880"/>
                <a:ext cx="1285560" cy="570600"/>
                <a:chOff x="6072120" y="4835880"/>
                <a:chExt cx="1285560" cy="5706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6176880" y="4835880"/>
                  <a:ext cx="10753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072120" y="4835880"/>
                  <a:ext cx="128556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7358040" y="4835880"/>
                <a:ext cx="1777320" cy="570600"/>
                <a:chOff x="7358040" y="4835880"/>
                <a:chExt cx="1777320" cy="57060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7463160" y="4835880"/>
                  <a:ext cx="15667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6.5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358040" y="4835880"/>
                  <a:ext cx="177732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" name=""/>
            <p:cNvSpPr/>
            <p:nvPr/>
          </p:nvSpPr>
          <p:spPr>
            <a:xfrm>
              <a:off x="946080" y="1219320"/>
              <a:ext cx="8197560" cy="4190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28600" y="57913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adding Sales Tax etc. the landed price at  oil depots comes to Rs. 26 per Li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3T03:19:21Z</dcterms:created>
  <dc:creator>ed</dc:creator>
  <dc:description/>
  <dc:language>en-US</dc:language>
  <cp:lastModifiedBy>ed</cp:lastModifiedBy>
  <dcterms:modified xsi:type="dcterms:W3CDTF">2005-07-03T03:23:18Z</dcterms:modified>
  <cp:revision>2</cp:revision>
  <dc:subject/>
  <dc:title>PowerPoint Presentation</dc:title>
</cp:coreProperties>
</file>