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F17-8EBE-45E3-BCC9-D0EDC8A1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638-F250-4EB7-88EF-E0B68376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CFB-DDE0-4B49-A075-28395967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617-688C-468C-A98D-8AA2BFDE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1FA-B41D-4747-BDB3-E155761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E68-4BDF-4F75-943F-DF22F69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7DA-737B-4071-90D8-C752FED5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C04-1D51-458C-AE26-A0F5D23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1D7-867E-44D5-B780-16146FF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C7B-68FC-4BFB-AC9D-12DCD66B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4E4-DD10-480F-8CE3-5CBE26B2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EB8-3D49-426E-9694-FC3BC1B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41E-2AC7-4E1F-A842-0A7E36F48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Monotype Corsiva"/>
              </a:rPr>
              <a:t>Tobacco.</a:t>
            </a:r>
            <a:br>
              <a:rPr sz="96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ccccff"/>
                </a:solidFill>
                <a:latin typeface="Monotype Corsiva"/>
              </a:rPr>
              <a:t>B</a:t>
            </a:r>
            <a:r>
              <a:rPr b="0" lang="en-US" sz="4800" spc="-1" strike="noStrike">
                <a:solidFill>
                  <a:srgbClr val="ccccff"/>
                </a:solidFill>
                <a:latin typeface="Monotype Corsiva"/>
              </a:rPr>
              <a:t>y:-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Monotype Corsiva"/>
              </a:rPr>
              <a:t>   M.Zohair Imtiaz</a:t>
            </a:r>
            <a:r>
              <a:rPr b="0" lang="en-US" sz="4400" spc="-1" strike="noStrike">
                <a:solidFill>
                  <a:srgbClr val="ccccff"/>
                </a:solidFill>
                <a:latin typeface="Monotype Corsiv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3333cc"/>
                </a:solidFill>
                <a:latin typeface="Monotype Corsiva"/>
              </a:rPr>
              <a:t>Sun Curing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6666ff"/>
                </a:solidFill>
                <a:latin typeface="Monotype Corsiva"/>
              </a:rPr>
              <a:t>Grading And Aging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ff"/>
                </a:solidFill>
                <a:latin typeface="Monotype Corsiva"/>
              </a:rPr>
              <a:t>Tobacco Calenda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1981080"/>
            <a:ext cx="7772400" cy="3946680"/>
            <a:chOff x="685800" y="1981080"/>
            <a:chExt cx="7772400" cy="3946680"/>
          </a:xfrm>
        </p:grpSpPr>
        <p:sp>
          <p:nvSpPr>
            <p:cNvPr id="57" name=""/>
            <p:cNvSpPr/>
            <p:nvPr/>
          </p:nvSpPr>
          <p:spPr>
            <a:xfrm>
              <a:off x="4495680" y="5241960"/>
              <a:ext cx="3962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Processing And Packin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24196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July Onwar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4724280"/>
              <a:ext cx="396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Leaf Buy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4724280"/>
              <a:ext cx="3809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July-Septe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4038480"/>
              <a:ext cx="3962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Cu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403848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May-Augu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3352680"/>
              <a:ext cx="3962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Harves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335268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End may- Mid Augus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2666880"/>
              <a:ext cx="3962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Transpla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" y="266688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March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1981080"/>
              <a:ext cx="3962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Seed S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1981080"/>
              <a:ext cx="3809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Times New Roman"/>
                </a:rPr>
                <a:t>December-Janu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26668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33526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40384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47242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52419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5927760"/>
              <a:ext cx="7772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1981080"/>
              <a:ext cx="0" cy="394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5680" y="1981080"/>
              <a:ext cx="0" cy="394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58200" y="1981080"/>
              <a:ext cx="0" cy="394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33520" y="464832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82880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96252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35268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71500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59092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334120"/>
            <a:ext cx="784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828800"/>
            <a:ext cx="0" cy="388620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1828800"/>
            <a:ext cx="0" cy="388620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80880" y="609120"/>
            <a:ext cx="9524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66ff"/>
                </a:solidFill>
                <a:latin typeface="Monotype Corsiva"/>
              </a:rPr>
              <a:t>Some Major Producers of Tobacco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Monotype Corsiva"/>
              </a:rPr>
              <a:t>China is the world's leading tobacco grower. The United States is a distant second, followed by India and Brazil. Italy, Indonesia, Turkey, Greece, and Zimbabwe are also major 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u="sng">
                <a:solidFill>
                  <a:srgbClr val="6666ff"/>
                </a:solidFill>
                <a:uFillTx/>
                <a:latin typeface="ReneLouis"/>
              </a:rPr>
              <a:t>Conclusion 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33cc"/>
                </a:solidFill>
                <a:latin typeface="Monotype Corsiva"/>
              </a:rPr>
              <a:t>Thanks T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6000" spc="-1" strike="noStrike">
                <a:solidFill>
                  <a:srgbClr val="6666ff"/>
                </a:solidFill>
                <a:latin typeface="Lucida Handwriting"/>
              </a:rPr>
              <a:t>Mr..Asif Zia</a:t>
            </a:r>
            <a:r>
              <a:rPr b="0" lang="en-US" sz="6000" spc="-1" strike="noStrike">
                <a:solidFill>
                  <a:srgbClr val="000000"/>
                </a:solidFill>
                <a:latin typeface="Lucida Handwriting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14400"/>
            <a:ext cx="16383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No</a:t>
            </a:r>
            <a:endParaRPr b="1" i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 u="sng">
                <a:solidFill>
                  <a:srgbClr val="ccccff"/>
                </a:solidFill>
                <a:uFillTx/>
                <a:latin typeface="Monotype Corsiva"/>
              </a:rPr>
              <a:t>OutLine</a:t>
            </a:r>
            <a:r>
              <a:rPr b="0" lang="en-US" sz="8000" spc="-1" strike="noStrike" u="sng">
                <a:solidFill>
                  <a:srgbClr val="ccccff"/>
                </a:solidFill>
                <a:uFillTx/>
                <a:latin typeface="Monotype Corsiva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Monotype Corsiva"/>
              </a:rPr>
              <a:t>History Of Tobac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Monotype Corsiva"/>
              </a:rPr>
              <a:t>Curing Of Tobac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Monotype Corsiva"/>
              </a:rPr>
              <a:t>Aging And Grading Of Tobac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Monotype Corsiva"/>
              </a:rPr>
              <a:t>Tobacco Calen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Monotype Corsiva"/>
              </a:rPr>
              <a:t>Conclu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33"/>
                </a:solidFill>
                <a:latin typeface="Monotype Corsiva"/>
              </a:rPr>
              <a:t>Tobacco: -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152280" y="5943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Monotype Corsiva"/>
              </a:rPr>
              <a:t>Plant Of Tobacco.       Leaf Of Tobac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6666ff"/>
                </a:solidFill>
                <a:uFillTx/>
                <a:latin typeface="Monotype Corsiva"/>
              </a:rPr>
              <a:t>History of Tobacco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ff"/>
                </a:solidFill>
                <a:latin typeface="Monotype Corsiva"/>
              </a:rPr>
              <a:t>CURING OF TOBACCO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9068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ff"/>
                </a:solidFill>
                <a:latin typeface="Monotype Corsiva"/>
              </a:rPr>
              <a:t>Types Of Curing.</a:t>
            </a:r>
            <a:r>
              <a:rPr b="0" lang="en-US" sz="7200" spc="-1" strike="noStrike">
                <a:solidFill>
                  <a:srgbClr val="6666ff"/>
                </a:solidFill>
                <a:latin typeface="Lucida Handwriting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Monotype Corsiva"/>
              </a:rPr>
              <a:t>Flue Curin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Monotype Corsiva"/>
              </a:rPr>
              <a:t>Air Cur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Monotype Corsiva"/>
              </a:rPr>
              <a:t>Fire Cur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Monotype Corsiva"/>
              </a:rPr>
              <a:t>Sun Curin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6666ff"/>
                </a:solidFill>
                <a:latin typeface="Monotype Corsiva"/>
              </a:rPr>
              <a:t>Flue Curing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6666ff"/>
                </a:solidFill>
                <a:latin typeface="Monotype Corsiva"/>
              </a:rPr>
              <a:t>Air Curing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00000"/>
                </a:solidFill>
                <a:latin typeface="Monotype Corsiva"/>
              </a:rPr>
              <a:t>Fire Curing Barns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4T13:44:05Z</dcterms:created>
  <dc:creator>Zohair Imtiaz</dc:creator>
  <dc:description/>
  <dc:language>en-US</dc:language>
  <cp:lastModifiedBy>Zohair Imtiaz</cp:lastModifiedBy>
  <dcterms:modified xsi:type="dcterms:W3CDTF">1996-07-07T18:34:14Z</dcterms:modified>
  <cp:revision>25</cp:revision>
  <dc:subject/>
  <dc:title>OutLine</dc:title>
</cp:coreProperties>
</file>