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5F00-F448-4C40-A1CC-D877289F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021D-26ED-4625-92C7-A28BABE5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3F08-69DC-46AC-A35F-2D5FA387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E7C4-7894-4B6E-916C-030EBF31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5AD6-A22E-4DCB-A35E-23FA9285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CB7-7E23-4BF6-A2E7-E18539E9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9B3-F308-41B6-BED9-3820C75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7915-E2CD-4473-BBF7-96FC8B06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35D8-332D-488A-A646-37031BC4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1E60-626F-41CA-A47C-EB947684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85C-D135-4153-A696-181FFA1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DADE-9AFE-4652-90E7-0788BBE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5D3-1B7F-40FA-AE3A-3839EE4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CF2A-D28F-4AD2-8013-449516D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E4B8-5B0A-419F-B2B3-26BABE9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E240-3B65-4885-921A-0E43F140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AAA7-396F-454C-9B9C-5DE7BF11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1B47-CB9A-4318-9E6B-6C431BF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7784-266D-45B0-9C0A-D4E8C15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7F65-B3A2-42B1-817C-09550F80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EE67-10A1-47B7-9A98-4528FDE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131B-B44C-47B9-87B9-C2D6790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7A16-D34F-4ECE-A2CB-A21D4AA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1010-8C3F-4424-ABB3-45C8411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4CFE-4C99-48CC-BD35-7BB23A2E8A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9B7-427E-41D3-AD4A-D1C7802B56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PIK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KANAK-KANAK BERMASALAH KOMUNIK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 MASALAH KOMUNIK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KEMBANGAN PERTUTURAN DAN BAHA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AK-KA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AK-KANAK MASALAH PERTUTU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ALAH BAH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LEWATAN BERTU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PERLUAN PENDIDI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KHIDMATAN SOKO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KEPERLUAN PENDIDIKAN KANAK-KANAK BERMASALAH KOMUNIKAS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didikan awal kanak-kan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ngkat sekolah rendah dan meneng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si dan alam dew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KHIDMAT SOKONGAN UNTUK KANAK-KANAK MASALAH KOMUNIKAS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hidmat nasi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khidmatan berger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jadualan intens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ik Re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las k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kolah K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at diagnos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ATEGI INTERVENSI UNTUK  KANAK-KANAK MASALAH KOMUNIKAS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A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DEKATAN INTERAK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SI ALTERNA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FINISI MASALAH KOMUNIKAS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si adalah satu proses menghantar atau menerima maklumat / idea. Ia merupakan proses aktif yg melibatkan pengirim (penutur) dan penerima (pendeng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an kategori Masalah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asalah Pertutu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asalah Bah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salah Pertutura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urut IDEA- “Suatu masalah komunikasi seperti gagap, masalah penyebutan, masalah bahasa, atau masalah suara yang memberi kesan yang kurang baik terhadap pencapaian dalam pelajara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alah pertuturan merupakan kecacatan suara, penyebutan bunyi-bunyi pertuturan, atau kelancaran. Kecacatan ini dapat dilihat dalam penyampaian dan penggunaan simbol-simbol lisa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SALAH BAHAS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lah  bahasa adalah kelemahan dalam pemahaman, lisan dan tulisan. Masalah ini mungkin melibatkan kelemahan dalam bentuk bahasa, kandungan bahasa dan pragmatik bahas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PERKEMBANGAN PERTUTURAN DAN BAHASA KANAK-KAN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r-unsur Pertutu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ara – tinggi / rendah, kekuatan, kuali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Bunyi – kuat /lemah / nya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rtikulasi – melibatkan gigi, lelangi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bir dan lidah mempengaruhi buny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Kelancaran – tanpa teragak-agak ata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ekat semasa komunika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KATEGORI MASALAH PERTUTURA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LAH ARTIKUL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Bunyi pertuturan yg ab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yebabkan percakapan tidak tepa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au tidak sesu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nca masala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mbing bibir, cacat lidah, kelumpuh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ak, peniruan pertuturan dan fakto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ekita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KATEGORI MASALAH PERTUTURA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LAH SU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kualiti bunyi suara yg tidak normal ketika kanak-kanak bercakap – nada, kualiti, punca su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LAH KELANCA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kadar dan kelicinan pertuturan seseorg. Cth. Gaga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KELEWATAN BERTUTU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urangan dalam keupayaan bertutur yg berlaku dalam kadar yg lambat dari normal / pertuturan yg tidak sesuai dgn peringkat um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bb kelewatan bertutu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ecerdasan yg renda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ikap ibu ba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eluang bertutur yg terhad di rum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bu bapa gagal merangsang anak bertu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urang motivasi dr. ibu bap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SALAH BAHAS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si – suatu lambang pertuturan yg dipersetujui oleh sesuatu kelompok manusia dan digunakan sebagai alat untuk berkomunika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lah Bahasa Reseptif dan Ekspres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pt dikesan melalui perhatian sewaktu aktiviti pembelajaran di dalam kelas, luar kelas, ketika bermain d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4:33:20Z</dcterms:created>
  <dc:creator>FATIMAH ADAM</dc:creator>
  <dc:description/>
  <dc:language>en-US</dc:language>
  <cp:lastModifiedBy>FATIMAH ADAM</cp:lastModifiedBy>
  <dcterms:modified xsi:type="dcterms:W3CDTF">2006-10-06T13:30:11Z</dcterms:modified>
  <cp:revision>6</cp:revision>
  <dc:subject/>
  <dc:title>  </dc:title>
</cp:coreProperties>
</file>