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36E-FA40-4453-8F7A-B2F1A56A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EE7-D4FE-4684-91AB-C3EBAB77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94B-F056-40A2-B2C1-02112740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478-3417-4CBE-BD9C-17413F5A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EFBE2-924F-48E0-B68A-5D050793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5223A-79E3-4B9E-959E-9F27D683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B8F1B-FB56-4E17-A85A-6CEB9A22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BC372-105D-42A6-BE64-64747ED4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87474-1DC9-45B1-BA4B-3F3C656B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619A8-88AF-47E7-989B-B46485E6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C2D58-298A-4EAF-981B-977442C7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D0F-2B5E-4085-B47B-1CD755F0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E7299-0AD8-4740-BF28-FB151B40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6BD8C-98BD-4408-B90E-CE3069A1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F9FE1-626C-48B4-ACA7-DD23625E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4E1FB-B733-49AE-998C-D33326F8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0C83E-E2AC-4562-B35F-39C15A70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02F-ABEE-4DF1-B2CC-41BB4720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B9A-E21B-44F3-9382-93A3F87D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E62-FFC9-416C-B2A7-5645E2B1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508-9ED1-4529-887D-4EBA8E5E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533-B37F-4B16-AFF8-4C96C343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816-5511-458A-BCDE-B5B6E734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00F-8E2B-41B7-8C15-FC923DC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E0E6-8677-4DC3-AD8E-60659E1038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6CAF-6E81-4F08-B46D-B60D61B8C6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TOPIK 6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MASALAH PEMBELAJARAN KHUSUS: KANAK-KANAK LEMBAM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spektif Seja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a diimplementasikan pada 1967 melalui Pendidikan kelas pemulih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hun 2000, Jab. Pendidikan Khas melaksanakan Program Pemulihan K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KANAK-KANAK LEMBAM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isi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urut Hallahan dan Kaufman 2006- Sebagai satu atau lebih kecelaruan pada proses asas psikologikal kanak-kanak yang mengaitkan pemahaman atau penggunaan bahasa yg boleh menganggu kemahiran mendengar, berfikir, bertutur, membaca, menulis, mengeja dan mengi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KANAK-KANAK LEMBAM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berapa jenis kecelaruan yang mempunyai ciri-ciri perkembangan yang tidak sempurna spt perkembangan kemahiran akademik, bahasa dan pertutu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iri-Ciri Kanak-Kanak Lemba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e 2001- ciri-cir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 Ciri-ciri Kogni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Q tahap 85 atau leb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eupayaan memberi perhatian, mengumpul atau memproses adalah lamb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udah hilang tumpuan, membuat kesalahan disebabkan kecuaian, keupayaan menyiapkan tugasan, keupayaan melaku turutan tugas dan sering menganggu kaw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esukaran memproses maklu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iri-Ciri Kanak-Kanak Lemba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iri-Ciri Akadem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Kemahiran 3M- ketara kesukaran membaca, kesukaran menguasai kemahiran Matematik spt mengingat makna kepada simbol-simbol, mengingat turutan dan proses menyelesaian masa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iri-Ciri Sosial – Emosi yg komp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erkembangan Kanak-Kanak Lemba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kembangan adalah berbeza dan memerlukan proses pembelajaran yg berbeza dan sokongan dan bimbingan dari guru yg berbe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nak-kanak ini dapat berkembang spt kanak-kanak normal melalui pendidikan k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erkhidmatan Pendidikan Khas Bagi Kanak-Kanak Lemba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empatan dan Perkhidmatan Berkai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adakan Program Jangka Panjang- utk mengurang dan mencapai bilangan sif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Pendidikan Khas “ memulihkan masalah seawal yang mungkin” mulai thn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embelajaran dan Pengajaran Bagi Kanak-Kanak Lemba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belajaran mereka bertujuan untuk meminimumkan ketidakupayaan mereka agar tidak menjejas peringkat-peringkat pembelajaran seterus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ubahsuaikan Kurikulum untuk Kanak-Kanak Lemb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engenalpastian &amp; Penilaian/ Ujia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i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Rancangan Pendidikan Indivi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engubahsuaian kurikulum pengayaan da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engajaran Kanak-Kanak Lemba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ubah yang Abstrak kepada konk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kkan daripada membuat generalis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olehkan kemahiran asas membentuk Sub-Skill 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jaran secara kesaling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jaran Secara Te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59:33Z</dcterms:created>
  <dc:creator>FATIMAH ADAM</dc:creator>
  <dc:description/>
  <dc:language>en-US</dc:language>
  <cp:lastModifiedBy>FATIMAH ADAM</cp:lastModifiedBy>
  <dcterms:modified xsi:type="dcterms:W3CDTF">2006-11-01T14:59:52Z</dcterms:modified>
  <cp:revision>4</cp:revision>
  <dc:subject/>
  <dc:title>TOPIK 6 MASALAH PEMBELAJARAN KHUSUS: KANAK-KANAK LEMBAM</dc:title>
</cp:coreProperties>
</file>