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D89-6348-443C-945D-A842A9CF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04F-016B-4F0A-802C-86E4766D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E04-12C7-4FC1-8AB9-5C3BE311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ABE-48CF-4FBE-A74C-12DFFA6C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F06C-7E90-4BAD-9E97-CD1AE313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E0C5-7354-448E-BF9B-4E11AAED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329A-937A-4017-B962-0F50396E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C32B-96FF-4341-ABB5-E7FAE644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0147-7BB8-499B-983F-7176289B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79DE-A33F-4090-B987-B31C6C55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2FD4-7D70-44A2-A32E-2993020E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C0B-5D99-4858-A7F5-250344B2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76A3-6AB2-4243-946D-DA6326EC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86AA-B75D-4C2D-ACCC-B6C7CA22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008B-D135-4D11-9265-87AD9A89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6048-E553-4727-96F1-EA905864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3F39-C7BA-4E2E-8A2C-E139ADCB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C6EF-C3AB-44EC-B85F-08277D60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3CF-7724-4BEB-B5F1-86E14557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17B-3494-4002-BC81-28B7E6FB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BA8-C872-44BC-A942-6BCCD4C9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FFD-21DA-42A5-AD81-3C70A960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C61-C58D-4CF3-848F-DBCAAC6D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4B3-AEF1-4AE7-ABD8-33BE716A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C592-9ED8-4BB3-A601-79A100CEE9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1215-5F06-4E6A-8A62-F155D1108B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K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AK-KANAK DENGAN AUT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s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ak-kanak berada dalam duniany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atuan Autisme Amerika Syarika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tidakupayaan yg rencam yg pada kebiasaannya kelihatan pada masa kanak-kanak berumur belum 3 tahun.Keadaan ini adalah kesan drp kecelaruan nuurologikal yg mengganggu fungsi ot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laksanaan Pembelajaran Kanak-Kanak Autis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erlukan kerjasama yg erat dgn ibu bapa supaya ibu bapa dapat menyambungkan kemahiran di rum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lu Pendidikan Inklusif yg ditemani dgn guru pendam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unca Autis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i segi gene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lah sebelum dan selepas kelahiran spt jangkitan rubella, kekurangan oksigen semasa lahir, keracunan makanan dan bengkak can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fungsian ot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celaruan autoimmune dan persekita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ri-Ciri Autis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urut Jamila K.A.Mohamed (2005)- membahagikan ciri-ciri kpd 6 bida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ksi sos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ngguan d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a ber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gkah l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kembangan Kanak-Kanak Autis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kembangan Kogni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umpuan singkat dan berlebi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enerima imput drp deria dl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gkamasa yg pend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idak mampu menumpu perha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empunyai bakat luar biasa spt seni d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z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kembangan Kanak-Kanak Autis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kembangan Bah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hasa terhad dan tidak fleksi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lah baha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nsemental Pho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hasa Idiosinkra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salah kata ganti n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kol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kembangan Kanak-Kanak Autis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kembangan Komunika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ereka tidak mempunyai sebarang niat dan keinginan utk berkomunikasi dgn org 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kembangan Sos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ereka cuba mengelak bertentang mata dgn org lain ketika bercakap, tidak mahu memulakan perbualan dan tidak suka bermain dgn org 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kembangan Em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idak suka kepada org lain dan kadang kala kemesraan yg melamp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ngujian Untuk Kanak-Kanak Autis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is-jenis ujian yg bia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jian Kecerda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jian Tingkah l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khidmatan Intervensi Untuk Kanak-Kanak Autis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atan perubatan – penggunaan ubatan ritalin – mengubat masalah kurang tumpuan dan hiperakti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urusan tingkah laku – utk mengekalkan tingkah laku sasaran dan mengurangkan tingkah laku kurang sesu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intervensi awal dimulakan semasa prasekolah- dalam kemahiran urus diri dan pengenalan asas dlm m/pelajaran BM, MM, Agama dan M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perluan Pembelajaran Kanak-Kanak Autis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ekolah kerajaan bagi autisme ri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pusat-pusat Pemulihan Dalam Komuniti yg disediakan oleh Jab. Kebajikan Masyarak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pusat-pusat pendidikan sw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5:38:11Z</dcterms:created>
  <dc:creator>FATIMAH ADAM</dc:creator>
  <dc:description/>
  <dc:language>en-US</dc:language>
  <cp:lastModifiedBy>FATIMAH ADAM</cp:lastModifiedBy>
  <dcterms:modified xsi:type="dcterms:W3CDTF">2006-10-14T02:36:54Z</dcterms:modified>
  <cp:revision>3</cp:revision>
  <dc:subject/>
  <dc:title>TOPIK 4 KANAK-KANAK DENGAN AUTISME</dc:title>
</cp:coreProperties>
</file>