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F3C-7F65-4356-A059-85F3FC5D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E4B-85D6-47A8-9C47-007B58BA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538-9E3C-4FC6-A685-6211904E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A06-B9B5-4964-911F-9C04DEE5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73B1-6245-4DCB-B53A-68D3AF8B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A3EE-2FE7-492C-AD3A-82C4DAC7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01FA-8CC1-4E5D-8D4A-EC7A5FB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8984-E9DD-46B7-8270-32B0407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17CF-2AB6-484D-A988-AC675055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CFBC-3F57-43C0-A842-66D4795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107D-2C55-4E0F-B0F1-1B1DDFD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99D-74CA-46AC-A79C-A336EF69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B75-6A1F-4E03-83FA-4BEA2CB4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0BD0-7C6E-4BE3-A720-B406E3B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884F-D912-43E6-98D3-49AE94D5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FE4E-B6D7-4205-AB0A-983A9C14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BF80-AA15-4338-809B-E536AC2E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AAE-B598-486C-A925-81D92C9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DD2-CA97-470F-A516-30B43227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209-5FF0-4C31-90D7-9A916BB1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96B-9EA3-4DAE-AC73-335B7D3B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15F-6A77-45B3-9A84-F62EAD0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B23-FBEC-44D3-BB41-A0272385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ACF-6CFC-4089-9693-0F2BDA08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A5B-0353-49D6-A8D1-8BDDC13EF50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0F7D-78EE-4E85-94D8-C959121ED80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3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OPIK 8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ASALAH PEMBELAJARAN KHUSUS: PALSI SEREBER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088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e39d"/>
                </a:solidFill>
                <a:latin typeface="Arial"/>
              </a:rPr>
              <a:t>Definisi Kanak-Kanak Palsi Serebr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e39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dee39d"/>
                </a:solidFill>
                <a:latin typeface="Arial"/>
              </a:rPr>
              <a:t>Palsy”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idak dapat mengawal otot-otot dengan sepenuhnya / kelumpuhan anggota bahagian tangan, kaki, leher dan tulang belaka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e39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dee39d"/>
                </a:solidFill>
                <a:latin typeface="Arial"/>
              </a:rPr>
              <a:t>Cerebral”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erkaitan dengan ota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dalah kecacatan anggota disebabkan oleh cacat hubungan saraf di antara bahagian otak dengan bahagian badan semasa dilahirkan atau pada awal us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enilaian Pembelajaran Kanak-Kanak Palsi Sereber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nilaian berterusan- melalui proses pembelajaran program kha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nilaian terhadap kemahiran pergerakan mot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nilaian terhadap kemahiran ADL- utk mengukur tahap pencapaia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nilaian terhadap kemahiran berbahasa dan pertutur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ngajaran latihan dan senama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enis-Jenis Palsi Sereber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rdapat 4 jeni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si Sereberal Spasti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si Sereberal ‘Athetoid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si Sereberal ‘Ataxia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si Sereberal Gabung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lasifikasi Palsi Sereber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onople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miple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ple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ple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adriple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iri-Ciri Kanak-Kanak Palsi Sereber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ergerakan anggota badannya, samaada pergerakan tangan atau kakiny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salah otot-otot mencerut yg menyebabkan pergerakan terbata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encerutan otot yg luar biasa menyebabkan tulang belakang membengkok dan pengalihan tulang pingg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engidap penyakit lain spt. Epilepsi, masalah penglihatan dan terencat ak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ahap intelek boleh berada di atr. Pintar cerdas dengan terencat ak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salah pergerakan motor- menyebabkan masalah untuk makan atau menelan makana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erkembangan Kanak-Kanak Palsi Sereber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idak terdapat sebarang rawatan untuk merawat palsi seleber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oleh dirawat melalui mengambil medikasi atau pembedahan yg boleh mengurangkan keteganga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enggunakan alat bantuan ‘orthotics’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enggunakan kerusi roda dan alat bantuan berjala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lat gantian anggota badan yg digerakkan oleh stimuli eletri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lat boleh ubah kedudukan untuk mengelak berlakunya keresahan kulit, menggalakkan pertumbuhan tulang dan utk keselesaa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riteria Kelayakan Perkhidmatan Pendidikan Kha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i Malays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Kriteria Penentua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Proses Penentua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Penempatan dan Perkhidmatan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erkaita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i Luar Negar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Amerika Syarikat – termasuk dalam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anak-kanak khas kecacatan ortopedik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IDEA melindungi khas golongan ini- ditempatkan di tempat asuhan khas- disediakan dalam bentuk kemahira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Ditubuhkan sekolah khas, sekolah kaloborasi, intervansi dan khas yg ditubuhkan oleh golongan pakar dan pembantu pengasuh mengendalikan program dgn bantuan ibu bap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enempatan dan Perkhidmatan Berkaitan Palsi Sereber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si Sereberal Ringan – Sekolah Biasa Kem. Pel. Malaysia (JPKha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si Sereberal Sederhana –Sekolah Khas Kem. Pel. Malaysia (JPKha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si Sereberal Serius – Pusat Asuhan Khas NGO atau Kem. Perpaduan Negara &amp; Pembangunan Masyarak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embelajaran dan Pengajaran Kanak-Kanak Palsi Sereber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ahap Pencapaian dan Pengubahsuaian Kurikulu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Kanak-kanak khas memerlukan program kha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Kanak-kanak kecacatan ringan- pencapaian akademik seperti kanak-kanak normal- kelas-kelas biasa dan sukatan bias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Kecacatan sederhana / berat- mempengaruhi kecacatan minda- dikendalikan oleh golongan pakar menggunakan penubatan khas di sekolah Pendidikan Khas yg diselitkan dgn program kemahira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Kumpulan Serius- ditempatkan di pusat-pusat asuhan khas , Jab. Kebajikan Masyaraka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Di Selangor dan Kuala Lumpur- terdapat Persatuan Kanak-Kanak Spastik (NGO) dengan bantuan kewangan Kerajaan Negeri dan Pusa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Pelaksanaan Pembelajaran dan Pengajaran Kanak-Kanak Palsi Sereberal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rogram bergantung kepada tahap kecacatan dan keperluan merek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Golongan yg terlibat spt pakar terapi fizikal, pakar patologi bahasa-pertuturan, guru Pendidikan Khas,Pakar Perubatan dan Jururawat dan ahli keluarg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ersekitaran yg selamat dan kondusif harus disediaka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rogram aktiviti kehidupan harian- melatih penyesuaian merek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emerlukan khidmat pakar terapi fizikal – spt. Berguling-guling, duduk, berjala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asalah komunikasi memerlukan intervensi aw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rogram fisioterapi termasuk rawatan individu spt. Menunggang utk golongan kh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emerlukan peralatan atau media kh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umbangan idea dan pengetahuan dari golongan dan pakar-pakar bidang kha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0:26:02Z</dcterms:created>
  <dc:creator>FATIMAH ADAM</dc:creator>
  <dc:description/>
  <dc:language>en-US</dc:language>
  <cp:lastModifiedBy>FATIMAH ADAM</cp:lastModifiedBy>
  <dcterms:modified xsi:type="dcterms:W3CDTF">2006-11-03T12:44:25Z</dcterms:modified>
  <cp:revision>4</cp:revision>
  <dc:subject/>
  <dc:title>TOPIK 8 MASALAH PEMBELAJARAN KHUSUS: PALSI SEREBERAL</dc:title>
</cp:coreProperties>
</file>