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53D3-0187-45CF-8384-A53637B78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CB199-C589-4310-A02C-7BC85C75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C3439-24FE-4EBD-9D8B-FBD719621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844A1-0DCA-420F-B882-2C13631C2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BF29C-05A4-4312-947F-EE31C9537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F1368-E274-4D22-8A13-FBD1A69A9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26C7E-F1EF-4939-AB56-D6250D0CA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60CD4-75E7-42D1-92BA-49D862BE8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50C71-F2AD-4E11-9C81-D66D469E5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E9FE8-DEF4-4F10-A5C7-D00B4B076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DC967-1DD1-4713-9E7D-35504DA32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041C2-9852-4AB1-B060-432538AA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937B2-6702-4FF6-8038-7E971FBD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BB0CB-46CE-476D-B463-EC2BD2115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40E08-6D81-4AAF-99DC-6281226A0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4239F-E228-402B-8AFA-D2F356543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3041B-5F6E-4F1A-8A54-CBF08B485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AC8F-D3A5-4CFD-9103-FBD32BB23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BF48F-599C-4D86-AC26-9E2A26820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8493E-5311-4A1A-AB4F-169DF7A6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3155-0D28-47B2-B762-48529B639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4B04-4442-4F4A-86D5-E9CD04F9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FCD1-BBC9-4F5F-A004-BF7A6839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6E590-3D22-4A8D-B1B8-BA826E33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3EB0-22EE-44F6-86BD-77A9F1F1A2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4119-921B-462E-BAAD-B9C4CDFCE7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560"/>
            <a:ext cx="7772400" cy="152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5"/>
                </a:solidFill>
                <a:latin typeface="Arial Black"/>
              </a:rPr>
              <a:t>HBSL 1103 </a:t>
            </a:r>
            <a:br>
              <a:rPr sz="2800"/>
            </a:br>
            <a:r>
              <a:rPr b="1" lang="en-US" sz="2800" spc="-1" strike="noStrike">
                <a:solidFill>
                  <a:srgbClr val="ffff15"/>
                </a:solidFill>
                <a:latin typeface="Arial Black"/>
              </a:rPr>
              <a:t>PENGENALAN PENDIDIKAN KANAK-KANAK MASALAH PEMBELAJARAN</a:t>
            </a:r>
            <a:endParaRPr b="1" lang="en-US" sz="2800" spc="-1" strike="noStrike">
              <a:solidFill>
                <a:srgbClr val="ffffb7"/>
              </a:solidFill>
              <a:latin typeface="Arial Black"/>
            </a:endParaRPr>
          </a:p>
        </p:txBody>
      </p:sp>
      <p:sp>
        <p:nvSpPr>
          <p:cNvPr id="99" name="PlaceHolder 2"/>
          <p:cNvSpPr>
            <a:spLocks noGrp="1"/>
          </p:cNvSpPr>
          <p:nvPr>
            <p:ph type="subTitle"/>
          </p:nvPr>
        </p:nvSpPr>
        <p:spPr>
          <a:xfrm>
            <a:off x="1143000" y="1904760"/>
            <a:ext cx="7315200" cy="43434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1 : Kanak-Kanak Bermasalah  Pembelajaran</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2 : Kanak-Kanak Down Syndrom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3 : Kanak-Kanak Bermasalah Komunikas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4 : Kanak-Kanak Dengan Autism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5 : Kanak-Kanak Terencat Akal</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6 : Masalah Pembelajaran Khusus : Kanak-Kanak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mbam</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7 : Kanak-Kanak dengan Attention Deficit – Hyperactivity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order  (ADHD)</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8 : Masalah Pembelajaran Khusus Palsi Sereberal</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9 : Kanak-Kanak  Disleksia</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k 10 : Masalah Pembelajaran Khusus Kanak-Kanak Pintar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rdas</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5"/>
                </a:solidFill>
                <a:latin typeface="Arial Black"/>
              </a:rPr>
              <a:t>1.4 Prosedur Kemasukan ke program Pendidikan Khas Masalah Pembelajaran</a:t>
            </a:r>
            <a:endParaRPr b="1" lang="en-US" sz="28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edur Kemasuka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Ibu bapa jumpa dokto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aftar kanak-kanak dengan PPD da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panjangkan ke JPN- Unit Pendidika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h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PN akan mengeluarkan nama da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manggil ibu bapa</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oh Belajar -  sek. Rendah 6 th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ek. Men. 5 tahu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blh dilanjutkan 2 tahun lagi di sek.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ndah dan meneng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15"/>
                </a:solidFill>
                <a:latin typeface="Arial Black"/>
              </a:rPr>
              <a:t>1.5 Rancangan Pendidikan Individu (RPI)</a:t>
            </a:r>
            <a:br>
              <a:rPr sz="3200"/>
            </a:br>
            <a:endParaRPr b="1" lang="en-US" sz="32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gi memastikan murid dapat menguasai kamahiran-kemahiran yg diaj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I – satu perjanjian bertulis di antara ibu bapa dengan pihak sekolah tentang keperluan-keperluan murid dan cara untuk dipenuhi.</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I dirangka berdasarkan prestasi sedia ada murid supaya pencapaian murid dapat dilihat dgn jel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5"/>
                </a:solidFill>
                <a:latin typeface="Arial Black"/>
              </a:rPr>
              <a:t>1.6 Kurikulum Pendidikan Khas Bermasalah Pembelajaran</a:t>
            </a:r>
            <a:br>
              <a:rPr sz="4000"/>
            </a:br>
            <a:endParaRPr b="1" lang="en-US" sz="32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bina 3 prinsip:</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sepanjang hay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Bermakna / mengembiraka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Menyeluruh / bersepadu</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rikulum di bahagikan kpd 4 bida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Bidang Pengurusan Kehidupa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Bidang Akademik Berfungs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Bidang Kerohanian dan nilai-nilai murn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Bidang Sosial, Riadah dan Kreativit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5"/>
                </a:solidFill>
                <a:latin typeface="Arial Black"/>
              </a:rPr>
              <a:t>1.7 Pendekatan Pengajaran dan Pembelajaran</a:t>
            </a:r>
            <a:br>
              <a:rPr sz="3200"/>
            </a:br>
            <a:endParaRPr b="1" lang="en-US" sz="32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mp;P Kelas Pendidikan Kh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nalisa Tugas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elajar Melalui Berma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ngajaran Berte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mbelajaran Pengala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mbelajaran Master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ndekatan Kolaboras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5"/>
                </a:solidFill>
                <a:latin typeface="Arial Black"/>
              </a:rPr>
              <a:t>Topik 1 </a:t>
            </a:r>
            <a:br>
              <a:rPr sz="3200"/>
            </a:br>
            <a:r>
              <a:rPr b="1" lang="en-US" sz="3200" spc="-1" strike="noStrike">
                <a:solidFill>
                  <a:srgbClr val="ffff15"/>
                </a:solidFill>
                <a:latin typeface="Arial Black"/>
              </a:rPr>
              <a:t>Kanak-Kanak Bermasalah  Pembelajaran</a:t>
            </a:r>
            <a:endParaRPr b="1" lang="en-US" sz="32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Konsep dan Definisi Masalah Pembelajar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Dasar-Dasar Pendidikan Khas Di Malaysi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Isu-Isu yang berkaitan dengan Pendidika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has Masalah Pembelajar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Prosedur Kemasukan ke program Pendidika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has Masalah Pembelajar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Rancangan Pendidikan Individu (RP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Kurikulum Pendidikan Khas Bermasalah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mbelajar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Pendekatan Pengajaran dan Pembelajar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15"/>
                </a:solidFill>
                <a:latin typeface="Arial Black"/>
              </a:rPr>
              <a:t>Konsep dan Definisi Pendidikan Khas</a:t>
            </a:r>
            <a:endParaRPr b="1" lang="en-US" sz="40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Hallahan dan Kauffman (2006)</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 bentuk pendidikan yang disediakan untuk memenuhi keperluan  kanak-kanak berkeperlu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Gargiulo (2003)</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pengajaran khusus yg direka bentuk bagi memenuhi keperluan pelajar luar  bia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15"/>
                </a:solidFill>
                <a:latin typeface="Arial Black"/>
              </a:rPr>
              <a:t>Konsep dan Definisi Pendidikan Khas</a:t>
            </a:r>
            <a:endParaRPr b="1" lang="en-US" sz="40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Mansor (2005)</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u usaha berterusan untuk menggalakkan perkembangan optima seseorang sebagai seorang yg berkemampuan, berhaluan, berupaya, beriman, berdikari, mampu merancang dan menguruskan kehidupan serta menyedari potensi diri sendiri sebagai seorg individu dan ahli masyarakat yg seimbang dan produktif selaras dengan Falsafah Pendidikan Kebangsaa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tegori Kanak-Kanak Berkeperluan Kha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gikut Gargiuolo M.R.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Terencat akal</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Kurang Upaya Dalam Pembelajaran</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Kecelaruan Emosi atau Tingkah Laku</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Pintar Cerdas dan Berbakat</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Masalah Bahasa dan Pertuturan</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 Masalah Pendengaran</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7. Masalah Penglihatan</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Kecelaruan Spektrum Autisma</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9. Kurang Upaya Fizikal atau Masalah Kesihat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5"/>
                </a:solidFill>
                <a:latin typeface="Arial Black"/>
              </a:rPr>
              <a:t>1.1 Konsep dan Definisi Masalah Pembelajaran</a:t>
            </a:r>
            <a:br>
              <a:rPr sz="3600"/>
            </a:br>
            <a:endParaRPr b="1" lang="en-US" sz="36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5"/>
                </a:solidFill>
                <a:latin typeface="Arial"/>
              </a:rPr>
              <a:t>Jabatan Pendidikan Khas, KP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5"/>
                </a:solidFill>
                <a:latin typeface="Arial"/>
              </a:rPr>
              <a:t>   “ </a:t>
            </a:r>
            <a:r>
              <a:rPr b="0" lang="en-US" sz="3200" spc="-1" strike="noStrike">
                <a:solidFill>
                  <a:srgbClr val="ffff15"/>
                </a:solidFill>
                <a:latin typeface="Arial"/>
              </a:rPr>
              <a:t>Murid bermasalah pembelajaran adalah kanak-kanak yang mempunyai masalah kognitif (kerencatan akal) yang dianggap boleh diajar dan boleh mendapat manfaat pendidikan form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5"/>
                </a:solidFill>
                <a:latin typeface="Arial Black"/>
              </a:rPr>
              <a:t>Kategori Kanak-Kanak Bermasalah Pembelajaran</a:t>
            </a:r>
            <a:endParaRPr b="1" lang="en-US" sz="36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drom Dow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isme ring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eraktif</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encat Akal Minim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urang Upaya dalam pembelajar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urang upaya dalam pembelajaran khusus (Dislek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5"/>
                </a:solidFill>
                <a:latin typeface="Arial Black"/>
              </a:rPr>
              <a:t>1.2 Dasar-Dasar Pendidikan Khas Di Malaysia</a:t>
            </a:r>
            <a:endParaRPr b="1" lang="en-US" sz="32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tunjangi ole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kta Pendidikan 1996</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aturan  Pendidikan Kh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putusan Jawatankuasa Das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watankuasa Perancangan Pendidika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sy. Pengurusan, KP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watankuasa Kurikulum Pus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sy. Pengurusan, Jab. Pendidikan Khas</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ta Pendidikan 1996- Seksyen 40 dan 41</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5"/>
                </a:solidFill>
                <a:latin typeface="Arial Black"/>
              </a:rPr>
              <a:t>1.3 Isu-Isu yang berkaitan dengan Pendidikan  Khas Masalah Pembelajaran</a:t>
            </a:r>
            <a:endParaRPr b="1" lang="en-US" sz="28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adbiran – Kurang menghayati pelaksanaan pendidikan- tidak mematuhi Pekeliling dan tidak berminat dlm P &amp; P</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ru – kurang guru terlatih thn 2000- 70% guru mengajar tidak terlatih- Pendidikan inklusif – kegagalan kerana kurang guru reso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u bapa – tidak memberi kerjasama, memandang serong dengan kanak-kanak kha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laksanaan Perancangan Pendidikan Individu (RPI) – tidak dapat berlaku secara menyeluruh</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ih ramai kanak-kanak Berkeperluan Khas tidak mendapat Pendidikan Formal</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didikan inklusif</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4:20:07Z</dcterms:created>
  <dc:creator>FATIMAH ADAM</dc:creator>
  <dc:description/>
  <dc:language>en-US</dc:language>
  <cp:lastModifiedBy>FATIMAH ADAM</cp:lastModifiedBy>
  <dcterms:modified xsi:type="dcterms:W3CDTF">2007-01-19T14:24:45Z</dcterms:modified>
  <cp:revision>8</cp:revision>
  <dc:subject/>
  <dc:title>HBSL 1103  PENGENALAN PENDIDIKAN KANAK-KANAK MASALAH PEMBELAJARAN</dc:title>
</cp:coreProperties>
</file>