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6DE-3EC9-4214-9F17-04984684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53B-64A9-45BD-8FC2-EB9C45B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6D8-79FF-4A64-9EA6-4105116A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71A-5876-4DC8-84F2-E21E999A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6D94-546A-49C8-823F-79E48D06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ACA-8B54-47AE-8E01-8E78C46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C97-AA8F-474D-8E98-75DAE723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5D34-2D2C-469C-8A24-1A2E9CD9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CD7-B08B-484C-A35A-E3B471D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A7A-1E46-460D-9BF9-B9764F1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3EA-F9A7-4A8E-A2C2-39C93F1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EC0-4767-4CA1-B90F-EC896F9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5006-7B1D-415F-A80F-14876CC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614-20AF-4401-8BA3-853878C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CBDD-95D2-4690-A95F-9DE31D21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E13C-1022-4717-BECA-00FDDD57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29A6-2C70-4E5F-A6E9-79AFFE8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62A-E17B-4C52-B5F6-E1F9DE21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8DA-0E85-418E-A77D-3B47B812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733-B552-4FD7-978A-2F6CCB0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F3D-CE25-4CC1-982D-B61B6E3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AFA-1C0B-40A4-8E3C-DE58E89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836-4026-4763-839B-D973097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C70-5A81-4088-B754-6719B28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032B-AF15-4784-9B23-D0AC4E23ED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994-7AE6-428A-A631-488B1A73E8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PIK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NAK-KANAK DOWN SYNDRO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si dan Konsep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jarah Down Syndr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Jenis-Jenis Down Syndr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iri-Ciri Kanak-Kanak Down Syndr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jian-Ujian Pranatal Untuk Mengesan Kecacat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erkembangan Kanak-Kanak Down Syndr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enempatan Pendidikan Kanak-Kanak Down Syndr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rategi Mengajar Kanak-Kanak Down Syndrom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finisi dan Konsep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ndrome- satu koleksi tanda-tanda atau ciri-cir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wn – nama doktor yg berjaya mengesan dan mengumpul kesemua tanda-tanda dan mencadangkan bahawa tanda-tanda itu berkaitan dengan masalah yg sam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unca- Lebihan kromosom pada pasangan kromoson ke 21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jarah Down Syndro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ermula tahun 1866- Doktor John Langdon Down menerbitkan esei berkenaan sekumpulan kanak-kanak mempunyai ciri-ciri yg sama dan berbeza dgn kanak-kanak lain yg mengalami kerencatan akal. Beliau menamakan mereka sebagai “mongoloid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959, Jerome Lejeune dan Patricia Jacobs telah mengenal pasti puncanya adalah pecahan tiga kromosom yang ke 21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enis-Jenis Down Syndrome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isomi 21 Standard- apabila kromosom 21 yg terlebih di dalam sperma menyebabkan sel-sel yg terhasil mempunyai 47 kromos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isomi 21 Mozek- terjadi apabila seseorg mempunyai campuran sel-sel normal dengan sel-sel trisom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isomi 21 Translokasi- kromoson yg berlebihan berpindah lokasiny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iri-Ciri Kanak-Kanak Down Syndro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nningham (1997) mengkategorikan kpd 3 ciri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Ciri-Ciri fizikal dan kesihat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Ciri-ciri personaliti da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mperam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Ciri-ciri perkembangan 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Ujian-Ujian Pranatal Untuk Mengesan Kecacata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ujuan ujian: utk mengesan sama ada janin yg dikandung berkemungkinan mengalami ketidaknormalan atau kecacat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jian biasa spt amniocentesis, chorionic Villus Biopsy dan Chorionic Villus Sampl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erkembangan Kanak-Kanak Down Syndrom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rbahagi kpd 5 aspek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Perkembangan mo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Perkembangan Perseps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Perkembangan Kogniti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Perkembangan Komunikas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Perkembangan sos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nempatan Pendidikan Kanak-Kanak Down Syndrome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anak-kanak ini dimasukkan ke dalam  Program Khas Masalah Pembelaja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rategi Mengajar Kanak-Kanak Down Syndrome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ktor yang membantu pembelajaran- kesedaran visual dan kemahiran visu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ktor yang menghalang pembelajar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masalah penglihat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masalah pendengar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kemahiran motor halus dan motor kas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masalah pertuturan dan bahas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masalah tumpuan singk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tumpuan berma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tingkah laku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5:11Z</dcterms:created>
  <dc:creator>FATIMAH ADAM</dc:creator>
  <dc:description/>
  <dc:language>en-US</dc:language>
  <cp:lastModifiedBy>FATIMAH ADAM</cp:lastModifiedBy>
  <dcterms:modified xsi:type="dcterms:W3CDTF">2007-01-19T14:29:21Z</dcterms:modified>
  <cp:revision>3</cp:revision>
  <dc:subject/>
  <dc:title>TOPIK 2 KANAK-KANAK DOWN SYNDROME</dc:title>
</cp:coreProperties>
</file>