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B97-72B3-4BB4-855D-B2B8BF3F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EFD-80F3-4C05-A4B0-26AE445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617-6715-4401-9A8A-A81BC116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AB6-CA11-4337-9DF6-167F96FC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ADE-07B1-418C-AF00-D0EFE1F1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19C6-DB89-4A45-8BDA-C7827599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E13-876B-42DA-A8AF-E7EE5352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C797-9D30-4EE5-AC83-84E7D11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6A9-7CBC-48CF-850C-8125D43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BD6-E188-4810-B90D-A8278FF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4FAB-7C99-4CA9-98CE-C9AF34B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849-3CA2-4580-83D2-D9D5097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9D76-6FAE-4C1E-80FF-3B0A0F3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7E6-B48F-49D7-9618-5049C7E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EAD-0972-4861-9734-F200928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BD9E-4DC1-4863-B37C-DD229B5F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E95-9F67-4FCA-83FE-DBEE8D03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A58-E08D-4045-BDE3-EE80CB9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0CB-D8B2-4436-ACFA-1FBDAE2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938-87A0-4461-8AAC-A3CCA620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7AC-6C58-4B29-8F0B-F279D88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F65-AC63-4F60-8A45-6C4B7699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F28-82E7-4567-88D3-7955DBC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458-3266-4FC4-93BF-07E1179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32D-8949-4C7E-92D1-970D1510FA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9A3-0BDF-4B0A-9F9E-9E828488BE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K 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alah Pembelajaran Khusus- Kanak-Kanak Pintar C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si: Kanak-kanak dengan kebole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ek atau kecerdasan yg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bagai definisi berdasarkan aspek-asp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servatif / lib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 atau Pelbagai Dimen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si atau Prest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eativiti Tingg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ncaran fikiran, fleksibiliti, ketulinan dan elabor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tasi Luar Bi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mpunyai ciri-ciri kematangan dan prestasi orang dew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mahiran Metakognisi Tingg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bolehan memfokus kemahiran, memilih maklumat utk menyelesaikan masalah, blh menentukan keutamaan, merancang, mensintesis maklumat, memanjangkan idea dan memantau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kembangan Kanak-Kanak Pintar Cer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njukkan ciri-ciri keluarbiasaan pada umur yg sangat 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eka mempunyai pemikiran dan kemahiran berbahasa yg ting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embangan ini dapat dikesan seawal umur 1 tahun dan semasa prasekol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mahiran Memperolehi Pengetahu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kuasai dengan lebih cepat dari segi menyimpan maklumat dan ingatan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asai kemahiran baru dengan kelajuan luar bi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impan maklumat lebih cekap dan cepat mengingati se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etahuan yg diperolehi boleh diaplikasikan kepada konsep yg abstrak atau kompl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eria Kelayakan Perkhidmatan Pendidikan Khas Bagi Kanak-Kanak Pintar Ce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eria Pene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Pene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poran ibu b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enentuan 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enentuan ber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narai se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ian rujukan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jian kecerd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mbelajaran dan Pengajaran Kanak-Kanak Pintar Cer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hap pencapaian dan pengubahsuaian 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ksanaan Pembelajaran dan Pengajaran Pintar Cerdas – pembelajaran maste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aian Pembelajaran Kanak-Kanak Pintar Cer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i-Ciri Kanak-Kanak Pintar Cer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upayaan pelbag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erosesan makl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bezaan secara kualit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ativ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tasi luar bi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ahiran metakogn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edaran kendiri yang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i-Ciri Kanak-Kanak Pintar Cer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rlang mengurus d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nasi kendiri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umpuan perhatian yang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kus kawalan dalaman yang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dik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ahiran bahasa dan percak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ahiran sosial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ina rasa takut pada usia m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i-Ciri Kanak-Kanak Pintar Cer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hargaan kendiri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cari kesempurn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lalu sens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ah kece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at ma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hap IQ yang Tingg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p ujian psikometrik menerima IQ 130 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nukkan kemahiran yang luar bi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komponen intelek: kognitif, afektif, fizikal dan intuitif(gerak h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ua 4 komponen di atas mesti berfungsi secara harmoni utk cemerl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upayaan Pelbag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ibatkan 2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Model Thurnstone- kecerdasan meliputi 7 keupayaan berasin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lancaran nom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fahaman l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lancaran perka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sualisasi ru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gatan perka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lajuan tangg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enak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upayaan Pelbag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eori Kecerdasan Pelbagai oleh Gard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bah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matema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ru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mu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kinestetik b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inter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intra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eksis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cerdasan natu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merosesan Maklu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k-kanak pintar cerdas mempunyai kebolehan secara sup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ngetahuan dan kebolehan ut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gat maklumat dari ingatan y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sim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nggunakan kemahiran dan strate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elesaikan masal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mahiran meta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bezaan Secara Kualitati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k-kanak pintar cerdas dapat memproses meklumat dengan tepat sebab transmisi antara sel-sel di dlm otak lebih cek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03:44Z</dcterms:created>
  <dc:creator>FATIMAH ADAM</dc:creator>
  <dc:description/>
  <dc:language>en-US</dc:language>
  <cp:lastModifiedBy>FATIMAH ADAM</cp:lastModifiedBy>
  <dcterms:modified xsi:type="dcterms:W3CDTF">2006-11-04T00:58:04Z</dcterms:modified>
  <cp:revision>8</cp:revision>
  <dc:subject/>
  <dc:title>TOPIK 10 Masalah Pembelajaran Khusus- Kanak-Kanak Pintar Cerdas</dc:title>
</cp:coreProperties>
</file>