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09CD-BE79-4559-9264-97FE60980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1DA0-A09A-4037-9AC7-354F9142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4BE0-2D36-43B8-B39D-0F11C7808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AAD8-AD6B-4853-957D-94127A21F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A55CA-A5DA-4448-B844-5E278883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6E24B-36DC-4A28-98E4-5E25C7CC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496B8-513B-40B2-8FDC-7458482D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B108A-A336-4E13-8F1F-9723E5A0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97D90-0E26-4E16-8C1A-92C71BB8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5B8F9-4A33-41BE-A192-110D5646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61EB8-FE43-40EE-98F4-053478CA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8800-D651-46D4-B80B-DC0790D8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EC875-9522-4F17-B2A4-74DEFD67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D083E-1B24-4297-93CD-8E661517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9597E-CBBA-4C77-8341-AC49C8F2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03C3A-1EE6-41C3-9CD4-9720036F6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10ED8-5D18-464B-9FB8-24388A682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B20D-CCEC-4439-AF1A-95FCE27D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E408-91BA-4D1A-BAA0-5FCDE1AB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016A-3D60-4618-818F-F178BD5D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69E8-466D-44B4-AB66-F4C71FED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DCE7-323C-4ED9-BD01-427FE4C2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2BF9-F293-4507-8947-6E890C3A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6E20-9C79-4AC6-9498-C0FE6759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7C42-4EA0-4821-9782-038F8257EA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852C-7FAC-4E53-A89E-62A90E7BB1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80880" y="6091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OPIK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KANAK-KANAK TERENCAT AK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FINISI TERENCAT AK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JARAH RINGKAS PENDIDIKAN KANAK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ANAK  TERENCAT AK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GKELASAN TERENCAT AK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RI-CIRI INDIVIDU TERENCAT AK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NCA TERENCAT AK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EMPATAN DAN PENDIDIKAN KANAK-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ANAK TERENCAT AK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LAKSANAAN PEMBELAJARAN KANAK-KANA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ENCAT AK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KIAN, INSYAALLAH JUMPA LAG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DEFINISI TERENCAT AKAL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ka Association On Mental Retardation (AA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“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rencatan Mental ialah suatu kurang upaya yang bercirikan fungsiaan intelektual dan tingkah laku adaptif yang terhad. Kerencatan mental lazimnya berpunca sebelum umur 18 tahun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American Association On Mental Retardation Definition (AAMR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tal retardation is a disability characterized by significant limitation both in intellectual functioning and in adaptive bahavior as expressed in conceptual, social, and practical adaptive skills. This disability originates before age eighteen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JARAH RINGKAS PENDIDIKAN KANAK-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KANAK  TERENCAT AKAL</a:t>
            </a:r>
            <a:br>
              <a:rPr sz="4000"/>
            </a:b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urun ke 18 – Itard – menjadi Victor dikenali “Wild Boy” – mendapat kejayaan sedikit – Victor tidak boleh bercaka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guin – percaya terencat akal disebabkan oleh sensasi (apa yg didengar, dilihat dan dirasa) tidak sampai ke ot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urun ke 20 – Maria Montessori – kerencatan akal disebabkan oleh masalah pendidikan bukannya masalah perubat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ENGKELASAN TERENCAT AKAL</a:t>
            </a:r>
            <a:br>
              <a:rPr sz="3200"/>
            </a:b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pektif Etiolog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isebabkan oleh penyakit atau kecacatan biologikal. Cth. Rubella, penyakit kelamin d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kurangan Intel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itentukan melalui ujian I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pektif Pendidik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ibuat berdasarkan jangkaan pencapaian dalam pendidikan iaitu terencat akal boleh dididik dan terencat akal boleh dilati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pektif Tahap Sokong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Sama ada di  rumah, sekolah, tempat kerja atau tempat-tempat aw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IRI-CIRI INDIVIDU TERENCAT AKAL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RI KOGNITI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asalah Ingatan- kerap terlu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asalah membuat generalisasi – dalam akademik, tingkah laku dan interaksi sos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RI AKADEM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Pencapaian adalah rend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RI SOS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Kurang diterima oleh rakan sebaya menyebabkan mereka berkelakuan tidak matang dan tidak dapat menyesuaikan diri dgn rakan sebay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CIRI-CIRI INDIVIDU TERENCAT AKAL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RI TINGKAH LAKU TAMBAH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pt. Mahukan ganjaran, menarik rambut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gigit atau suka mencederakan dir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RI EMO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erlukan perhatian akibat kesunyian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murungan dan kemahiran sos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RI FIZIKAL DAN KESIHAT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pt. Sindrom Down, jantung belubang d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u-par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UNCA TERENCAT AKAL</a:t>
            </a:r>
            <a:br>
              <a:rPr sz="3200"/>
            </a:b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ktor Prena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Down Syndrome, Fragile X Syndrome d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ktol Perina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Kelahiran tidak cukup bulan, proses kelahiran lama, kecederaan semasa kelahiran, berbelit tali pusat, akibat forse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ktor Postna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kibat kemalangan atau penyakit semasa kanak-kan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ENEMPATAN DAN PENDIDIKAN KANAK- 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KANAK TERENCAT AKAL</a:t>
            </a:r>
            <a:br>
              <a:rPr sz="3200"/>
            </a:b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 untuk bayi dan prasekol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Model Home-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rogram center-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rogram kombinasi home-center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 untuk kanak-kanak dan rema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rogram kelas bia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rogram kelas k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rogram sekolah k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rogram-Program l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ELAKSANAAN PEMBELAJARAN KANAK-KANAK TERENCAT AKAL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rjumpa doktor perubat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tempatkan ke dalam kelas PKB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mempunyai IQ yg rend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pengajaran hendaklah secara individu dengan pelbagai sensori merek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urikulum sama dengan murid lain PKB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rid disediakan RPI untuk penilaian prestasi mere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2T13:04:52Z</dcterms:created>
  <dc:creator>FATIMAH ADAM</dc:creator>
  <dc:description/>
  <dc:language>en-US</dc:language>
  <cp:lastModifiedBy>FATIMAH ADAM</cp:lastModifiedBy>
  <dcterms:modified xsi:type="dcterms:W3CDTF">2007-02-24T04:41:51Z</dcterms:modified>
  <cp:revision>5</cp:revision>
  <dc:subject/>
  <dc:title> </dc:title>
</cp:coreProperties>
</file>