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1D8-B6D9-4D06-AD6C-4DD2BBE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079-3899-4D74-8E2C-3A8BE89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5E8-9443-4034-8658-D21B0265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B5D-D616-4CAE-A57C-7B29FBE1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BD02-582D-455F-A9D4-652363BF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5A09-CCF0-4FAB-8A9D-58C51C2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95A8-3350-4690-AE87-25A866D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AD14-A9D2-4DBB-9213-AEF96351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E6F8-DBED-416F-8DEF-3A92059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257-E305-4695-81C1-66CB6675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416-3163-4AA9-AEFB-CC00E3B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A5E-15FB-4C16-B082-3875B63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27C-3B29-4775-827B-8EF90DD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C5F8-BED0-4C7A-9B19-C2C97D7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2BAB-C750-48E2-BDA3-63CC62EB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0DCE-6DA7-4917-9C36-2D8164F2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E9AA-B37A-40F6-B276-4A433652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9C1-3878-435D-ADC9-5A0D853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28F-02E6-4AEA-B273-4196B59C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230-EBBE-4E35-8460-DCC1120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AE1-8C5B-4259-8223-8A2EC482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9B4-396B-4FE0-A5FF-9B07A4F5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F0-EF00-494F-B055-F259936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8A0-8863-48BE-9917-57C9DAD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D589-D39B-48D9-AB3C-7F635ADC4A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2AB-9359-4DBB-902F-B9D0038A61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PIK 9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anak-Kanak Disleks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isi Dislek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bungan perkatan Greek “dys”- kesukaran dan “lexia” – perkata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sukaran dengan perkataan bertulis atau kelemahan atau kesukaran membaca yang dialami kanak-kana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urut Sanders dan Myers (1996) Kanak-kanak mempunyai kesukaran khusus dalam bacaan, menulis dan menge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esan Disleksia Terhadap Pembelajar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san Utama – membaca, mengeja, menulis, tulisan, nomb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san Sampingan- pengurusan, penumpuan, bahasa, ingatan, emosi/tingkah la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ndekatan Multi Senso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dekatan yg mengabungkan pelbagai deria spt. Auditori, visual, oral dan kinestet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bungan pelbagai deria dijalankan serentak- penggunaan huruf yg dibuat dari kayu dll, pengunaan pasir atau garam dengan menggunakan dula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si Berdasarkan Teo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ori Kepincang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dapat murid-murid yg mempunyai kepintaran yang normal tetapi gagal mencapai prestasi yg memuaskan dalam pembelajaran mere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ori Pengasing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urut Persatuan Antarabangsa Disleksi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idak mempunyai kelemahan intektu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Bukannya murid yg mal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idak mengalami masalah penglihatan  ata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ndenga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Telah menerima pengajaran yg memuask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nca Dislek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Keturunan / Genetik – darjah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terukan disleksia adalah berbe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Biologi – kesukaran semasa lahir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dak cukup bulan, kekuranga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ksigen semasa kelahir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rososakan otak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Kematangan – Perbezaan dal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kembangan sistem saraf manusia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gikut jantin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ori Dislek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Disleksia Perolehan dan Perkembang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sleksia Perolehan- Kesan dari kerosakan otak spt. Kecederaan atau ketumbuhan dlm otak sejak lahi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sleksia Perkembangan- Kanak-kanak yg membaca kurang baik berbanding dgn kanak-kanak lain- berpunca dari kerosakan tisu-tisu tertentu kerana jangkitan penyakit atau ketidakseimbangan kimia dlm bad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ori Dislek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Disleksia Visual, Auditori dan Visual-Audito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sleksia Visual(pandang)- kesukaran mengingat dan mengenal huru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sleksia Auditori (dengar)- kesukaran mengingat bunyi huruf, memahami buny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sleksia Visual-Auditori – ketidakupayaan utk mengkoordinasikan tangan dan otot-otot lengan bg menghasilkan tulisan yg ba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ri-Ciri Dislek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hasa dan Pertutu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ru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mahiran Motor- motor halus dan kas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eraliti Bersilang – kanak-kanak ki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ri-Ciri Kanak-Kanak Dislek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salah Fizikal / Pengurusan Diri / Sos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salah Dalam Pembelaja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salah  Semasa Memba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a Mengenal Pasti Kanak-Kanak Disleks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edah ujian dan senarai semak- ujian IQ dan ujian bac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edah Diagnost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jian Mengesan Masalah Penglihat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nis ujian-ujian yg sesuai s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Standard and specialist aye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rlen syndrome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tuitive Colorime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Cerium Overlays d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3:50:07Z</dcterms:created>
  <dc:creator>NEC Computers International</dc:creator>
  <dc:description/>
  <dc:language>en-US</dc:language>
  <cp:lastModifiedBy>FATIMAH ADAM</cp:lastModifiedBy>
  <dcterms:modified xsi:type="dcterms:W3CDTF">2006-11-03T14:02:19Z</dcterms:modified>
  <cp:revision>5</cp:revision>
  <dc:subject/>
  <dc:title>TINDAKAN SEMASA KECEMASAN</dc:title>
</cp:coreProperties>
</file>