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68B-A52D-4B6D-8C7C-C93F0910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7E9-0349-4AA2-8906-844C899D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414-5C4C-4B29-9B1E-3E5DCEAC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86C-BE89-4672-9FF7-F63E93FE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C3A6F-7BE0-409F-80F4-BC441C7F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F3A7E-D407-4CCD-B6D8-21FCB875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274FC-7C73-479D-B219-A850C858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E0C92-512F-48E3-9B60-975A8F0D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834EE-F88C-437C-937B-6C425407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78419-4B24-410C-B233-51563DD0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B0DFE-1DE4-4C13-8046-F8AAFAE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302-A4DA-4995-B72E-538548A8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4241F-0312-47B9-A441-44FECD64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698D5-8795-49C3-9F95-C37855D4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A2C1E-4D64-4AA3-965E-C54967D9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C905F-426F-4BF7-B1D0-77391754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06B11-125B-4EC0-ACC9-8130E8DE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208-9F4B-4966-A18D-858C1608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7DE-5D40-4020-AF29-9A779F61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1F0-4A5E-4FC7-93D8-8D9C458B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64F-346A-4FFC-A7F5-8F5EBC0F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7D7-235A-48DD-9163-FA89CA20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20A-7EC0-4005-B714-995D4C32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722-CE23-41D4-BAE7-C06ACB65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D732-C580-4C27-9689-5E42E01CD1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9DDA-5EFB-42F2-B430-A09AAF480D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TOPIK 4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KANAK-KANAK DENGAN ATTENTION DEFICIT-HYPERACTIVITY DISORDER (ADHD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sep dan defini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i-ciri AD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nca AD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iteria penentuan AD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kah mengenal pa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perluan pendidi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ONSEP DAN DEFINIS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a kategor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urang tumpuan- tidak memberi tumpuan. Mereka meninggalkan bahagian mustahak tugasan yg diberikan, kerap mengelamun dlm kelas, tidak teratur dan kerap pelu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Hiperaktif impulsif – melakukan sesuatu tanpa berfikir- kerap mengetuk-getuk meja dan menggoyang-goyang kerusi, selalu berlari dan banyak bercak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abungan – Mempunyai dua ciri di a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IRI-CIRI KANAK-KANAK DENGAN  ADH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gnitif – Ingatan ker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ertuturan arah kendi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Kawalan emosi dan motiv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mbentuk se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adem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sial dan emo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enghargaan kendi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Keupayaan bersos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gkah la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ngkah laku agres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iri-ciri tingkah laku l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ujud bersama masalah l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UNCA TERJADINYA ADH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KTOR FISIOLOGIK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aktor keturun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erbezaan fungsi ot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aktor Bioki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KTOR PERSEKITA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ersekita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Kecederaan ot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RITERIA PENENTUAN ADH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memberi tump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pera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ulsitiv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AGAIMANA ADHD DIKENAL PAST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jukan aw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ila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enilaian peruba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jian pencapaian berteru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enilaian ibu ba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enilaian guru dan sekol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engenal pasti ADHD atau pintar cer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KEPERLUAN PENDIDIKAN KANAK-KANAK DENGAN ADHD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U BA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R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KONGAN PERSEKITA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SI TINGKAH LA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SI PENGAJA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RIKUL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33:34Z</dcterms:created>
  <dc:creator>FATIMAH ADAM</dc:creator>
  <dc:description/>
  <dc:language>en-US</dc:language>
  <cp:lastModifiedBy>FATIMAH ADAM</cp:lastModifiedBy>
  <dcterms:modified xsi:type="dcterms:W3CDTF">2006-10-06T14:25:52Z</dcterms:modified>
  <cp:revision>3</cp:revision>
  <dc:subject/>
  <dc:title>TOPIK 4 KANAK-KANAK DENGAN ATTENTION DEFICIT-HYPERACTIVITY DISORDER (ADHD)</dc:title>
</cp:coreProperties>
</file>